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2C45-DED2-4841-8AD4-311E6A15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670-8BF1-4B68-BB90-154BCC19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08D4-D31E-4D44-88B8-5E00397F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473-9300-45FF-A322-99ACA4A1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F148-5BD5-47A4-B8D2-0E20AE471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E5B-68FB-41C0-9691-E51297C4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05AB-072E-4C8B-BCF8-40168763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38DC-C6FF-479A-BF34-8D7BE7F5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5792C-5A70-4760-A528-3C23C520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9A82-840E-4428-86B3-924AC835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7C60-0C18-4620-BDC7-BF60B931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8ACF-01B7-4BDA-ABD5-4054871B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0E46-9FA7-471B-874F-9ECCA55A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21F0-AF01-484F-92B0-9A8A72C4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B0DC-EC5D-444A-9A30-49062B1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2DAB-94CC-448A-BF91-4110F43B5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79AE-B66D-442E-8C9C-DD70562C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DA77-962C-42DD-B145-368E4785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7C96B-46D7-4A84-AD1A-40F51047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CF8F8-DE8C-430F-BFD1-56564E4D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05663-701C-4DEA-9FDD-EBE4DD94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D23BA-E748-4B43-A2A6-C8512B623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A02D-34B5-431A-8AB2-49A21767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1128D-2720-4030-9FEC-E992D2A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DCD3-6B10-4CD4-B1E3-ECA702C7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5D9E2-CBB0-4563-8F20-9FA5B393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6F03C-6675-47F3-A9B0-B5724D9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F92A0-4036-4488-BD16-401BFE9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8DA3D-1469-4FBA-B7E3-479DE743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9062D-C764-490A-AE13-AF8C948D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A08B4-0F4E-4D59-9662-6EA9209A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B7CD-6562-4EF2-89FB-FE8EE789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B0E05-89A9-4813-B55F-288FF96D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C3D-B9A4-4A5E-A41D-3EAEEF70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2B84-8C23-4EEA-A421-7E747B99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E0352-3C2D-41DD-9D99-D5D43AE7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C9DA5-F09C-446D-A66B-B6313868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BA720-B672-43F6-AFA8-00CA0F54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46974-71C5-40DB-A9BC-856B2A0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CE3D9-2761-4C7B-BCC8-7A6DFE47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30FB5-D68B-458C-955A-BE17B999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4E885-A1A2-42D7-A472-93FE1DC9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D807-4E08-49BE-98EE-62DE8EA68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184F-4F89-4FA1-8C41-B55F36197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7648-8B9B-468A-B730-6067F352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C5BAF-1B19-47B6-AC2D-D85CA014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C11D2-A4A9-427C-B899-26FE655E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5CBAE-F874-47BE-BEAD-28F01F35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A4CB2-A5FE-422B-8AA0-906DF3BF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05B0-3CAC-4AC3-AD43-B565A8DD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BB133-C061-4EA0-95AD-FE06C1FA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1419-CEAE-4D0D-B954-F3D66841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7D5BA-6CE1-4097-914E-B6E2C86C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95919-EE3A-4599-BF6F-3C87E4C7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1BF8B-BAC7-4284-B520-D4F9E694C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336-E888-48DE-9BEB-CBD2451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7738-0165-40E2-ACE6-0C6DC7DD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B3CCD-D1BF-423A-9CAF-37B475C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F93BC-7F14-4F06-B2E8-6C0FEFA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B3FBA-CC59-41A9-B6EB-A778EAF2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7E4C5-1B77-4542-BC3D-0CF7386B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6FEE3-A48A-413E-BB3E-968F134B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A5BB61-17E3-4361-9F9F-88DE3223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7265-439A-4A2B-9C2B-29881BE6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DC2A3-4191-45D2-82C2-2BEC0C0A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1A7F0-83B2-44D9-A70D-C813A58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CC8-F6C0-45A2-B2F5-CE53B593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DB3DF-0844-47A1-86D0-BDB1EA55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49D95-AF23-446B-B77B-2DF6B612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6264C-FF4B-4E12-B6E8-472E3330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EF8E6-0898-4593-A3E4-83B2F9F9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BE96A-0B02-4CAF-9856-E9F7391C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D2CE3-B6B0-40BF-BA14-A966788E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506C1-AAB6-4487-880C-BBE08549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3B995-043B-45C8-8F5C-0B90F229F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90248-1D0B-4680-889E-3C9D7BA0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F8B7C-716B-4D9F-8529-F01EBDA9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089-BA48-4478-853A-A351A513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2E7E3-4B3A-4DEF-A434-EEB2DA54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47D2B-CDD5-4041-BBC9-AE792BB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590E4-7457-40DE-8715-5C7CAD9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52B4B-EF82-4F5D-8A91-6779BAC4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69DA7-5CE1-436B-B532-4FFC9973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04F7-BBA6-4A28-945B-A3326B7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556D-B893-451D-BF98-6E3AEC5FDCDC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A400-465F-4E9E-B7CF-F77A2FAF51C7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46C8-D108-409D-9970-FDA931CF76F9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112C-5EC8-4037-BDEB-35DFC92260F7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6F99-8057-4E01-AA61-EF31A3FDD8E6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24FB8-C28C-4480-B824-D30AFB604FE6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ce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7D0E4-E995-4EDA-93E1-266A78B11D68}" type="slidenum">
              <a:rPr b="0" lang="ru-RU" sz="1200" spc="-1" strike="noStrike">
                <a:solidFill>
                  <a:srgbClr val="e0ce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2714760"/>
            <a:ext cx="7407360" cy="14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Коррекционно –развивающее занятие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для детей старшего дошкольного и младшего школьного возраста 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240" y="3929040"/>
            <a:ext cx="72723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2c3340"/>
                </a:solidFill>
                <a:uFillTx/>
                <a:latin typeface="Corbel"/>
              </a:rPr>
              <a:t>Разработала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  </a:t>
            </a: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Педагог – психолог МБОУ УСОШ №1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г. Удомли Наумова Г.Н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 </a:t>
            </a:r>
            <a:r>
              <a:rPr b="1" lang="ru-RU" sz="1600" spc="-1" strike="noStrike" u="sng">
                <a:solidFill>
                  <a:srgbClr val="2c3340"/>
                </a:solidFill>
                <a:uFillTx/>
                <a:latin typeface="Corbel"/>
              </a:rPr>
              <a:t>Подготовили и провели: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учителя начальных классов МБОУ УСОШ №1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г. Удомли Гусева В.А, Родионова О.А,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педагог – психолог МБОУ УСОШ №1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c3340"/>
                </a:solidFill>
                <a:latin typeface="Corbel"/>
              </a:rPr>
              <a:t>Наумова Г.Н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Рефлексия, итог занятия, ритуал прощания.</a:t>
            </a: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pic>
        <p:nvPicPr>
          <p:cNvPr id="350" name="Picture 2" descr="E:\занятие\фото-стенды,рисунки 042.jpg"/>
          <p:cNvPicPr/>
          <p:nvPr/>
        </p:nvPicPr>
        <p:blipFill>
          <a:blip r:embed="rId1"/>
          <a:stretch/>
        </p:blipFill>
        <p:spPr>
          <a:xfrm>
            <a:off x="500040" y="1928880"/>
            <a:ext cx="4038480" cy="3500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E:\занятие\фото-стенды,рисунки 043.jpg"/>
          <p:cNvPicPr/>
          <p:nvPr/>
        </p:nvPicPr>
        <p:blipFill>
          <a:blip r:embed="rId2"/>
          <a:stretch/>
        </p:blipFill>
        <p:spPr>
          <a:xfrm>
            <a:off x="4648320" y="1928880"/>
            <a:ext cx="4038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4" name="Picture 2" descr="C:\Documents and Settings\Психолог\Мои документы\Мои рисунки\карлсон.jpg"/>
          <p:cNvPicPr/>
          <p:nvPr/>
        </p:nvPicPr>
        <p:blipFill>
          <a:blip r:embed="rId2"/>
          <a:stretch/>
        </p:blipFill>
        <p:spPr>
          <a:xfrm>
            <a:off x="4143240" y="3714840"/>
            <a:ext cx="1857600" cy="1785960"/>
          </a:xfrm>
          <a:prstGeom prst="rect">
            <a:avLst/>
          </a:prstGeom>
          <a:ln w="0">
            <a:noFill/>
          </a:ln>
        </p:spPr>
      </p:pic>
      <p:pic>
        <p:nvPicPr>
          <p:cNvPr id="355" name="Прямоугольник 4" descr=""/>
          <p:cNvPicPr/>
          <p:nvPr/>
        </p:nvPicPr>
        <p:blipFill>
          <a:blip r:embed="rId3"/>
          <a:stretch/>
        </p:blipFill>
        <p:spPr>
          <a:xfrm>
            <a:off x="1042920" y="1731960"/>
            <a:ext cx="84423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43000" y="185724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 u="sng">
                <a:solidFill>
                  <a:srgbClr val="00b050"/>
                </a:solidFill>
                <a:uFillTx/>
                <a:latin typeface="Corbel"/>
              </a:rPr>
              <a:t>Тема:</a:t>
            </a:r>
            <a:r>
              <a:rPr b="1" lang="ru-RU" sz="5400" spc="-1" strike="noStrike">
                <a:solidFill>
                  <a:srgbClr val="00b050"/>
                </a:solidFill>
                <a:latin typeface="Corbel"/>
              </a:rPr>
              <a:t> </a:t>
            </a:r>
            <a:br>
              <a:rPr sz="5400"/>
            </a:br>
            <a:r>
              <a:rPr b="1" lang="ru-RU" sz="6000" spc="-1" strike="noStrike">
                <a:solidFill>
                  <a:srgbClr val="00b050"/>
                </a:solidFill>
                <a:latin typeface="Corbel"/>
              </a:rPr>
              <a:t>«Мы и наши эмоции»</a:t>
            </a:r>
            <a:br>
              <a:rPr sz="6000"/>
            </a:br>
            <a:endParaRPr b="0" lang="en-US" sz="60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285920" y="421488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c3340"/>
                </a:solidFill>
                <a:latin typeface="Corbel"/>
              </a:rPr>
              <a:t>Цель:</a:t>
            </a:r>
            <a:r>
              <a:rPr b="0" lang="ru-RU" sz="2600" spc="-1" strike="noStrike">
                <a:solidFill>
                  <a:srgbClr val="2c3340"/>
                </a:solidFill>
                <a:latin typeface="Corbel"/>
              </a:rPr>
              <a:t> Развитие эмпатии, умения сопереживать, способности узнавать и понимать разные эмоциональные состояния, сплочение детей. Коррекция страхов сказочных персонажей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Приветствие «Круг дружбы». 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42960" y="1600200"/>
            <a:ext cx="328608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здание добро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елательной атмосферы, сплочение де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2" descr="E:\занятие\фото-стенды,рисунки 001.jpg"/>
          <p:cNvPicPr/>
          <p:nvPr/>
        </p:nvPicPr>
        <p:blipFill>
          <a:blip r:embed="rId1"/>
          <a:stretch/>
        </p:blipFill>
        <p:spPr>
          <a:xfrm>
            <a:off x="3857760" y="1571760"/>
            <a:ext cx="52862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Упражнение «Мимика в рисунках».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3471840" cy="31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т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умен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спознава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эмоциона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стоя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Picture 2" descr="E:\занятие\фото-стенды,рисунки 004.jpg"/>
          <p:cNvPicPr/>
          <p:nvPr/>
        </p:nvPicPr>
        <p:blipFill>
          <a:blip r:embed="rId1"/>
          <a:stretch/>
        </p:blipFill>
        <p:spPr>
          <a:xfrm>
            <a:off x="5072040" y="928800"/>
            <a:ext cx="3614760" cy="3000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E:\занятие\фото-стенды,рисунки 005.jpg"/>
          <p:cNvPicPr/>
          <p:nvPr/>
        </p:nvPicPr>
        <p:blipFill>
          <a:blip r:embed="rId2"/>
          <a:stretch/>
        </p:blipFill>
        <p:spPr>
          <a:xfrm>
            <a:off x="3571920" y="4000680"/>
            <a:ext cx="40593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Упражнение «Продолжи фразу».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600200"/>
            <a:ext cx="354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активизация личного опыта детей, развитие умения описывать свои эмоциональные состоя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2" descr="E:\занятие\фото-стенды,рисунки 002.jpg"/>
          <p:cNvPicPr/>
          <p:nvPr/>
        </p:nvPicPr>
        <p:blipFill>
          <a:blip r:embed="rId1"/>
          <a:stretch/>
        </p:blipFill>
        <p:spPr>
          <a:xfrm>
            <a:off x="4000680" y="1428840"/>
            <a:ext cx="500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Упражнение «Злая Баба Яга»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85480" y="856800"/>
            <a:ext cx="371484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коррекция страхов сказочных персонажей, отработка умения распознавать эмоциональное состояние и настроения, которое оно символизирует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2" descr="E:\занятие\фото-стенды,рисунки 008.jpg"/>
          <p:cNvPicPr/>
          <p:nvPr/>
        </p:nvPicPr>
        <p:blipFill>
          <a:blip r:embed="rId1"/>
          <a:stretch/>
        </p:blipFill>
        <p:spPr>
          <a:xfrm>
            <a:off x="4643280" y="857160"/>
            <a:ext cx="4286520" cy="32148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E:\занятие\фото-стенды,рисунки 011.jpg"/>
          <p:cNvPicPr/>
          <p:nvPr/>
        </p:nvPicPr>
        <p:blipFill>
          <a:blip r:embed="rId2"/>
          <a:stretch/>
        </p:blipFill>
        <p:spPr>
          <a:xfrm>
            <a:off x="3714840" y="4000680"/>
            <a:ext cx="4429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Самомассаж.  Упражнение «Кольца, браслеты и серьги».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28760" y="1571760"/>
            <a:ext cx="371448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снятие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сихо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эмоционального напряжения, настрой детей на дальнейшее сотрудничество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-24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8" name="Picture 2" descr="E:\занятие\фото-стенды,рисунки 020.jpg"/>
          <p:cNvPicPr/>
          <p:nvPr/>
        </p:nvPicPr>
        <p:blipFill>
          <a:blip r:embed="rId1"/>
          <a:stretch/>
        </p:blipFill>
        <p:spPr>
          <a:xfrm>
            <a:off x="3357720" y="4000680"/>
            <a:ext cx="4038480" cy="28573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E:\занятие\фото-стенды,рисунки 019.jpg"/>
          <p:cNvPicPr/>
          <p:nvPr/>
        </p:nvPicPr>
        <p:blipFill>
          <a:blip r:embed="rId2"/>
          <a:stretch/>
        </p:blipFill>
        <p:spPr>
          <a:xfrm>
            <a:off x="5072040" y="1071720"/>
            <a:ext cx="385776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Упражнение «Волшебная палочка».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развитие творческих способнос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2" name="Picture 2" descr="E:\занятие\фото-стенды,рисунки 023.jpg"/>
          <p:cNvPicPr/>
          <p:nvPr/>
        </p:nvPicPr>
        <p:blipFill>
          <a:blip r:embed="rId1"/>
          <a:stretch/>
        </p:blipFill>
        <p:spPr>
          <a:xfrm>
            <a:off x="4643280" y="500040"/>
            <a:ext cx="4286520" cy="30002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E:\занятие\фото-стенды,рисунки 025.jpg"/>
          <p:cNvPicPr/>
          <p:nvPr/>
        </p:nvPicPr>
        <p:blipFill>
          <a:blip r:embed="rId2"/>
          <a:stretch/>
        </p:blipFill>
        <p:spPr>
          <a:xfrm>
            <a:off x="500040" y="3643200"/>
            <a:ext cx="4286160" cy="32148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E:\занятие\фото-стенды,рисунки 029.jpg"/>
          <p:cNvPicPr/>
          <p:nvPr/>
        </p:nvPicPr>
        <p:blipFill>
          <a:blip r:embed="rId3"/>
          <a:stretch/>
        </p:blipFill>
        <p:spPr>
          <a:xfrm>
            <a:off x="5072040" y="3643200"/>
            <a:ext cx="3929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45e70"/>
                </a:solidFill>
                <a:latin typeface="Corbel"/>
              </a:rPr>
              <a:t>Пожелания Бабе Яге</a:t>
            </a:r>
            <a:br>
              <a:rPr sz="3900"/>
            </a:br>
            <a:endParaRPr b="0" lang="en-US" sz="3900" spc="-1" strike="noStrike">
              <a:solidFill>
                <a:srgbClr val="545e70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85880" y="1071720"/>
            <a:ext cx="3657600" cy="45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Цель: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витие желания и умения сопереживать, оказывать поддержку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2" descr="E:\занятие\фото-стенды,рисунки 036.jpg"/>
          <p:cNvPicPr/>
          <p:nvPr/>
        </p:nvPicPr>
        <p:blipFill>
          <a:blip r:embed="rId1"/>
          <a:stretch/>
        </p:blipFill>
        <p:spPr>
          <a:xfrm>
            <a:off x="4714920" y="7858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3" descr="E:\занятие\фото-стенды,рисунки 039.jpg"/>
          <p:cNvPicPr/>
          <p:nvPr/>
        </p:nvPicPr>
        <p:blipFill>
          <a:blip r:embed="rId2"/>
          <a:stretch/>
        </p:blipFill>
        <p:spPr>
          <a:xfrm>
            <a:off x="1000080" y="342900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3:19:53Z</dcterms:created>
  <dc:creator>XTreme</dc:creator>
  <dc:description/>
  <dc:language>en-US</dc:language>
  <cp:lastModifiedBy>Administrator</cp:lastModifiedBy>
  <dcterms:modified xsi:type="dcterms:W3CDTF">2011-12-02T16:37:32Z</dcterms:modified>
  <cp:revision>10</cp:revision>
  <dc:subject/>
  <dc:title>Конспект коррекционно – развивающего занятия для детей старшего дошкольного и младшего школьного возраста  </dc:title>
</cp:coreProperties>
</file>