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9AA-A905-471B-B96C-54FD347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AB1-2B1B-4644-88B0-B772101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966-197D-4064-B012-326DF71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9A0-2434-4EC9-B2C2-C645592C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564-852E-4562-8CDC-7C07D08E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DAFA-D70F-443F-9DEB-FFD2DC3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4FD4-0750-4DF2-87DF-2038723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98F-7879-4CF4-BEA4-78BCC86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36C1-769B-42DF-BA18-BE4405D9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57A0-CC09-403A-A32E-5BDC30E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D60A-F48F-438B-AD0A-3A5A683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F4B-A4D7-48D7-87EB-04B9F82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416B-5147-45EE-8436-2DF39FD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C46A-D93B-4DCC-AEDC-C2D7E30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6C8-758B-423D-8C9D-7E56973F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9E6-BFC1-418B-802A-30C58416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3B36-5D40-4671-915B-7BDE53A7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59C-F3AE-4465-B47B-CF1CA26D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8D8-AB1D-4742-920C-07607666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2A0-DDFD-4B44-9A5D-333E9B2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195-1BD5-45D1-A19A-60297B9C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2B0-66CC-4CA0-978D-CB05ED2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2BC-7DEA-49BE-BA07-E8F4CC9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517-14D8-4AF6-ADC5-576E154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6306-F7B3-4D3A-A803-604AFDC3D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579-ABAC-4B6F-88A7-D38566146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atalog.iot.ru/" TargetMode="External"/><Relationship Id="rId2" Type="http://schemas.openxmlformats.org/officeDocument/2006/relationships/hyperlink" Target="http://edu-top.ru/katalog/?cat=1" TargetMode="External"/><Relationship Id="rId3" Type="http://schemas.openxmlformats.org/officeDocument/2006/relationships/hyperlink" Target="http://edu-top.ru/katalog/?cat=2" TargetMode="External"/><Relationship Id="rId4" Type="http://schemas.openxmlformats.org/officeDocument/2006/relationships/hyperlink" Target="http://edu-top.ru/katalog/?cat=3" TargetMode="External"/><Relationship Id="rId5" Type="http://schemas.openxmlformats.org/officeDocument/2006/relationships/hyperlink" Target="http://edu-top.ru/katalog/?cat=4" TargetMode="External"/><Relationship Id="rId6" Type="http://schemas.openxmlformats.org/officeDocument/2006/relationships/hyperlink" Target="http://edu-top.ru/katalog/?cat=5" TargetMode="External"/><Relationship Id="rId7" Type="http://schemas.openxmlformats.org/officeDocument/2006/relationships/hyperlink" Target="http://edu-top.ru/katalog/?cat=6" TargetMode="External"/><Relationship Id="rId8" Type="http://schemas.openxmlformats.org/officeDocument/2006/relationships/hyperlink" Target="http://edu-top.ru/katalog/?cat=7" TargetMode="External"/><Relationship Id="rId9" Type="http://schemas.openxmlformats.org/officeDocument/2006/relationships/hyperlink" Target="http://edu-top.ru/katalog/?cat=8" TargetMode="External"/><Relationship Id="rId10" Type="http://schemas.openxmlformats.org/officeDocument/2006/relationships/hyperlink" Target="http://edu-top.ru/katalog/?cat=9" TargetMode="External"/><Relationship Id="rId11" Type="http://schemas.openxmlformats.org/officeDocument/2006/relationships/hyperlink" Target="http://edu-top.ru/katalog/?cat=10" TargetMode="External"/><Relationship Id="rId12" Type="http://schemas.openxmlformats.org/officeDocument/2006/relationships/hyperlink" Target="http://edu-top.ru/katalog/?cat=11" TargetMode="External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ОУ «Удомельская средня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образовательная школа №1 им. А.С.Попова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общ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дагогиче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845520" y="6237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Удомля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081680" y="4508640"/>
            <a:ext cx="457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Педагогический опыт и его обобщ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лган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98520" y="189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факторы успешности можно опис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воём опыте? (Что лучше всего получается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98520" y="1413000"/>
            <a:ext cx="8277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целей (задач) обучения, вос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 учащихся положительной мотив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комфортных условий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эффективной методики объяс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закрепления, отработки и т.д.) нового матери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я знаний учащихся и т. 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оды, приемы, формы, средства системы Ва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е технологии, применяе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бразовательном проце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ие фа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4360" y="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 передового педагогическ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476280"/>
          <a:ext cx="8640720" cy="6226200"/>
        </p:xfrm>
        <a:graphic>
          <a:graphicData uri="http://schemas.openxmlformats.org/drawingml/2006/table">
            <a:tbl>
              <a:tblPr/>
              <a:tblGrid>
                <a:gridCol w="2436840"/>
                <a:gridCol w="6203880"/>
              </a:tblGrid>
              <a:tr h="245880"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0">
                <a:tc>
                  <a:txBody>
                    <a:bodyPr lIns="51120" rIns="51120" tIns="0" bIns="0" anchor="ctr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кту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му заказу государства, обще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у об Образован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ессивным тенденциям социального развития обще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ой образовательной полит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м современной педагогической науки и передовой педагогической практ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м интересам определенных категорий педагог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ю актуальных задач обще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ю образовательных задач, вытекающих из социального заказа государства, общества в области образования, интересов личности учащего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51120" rIns="51120" tIns="0" bIns="0" anchor="ctr">
                      <a:noAutofit/>
                    </a:bodyPr>
                    <a:p>
                      <a:pPr lvl="1"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учность, соответствие достижениям нау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практической деятельности, основополагающим положениям современной науки в области 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зульта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уровня обученности и воспитанности учащихся, их ценностным ориентациям, а также педагогической прак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может выража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ровне обученности уча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ровне воспитанности уча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ичностном развитии учащих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•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вершенствовании методической работы и управленческ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15920"/>
          <a:ext cx="8642160" cy="6553080"/>
        </p:xfrm>
        <a:graphic>
          <a:graphicData uri="http://schemas.openxmlformats.org/drawingml/2006/table">
            <a:tbl>
              <a:tblPr/>
              <a:tblGrid>
                <a:gridCol w="2278080"/>
                <a:gridCol w="6364080"/>
              </a:tblGrid>
              <a:tr h="3128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из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й педагогический опыт, хотя бы в небольшой степени, всегда является самостоятельным, несет в себе новизну. Но она должна сопровождаться заметными качественными показателями, тогда такой опыт можно назвать передовым. Новизна может заключать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мбинации элементов известных методи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ционализации, усовершенствовании отдельных сторон педагогического тру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еобразовании образовательного процесса (с обоснованием причин изменения в содержании образов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а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опыта дает на протяжении определенного времени устойчивые высокие результаты обучения, воспитания и развития учащих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. Оптим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стижение наилучших результатов в учебно-воспитательной работе при наименьшей затрате сил и времени педагогов и учащихся и при том, чтобы данный опыт не стал помехой в решении других образовательных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. Перспек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озможность использования опыта в массовой практике; возможность творческого применения опы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8000" y="1267920"/>
            <a:ext cx="619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katalog.iot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Федеральные образовательные ресур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егиональные образовательные ресур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Учебное книгоиздание и образовательная п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ференции, выставки, конкурсы, олимпи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нструментальные 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Электронные библиотеки, словари, энциклопед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Ресурсы для администрации и методис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Ресурсы для дистанционных форм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Информационная поддержка ЕГ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есурсы для абитури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Ресурсы по предметам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нешкольная и внеклассная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pedkonkurs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258920" y="333360"/>
            <a:ext cx="76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ресур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и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692000" y="907920"/>
            <a:ext cx="727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1 сентябр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циональная образовательная программа «Интеллектуально-творческий потенциал Ро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фоурок.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одкабинет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дсовет.о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вуч. Инф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крытый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российский портал интерактивных проектов «Учите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edsovet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9280" y="33336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ресурсы сети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219\Desktop\Нижняя часть сайта.PNG"/>
          <p:cNvPicPr/>
          <p:nvPr/>
        </p:nvPicPr>
        <p:blipFill>
          <a:blip r:embed="rId1"/>
          <a:stretch/>
        </p:blipFill>
        <p:spPr>
          <a:xfrm>
            <a:off x="415800" y="333360"/>
            <a:ext cx="8272440" cy="3887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792800" y="504828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ннеры в нижней части школьного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6"/>
          <p:cNvCxnSpPr/>
          <p:nvPr/>
        </p:nvCxnSpPr>
        <p:spPr>
          <a:xfrm flipV="1">
            <a:off x="4757400" y="3701520"/>
            <a:ext cx="361080" cy="1200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1"/>
          <p:cNvCxnSpPr/>
          <p:nvPr/>
        </p:nvCxnSpPr>
        <p:spPr>
          <a:xfrm flipH="1" flipV="1">
            <a:off x="2555640" y="3572640"/>
            <a:ext cx="1816560" cy="147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20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ать нуж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219\Desktop\Искать сайт.PNG"/>
          <p:cNvPicPr/>
          <p:nvPr/>
        </p:nvPicPr>
        <p:blipFill>
          <a:blip r:embed="rId2"/>
          <a:stretch/>
        </p:blipFill>
        <p:spPr>
          <a:xfrm>
            <a:off x="468360" y="83664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324000" y="2708280"/>
            <a:ext cx="10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Ст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о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5"/>
          <p:cNvCxnSpPr/>
          <p:nvPr/>
        </p:nvCxnSpPr>
        <p:spPr>
          <a:xfrm flipV="1">
            <a:off x="1115640" y="2204280"/>
            <a:ext cx="1152720" cy="53244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9" name="TextBox 10"/>
          <p:cNvSpPr/>
          <p:nvPr/>
        </p:nvSpPr>
        <p:spPr>
          <a:xfrm>
            <a:off x="572760" y="19044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дре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12"/>
          <p:cNvCxnSpPr/>
          <p:nvPr/>
        </p:nvCxnSpPr>
        <p:spPr>
          <a:xfrm>
            <a:off x="1619280" y="692280"/>
            <a:ext cx="7927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Открытый клас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219\Desktop\Открытый класс.PNG"/>
          <p:cNvPicPr/>
          <p:nvPr/>
        </p:nvPicPr>
        <p:blipFill>
          <a:blip r:embed="rId1"/>
          <a:stretch/>
        </p:blipFill>
        <p:spPr>
          <a:xfrm>
            <a:off x="324000" y="1025640"/>
            <a:ext cx="85737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овое образование»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нет-площадка центра педагогических технолог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. К.Д.Ушинского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219\Desktop\Новое образование.PNG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219\Desktop\Конкурсы.PNG"/>
          <p:cNvPicPr/>
          <p:nvPr/>
        </p:nvPicPr>
        <p:blipFill>
          <a:blip r:embed="rId2"/>
          <a:stretch/>
        </p:blipFill>
        <p:spPr>
          <a:xfrm>
            <a:off x="352440" y="1268280"/>
            <a:ext cx="848844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знач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общить свой опы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709000" y="1125360"/>
            <a:ext cx="39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www.kakprosto.ru/kak-81645-kak-obobshchit-opyt-raboty-uchitelya#ixzz2kq787p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rusedu.net/post/3305/3248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do.gendocs.ru/docs/index-201717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openclass.ru/wiki-pages/2966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katalog.iot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58920" y="134100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922320" y="1922400"/>
            <a:ext cx="77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Делитесь опыто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Успехов и достижени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1614240"/>
            <a:ext cx="712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начит сделать выводы; выраз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результаты в общ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ении (на основе изучения)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ловарь С.И.Ожег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его  осмысл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более общих научных эмпириче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греч. эмпирио - опыт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етических позиц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2505240" y="981000"/>
            <a:ext cx="54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 значит обобщить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92360" y="1844640"/>
            <a:ext cx="669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стная характерис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и решения  учител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их задач и проб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торой отражаются устойчив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омерности; способы, усло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личностные предпосыл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я тех или иных результ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505600" y="112536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опы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общен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дагогического опы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 методической деятельности, предполагающий выбор и изучение какого - либо конкретного опыта, осмысл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и обоснование, обобщенное и систематизирован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опис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 методической деятельности, ее продук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ий опыт возникает как диалогическая потребность педагога к совершенствованию соб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066320" y="404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общить свой собственный опы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82692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ч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вид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част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таким образом объяснить с научной точки зрения, каким образом достигаются Вами как педагогом положительные результаты в учебно-воспитательн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125360" y="112536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ответить для себя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340720" y="2060640"/>
            <a:ext cx="44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я делаю? (предмет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343240" y="2852640"/>
            <a:ext cx="44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чего я это делаю? (какова цель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340000" y="3429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я это делаю? (алгоритмы, формы, метод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340000" y="4076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ой это дает результат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2323440" y="4653000"/>
            <a:ext cx="45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счет чего этот результат достигнут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713600" y="404640"/>
            <a:ext cx="61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Что можно описыв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468360" y="112536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у педагог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ы педагогическ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жно отраз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какие научные исследования Вы опирались, кто из ученых, ведущих практиков наиболее успешного обучения и воспитания детей был для вас предшественником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650600" y="476280"/>
            <a:ext cx="56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оценки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9040" y="1484280"/>
            <a:ext cx="83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цеп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оеобразие и новизна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снованность выдвигаемых педаг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ов и под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о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и достаточность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ая заверш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ованность успеха на конкретн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пехи и достижения обуч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79280" y="189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ипичные ошиб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 обобщении и описании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503280" y="1389240"/>
            <a:ext cx="792144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опыта подменяется опис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ьного плана деятельности педаг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находится истинная основа для об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неверных оснований для об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ценный опыт определяется как цен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  обобщении  опыта происходит углубление  в дет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принадлежащие существу обобщаемого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ывается не существующее, а желаем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ыт обобщен не по тем основаниям, котор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ют место на самом деле.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219</cp:lastModifiedBy>
  <dcterms:modified xsi:type="dcterms:W3CDTF">2013-12-07T08:52:05Z</dcterms:modified>
  <cp:revision>25</cp:revision>
  <dc:subject/>
  <dc:title>Слайд 1</dc:title>
</cp:coreProperties>
</file>