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5.wmf" ContentType="image/x-wmf"/>
  <Override PartName="/ppt/media/image17.gif" ContentType="image/gif"/>
  <Override PartName="/ppt/media/image3.png" ContentType="image/png"/>
  <Override PartName="/ppt/media/chimes.wav" ContentType="audio/x-wav"/>
  <Override PartName="/ppt/media/image16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BBE6-01A1-4618-A469-C91DF5C19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036-6BFC-4311-9E3D-FE6693CAD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2E7-FD03-4F6C-9BD2-756EDAFF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B9B-FF8D-4BB3-BDF7-6D6D098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1C4-4C5F-46C6-A508-7B90949E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85A-383C-454B-9FE6-1C87CF00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284-5D6A-468E-BC3F-583E1F17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52F-CF62-4B53-95D6-0DAE7DE6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BFD-4ED1-4203-8290-7C9E556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2B4-0C18-4640-8970-5C342ED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4F4-6E51-4FF4-900B-5F9CF11A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65E-AEB1-477C-9E30-2F9DDF8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DD4-0855-42F1-AB02-22BC7ED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3AF-5E79-43E8-9D43-3AF9C94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B31-89B8-434D-A5E0-BB9782518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upload.wikimedia.org/wikipedia/commons/b/b4/Palace_Square,_Saint_Petersburg,_Russia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к уроку математики в 3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лощадь. Сравнение площадей фигу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076720" y="5084640"/>
            <a:ext cx="359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коулина  Людмила Никола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«УСОШ №1 им. А.С.Попов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трелка углом вверх 4"/>
          <p:cNvSpPr/>
          <p:nvPr/>
        </p:nvSpPr>
        <p:spPr>
          <a:xfrm rot="16200000">
            <a:off x="5607720" y="1321560"/>
            <a:ext cx="2071440" cy="57132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320"/>
              <a:gd name="textAreaBottom" fmla="*/ 571680 h 57132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285480"/>
            <a:ext cx="8686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углом вверх 4"/>
          <p:cNvSpPr/>
          <p:nvPr/>
        </p:nvSpPr>
        <p:spPr>
          <a:xfrm rot="16200000">
            <a:off x="507204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авая фигурная скобка 5"/>
          <p:cNvSpPr/>
          <p:nvPr/>
        </p:nvSpPr>
        <p:spPr>
          <a:xfrm>
            <a:off x="6572160" y="642960"/>
            <a:ext cx="584280" cy="192888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1928880"/>
              <a:gd name="textAreaBottom" fmla="*/ 191376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3"/>
                  <a:pt x="10800" y="545"/>
                </a:cubicBezTo>
                <a:lnTo>
                  <a:pt x="10800" y="10909"/>
                </a:lnTo>
                <a:cubicBezTo>
                  <a:pt x="10800" y="11182"/>
                  <a:pt x="16200" y="11454"/>
                  <a:pt x="21600" y="11454"/>
                </a:cubicBezTo>
                <a:cubicBezTo>
                  <a:pt x="16200" y="11454"/>
                  <a:pt x="10800" y="11727"/>
                  <a:pt x="10800" y="11999"/>
                </a:cubicBezTo>
                <a:lnTo>
                  <a:pt x="10800" y="21055"/>
                </a:lnTo>
                <a:cubicBezTo>
                  <a:pt x="10800" y="21328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+ 7 = 35 (кг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тоновка – 28 кг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рушовка – ? в 4 раза &lt;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: 4 = 7 (кг) – яблок сорта грушов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8 + 7 = 35 (кг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твет: 35 кг яблок этих сортов привезли в магази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трелка углом вверх 4"/>
          <p:cNvSpPr/>
          <p:nvPr/>
        </p:nvSpPr>
        <p:spPr>
          <a:xfrm rot="16200000">
            <a:off x="5179320" y="1035720"/>
            <a:ext cx="2071440" cy="571680"/>
          </a:xfrm>
          <a:custGeom>
            <a:avLst/>
            <a:gdLst>
              <a:gd name="textAreaLeft" fmla="*/ 0 w 2071440"/>
              <a:gd name="textAreaRight" fmla="*/ 2007360 w 207144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71702" h="571504">
                <a:moveTo>
                  <a:pt x="0" y="414603"/>
                </a:moveTo>
                <a:lnTo>
                  <a:pt x="1850376" y="414603"/>
                </a:lnTo>
                <a:lnTo>
                  <a:pt x="1850376" y="142876"/>
                </a:lnTo>
                <a:lnTo>
                  <a:pt x="1785950" y="142876"/>
                </a:lnTo>
                <a:lnTo>
                  <a:pt x="1928826" y="0"/>
                </a:lnTo>
                <a:lnTo>
                  <a:pt x="2071702" y="142876"/>
                </a:lnTo>
                <a:lnTo>
                  <a:pt x="2007276" y="142876"/>
                </a:lnTo>
                <a:lnTo>
                  <a:pt x="2007276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авая фигурная скобка 5"/>
          <p:cNvSpPr/>
          <p:nvPr/>
        </p:nvSpPr>
        <p:spPr>
          <a:xfrm>
            <a:off x="6929280" y="357120"/>
            <a:ext cx="584280" cy="2000160"/>
          </a:xfrm>
          <a:custGeom>
            <a:avLst/>
            <a:gdLst>
              <a:gd name="textAreaLeft" fmla="*/ 0 w 584280"/>
              <a:gd name="textAreaRight" fmla="*/ 210960 w 584280"/>
              <a:gd name="textAreaTop" fmla="*/ 15120 h 2000160"/>
              <a:gd name="textAreaBottom" fmla="*/ 198504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6"/>
                </a:cubicBezTo>
                <a:lnTo>
                  <a:pt x="10800" y="10928"/>
                </a:lnTo>
                <a:cubicBezTo>
                  <a:pt x="10800" y="11191"/>
                  <a:pt x="16200" y="11454"/>
                  <a:pt x="21600" y="11454"/>
                </a:cubicBezTo>
                <a:cubicBezTo>
                  <a:pt x="16200" y="11454"/>
                  <a:pt x="10800" y="11717"/>
                  <a:pt x="10800" y="11980"/>
                </a:cubicBezTo>
                <a:lnTo>
                  <a:pt x="10800" y="21074"/>
                </a:lnTo>
                <a:cubicBezTo>
                  <a:pt x="10800" y="2133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?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углом вверх 7"/>
          <p:cNvSpPr/>
          <p:nvPr/>
        </p:nvSpPr>
        <p:spPr>
          <a:xfrm rot="16200000">
            <a:off x="5143320" y="30711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углом вверх 6"/>
          <p:cNvSpPr/>
          <p:nvPr/>
        </p:nvSpPr>
        <p:spPr>
          <a:xfrm rot="16200000">
            <a:off x="4572000" y="128592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углом вверх 7"/>
          <p:cNvSpPr/>
          <p:nvPr/>
        </p:nvSpPr>
        <p:spPr>
          <a:xfrm rot="16200000">
            <a:off x="5143320" y="30711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 · 2 + 4 = 16 (к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 · 2 = 1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(к.)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 2-ой короб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) 6 · 2 = 1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(к.) – во 2-ой коробк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) 12 + 4 = 16 (к.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кор. – 6 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кор. – ? в 2 раза 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кор. –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на 4 к. &gt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6 · 2 = 1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(к.) – во 2-ой короб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12 + 4 = 16 (к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: 16 карандашей в 3-ей короб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трелка углом вверх 6"/>
          <p:cNvSpPr/>
          <p:nvPr/>
        </p:nvSpPr>
        <p:spPr>
          <a:xfrm rot="16200000">
            <a:off x="4071960" y="1000080"/>
            <a:ext cx="2000160" cy="571680"/>
          </a:xfrm>
          <a:custGeom>
            <a:avLst/>
            <a:gdLst>
              <a:gd name="textAreaLeft" fmla="*/ 0 w 2000160"/>
              <a:gd name="textAreaRight" fmla="*/ 1936080 w 200016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000264" h="571504">
                <a:moveTo>
                  <a:pt x="0" y="414603"/>
                </a:moveTo>
                <a:lnTo>
                  <a:pt x="1778938" y="414603"/>
                </a:lnTo>
                <a:lnTo>
                  <a:pt x="1778938" y="142876"/>
                </a:lnTo>
                <a:lnTo>
                  <a:pt x="1714512" y="142876"/>
                </a:lnTo>
                <a:lnTo>
                  <a:pt x="1857388" y="0"/>
                </a:lnTo>
                <a:lnTo>
                  <a:pt x="2000264" y="142876"/>
                </a:lnTo>
                <a:lnTo>
                  <a:pt x="1935838" y="142876"/>
                </a:lnTo>
                <a:lnTo>
                  <a:pt x="1935838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трелка углом вверх 7"/>
          <p:cNvSpPr/>
          <p:nvPr/>
        </p:nvSpPr>
        <p:spPr>
          <a:xfrm rot="16200000">
            <a:off x="4643280" y="2856960"/>
            <a:ext cx="2143080" cy="571680"/>
          </a:xfrm>
          <a:custGeom>
            <a:avLst/>
            <a:gdLst>
              <a:gd name="textAreaLeft" fmla="*/ 0 w 2143080"/>
              <a:gd name="textAreaRight" fmla="*/ 2079000 w 2143080"/>
              <a:gd name="textAreaTop" fmla="*/ 414720 h 571680"/>
              <a:gd name="textAreaBottom" fmla="*/ 572040 h 571680"/>
            </a:gdLst>
            <a:ahLst/>
            <a:rect l="textAreaLeft" t="textAreaTop" r="textAreaRight" b="textAreaBottom"/>
            <a:pathLst>
              <a:path w="2143140" h="571504">
                <a:moveTo>
                  <a:pt x="0" y="414603"/>
                </a:moveTo>
                <a:lnTo>
                  <a:pt x="1921814" y="414603"/>
                </a:lnTo>
                <a:lnTo>
                  <a:pt x="1921814" y="142876"/>
                </a:lnTo>
                <a:lnTo>
                  <a:pt x="1857388" y="142876"/>
                </a:lnTo>
                <a:lnTo>
                  <a:pt x="2000264" y="0"/>
                </a:lnTo>
                <a:lnTo>
                  <a:pt x="2143140" y="142876"/>
                </a:lnTo>
                <a:lnTo>
                  <a:pt x="2078714" y="142876"/>
                </a:lnTo>
                <a:lnTo>
                  <a:pt x="2078714" y="571504"/>
                </a:lnTo>
                <a:lnTo>
                  <a:pt x="0" y="57150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 сколько раз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 сколько раз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в 7 ра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сколько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сколько 56 больше, чем 8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на 4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Файл:Palace Square, Saint Petersburg, Russ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Admin\Рабочий стол\image_big_7207.jpg"/>
          <p:cNvPicPr/>
          <p:nvPr/>
        </p:nvPicPr>
        <p:blipFill>
          <a:blip r:embed="rId4"/>
          <a:stretch/>
        </p:blipFill>
        <p:spPr>
          <a:xfrm>
            <a:off x="0" y="0"/>
            <a:ext cx="9239400" cy="697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Admin\Рабочий стол\russia-foto-kamensk-uralski-foto30.jpg"/>
          <p:cNvPicPr/>
          <p:nvPr/>
        </p:nvPicPr>
        <p:blipFill>
          <a:blip r:embed="rId5"/>
          <a:stretch/>
        </p:blipFill>
        <p:spPr>
          <a:xfrm>
            <a:off x="0" y="0"/>
            <a:ext cx="92394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838311" dir="5639352" blurRad="0" rotWithShape="0">
              <a:srgbClr val="953735">
                <a:alpha val="5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ru-RU" sz="4800" spc="-1" strike="noStrike">
                <a:solidFill>
                  <a:srgbClr val="595959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лощадь</a:t>
            </a:r>
            <a:r>
              <a:rPr b="1" lang="ru-RU" sz="4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- </a:t>
            </a:r>
            <a:r>
              <a:rPr b="1" i="1" lang="ru-RU" sz="4800" spc="-1" strike="noStrike">
                <a:solidFill>
                  <a:srgbClr val="595959"/>
                </a:solidFill>
                <a:latin typeface="Calibri"/>
              </a:rPr>
              <a:t>незастроенное место, от которого  обычно расходятся улицы в   разные   стороны.</a:t>
            </a:r>
            <a:br>
              <a:rPr sz="4800"/>
            </a:b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2.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лощадь</a:t>
            </a:r>
            <a:r>
              <a:rPr b="1" lang="ru-RU" sz="4800" spc="-1" strike="noStrike">
                <a:solidFill>
                  <a:srgbClr val="812362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595959"/>
                </a:solidFill>
                <a:latin typeface="Calibri"/>
              </a:rPr>
              <a:t>– </a:t>
            </a:r>
            <a:r>
              <a:rPr b="1" i="1" lang="ru-RU" sz="4800" spc="-1" strike="noStrike">
                <a:solidFill>
                  <a:srgbClr val="595959"/>
                </a:solidFill>
                <a:latin typeface="Calibri"/>
              </a:rPr>
              <a:t>пространство, помещение, предназначенное для какой-нибудь цели (посевная площадь, жилая площадь). </a:t>
            </a:r>
            <a:r>
              <a:rPr b="1" i="1" lang="ru-RU" sz="4800" spc="-1" strike="noStrike">
                <a:solidFill>
                  <a:srgbClr val="595959"/>
                </a:solidFill>
                <a:latin typeface="Arial Black"/>
              </a:rPr>
              <a:t>                                                 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Группа 1"/>
          <p:cNvGrpSpPr/>
          <p:nvPr/>
        </p:nvGrpSpPr>
        <p:grpSpPr>
          <a:xfrm>
            <a:off x="500040" y="642960"/>
            <a:ext cx="5786640" cy="1428840"/>
            <a:chOff x="500040" y="642960"/>
            <a:chExt cx="5786640" cy="1428840"/>
          </a:xfrm>
        </p:grpSpPr>
        <p:sp>
          <p:nvSpPr>
            <p:cNvPr id="141" name="Волна 2"/>
            <p:cNvSpPr/>
            <p:nvPr/>
          </p:nvSpPr>
          <p:spPr>
            <a:xfrm>
              <a:off x="500040" y="642960"/>
              <a:ext cx="5786640" cy="1428840"/>
            </a:xfrm>
            <a:custGeom>
              <a:avLst/>
              <a:gdLst>
                <a:gd name="textAreaLeft" fmla="*/ 530280 w 5786640"/>
                <a:gd name="textAreaRight" fmla="*/ 5256360 w 5786640"/>
                <a:gd name="textAreaTop" fmla="*/ 388440 h 1428840"/>
                <a:gd name="textAreaBottom" fmla="*/ 104040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938"/>
                  </a:moveTo>
                  <a:cubicBezTo>
                    <a:pt x="6210" y="-7470"/>
                    <a:pt x="13410" y="13346"/>
                    <a:pt x="19620" y="2938"/>
                  </a:cubicBezTo>
                  <a:lnTo>
                    <a:pt x="21600" y="18662"/>
                  </a:lnTo>
                  <a:cubicBezTo>
                    <a:pt x="15390" y="29070"/>
                    <a:pt x="8190" y="8254"/>
                    <a:pt x="1980" y="18662"/>
                  </a:cubicBezTo>
                  <a:close/>
                </a:path>
              </a:pathLst>
            </a:custGeom>
            <a:solidFill>
              <a:srgbClr val="eeece1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2"/>
            <p:cNvSpPr/>
            <p:nvPr/>
          </p:nvSpPr>
          <p:spPr>
            <a:xfrm>
              <a:off x="857160" y="785520"/>
              <a:ext cx="4715280" cy="75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c00000"/>
                  </a:solidFill>
                  <a:latin typeface="Calibri"/>
                </a:rPr>
                <a:t>Площадь-</a:t>
              </a:r>
              <a:r>
                <a:rPr b="1" lang="ru-RU" sz="4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br>
                <a:rPr sz="2400"/>
              </a:b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3"/>
          <p:cNvSpPr/>
          <p:nvPr/>
        </p:nvSpPr>
        <p:spPr>
          <a:xfrm>
            <a:off x="357120" y="5384880"/>
            <a:ext cx="3643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ладимир 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Рисунок3"/>
          <p:cNvPicPr/>
          <p:nvPr/>
        </p:nvPicPr>
        <p:blipFill>
          <a:blip r:embed="rId1"/>
          <a:stretch/>
        </p:blipFill>
        <p:spPr>
          <a:xfrm flipH="1">
            <a:off x="6786720" y="5000760"/>
            <a:ext cx="1984320" cy="1346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071880" y="2428920"/>
            <a:ext cx="5429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о величина, которая указывает, сколько места занимает фигура на плоск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Рисунок3"/>
          <p:cNvPicPr/>
          <p:nvPr/>
        </p:nvPicPr>
        <p:blipFill>
          <a:blip r:embed="rId2"/>
          <a:stretch/>
        </p:blipFill>
        <p:spPr>
          <a:xfrm flipH="1">
            <a:off x="6715080" y="5000760"/>
            <a:ext cx="1984320" cy="1346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dal"/>
          <p:cNvPicPr/>
          <p:nvPr/>
        </p:nvPicPr>
        <p:blipFill>
          <a:blip r:embed="rId3"/>
          <a:stretch/>
        </p:blipFill>
        <p:spPr>
          <a:xfrm>
            <a:off x="658800" y="2428920"/>
            <a:ext cx="249228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alibri"/>
              </a:rPr>
              <a:t>Площадь. Сравнение площадей фигур.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Способы сравнения площадей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Карандаш"/>
          <p:cNvPicPr/>
          <p:nvPr/>
        </p:nvPicPr>
        <p:blipFill>
          <a:blip r:embed="rId1"/>
          <a:stretch/>
        </p:blipFill>
        <p:spPr>
          <a:xfrm>
            <a:off x="6588000" y="3573360"/>
            <a:ext cx="1841760" cy="2284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492360" y="3068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12"/>
          <p:cNvSpPr/>
          <p:nvPr/>
        </p:nvSpPr>
        <p:spPr>
          <a:xfrm>
            <a:off x="142920" y="3286080"/>
            <a:ext cx="271476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1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Овал 12"/>
          <p:cNvSpPr/>
          <p:nvPr/>
        </p:nvSpPr>
        <p:spPr>
          <a:xfrm>
            <a:off x="142920" y="3286080"/>
            <a:ext cx="271476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0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7" name="Прямая со стрелкой 6"/>
          <p:cNvCxnSpPr/>
          <p:nvPr/>
        </p:nvCxnSpPr>
        <p:spPr>
          <a:xfrm flipH="1">
            <a:off x="4500360" y="2143080"/>
            <a:ext cx="216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68" name="Овал 14"/>
          <p:cNvSpPr/>
          <p:nvPr/>
        </p:nvSpPr>
        <p:spPr>
          <a:xfrm>
            <a:off x="3214800" y="4071960"/>
            <a:ext cx="2714400" cy="257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2571840" y="493092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Овал 12"/>
          <p:cNvSpPr/>
          <p:nvPr/>
        </p:nvSpPr>
        <p:spPr>
          <a:xfrm>
            <a:off x="142920" y="3286080"/>
            <a:ext cx="2857320" cy="27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3"/>
          <p:cNvSpPr/>
          <p:nvPr/>
        </p:nvSpPr>
        <p:spPr>
          <a:xfrm>
            <a:off x="2071800" y="285840"/>
            <a:ext cx="4643280" cy="1857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ав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ей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Прямая со стрелкой 5"/>
          <p:cNvCxnSpPr/>
          <p:nvPr/>
        </p:nvCxnSpPr>
        <p:spPr>
          <a:xfrm flipH="1">
            <a:off x="1928160" y="2142000"/>
            <a:ext cx="157212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5" name="Прямая со стрелкой 6"/>
          <p:cNvCxnSpPr/>
          <p:nvPr/>
        </p:nvCxnSpPr>
        <p:spPr>
          <a:xfrm flipH="1">
            <a:off x="4500360" y="2143080"/>
            <a:ext cx="216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6" name="Прямая со стрелкой 7"/>
          <p:cNvCxnSpPr/>
          <p:nvPr/>
        </p:nvCxnSpPr>
        <p:spPr>
          <a:xfrm>
            <a:off x="5357520" y="2142720"/>
            <a:ext cx="1500840" cy="1143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77" name="Овал 13"/>
          <p:cNvSpPr/>
          <p:nvPr/>
        </p:nvSpPr>
        <p:spPr>
          <a:xfrm>
            <a:off x="5929200" y="3143160"/>
            <a:ext cx="3071880" cy="2857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Овал 14"/>
          <p:cNvSpPr/>
          <p:nvPr/>
        </p:nvSpPr>
        <p:spPr>
          <a:xfrm>
            <a:off x="3000240" y="4071960"/>
            <a:ext cx="292896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3933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гла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785880" y="49309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85920" y="4071960"/>
            <a:ext cx="33577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br>
              <a:rPr sz="11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571760" y="2500200"/>
            <a:ext cx="74293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авнивать, складывать и вычитать величины можно только тогда, когда мы измеряли и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одинаковыми меркам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Группа 2"/>
          <p:cNvGrpSpPr/>
          <p:nvPr/>
        </p:nvGrpSpPr>
        <p:grpSpPr>
          <a:xfrm>
            <a:off x="1143000" y="0"/>
            <a:ext cx="6786720" cy="2357280"/>
            <a:chOff x="1143000" y="0"/>
            <a:chExt cx="6786720" cy="2357280"/>
          </a:xfrm>
        </p:grpSpPr>
        <p:sp>
          <p:nvSpPr>
            <p:cNvPr id="184" name="Волна 3"/>
            <p:cNvSpPr/>
            <p:nvPr/>
          </p:nvSpPr>
          <p:spPr>
            <a:xfrm>
              <a:off x="1143000" y="214200"/>
              <a:ext cx="6786720" cy="1643040"/>
            </a:xfrm>
            <a:custGeom>
              <a:avLst/>
              <a:gdLst>
                <a:gd name="textAreaLeft" fmla="*/ 622080 w 6786720"/>
                <a:gd name="textAreaRight" fmla="*/ 6164640 w 6786720"/>
                <a:gd name="textAreaTop" fmla="*/ 446760 h 1643040"/>
                <a:gd name="textAreaBottom" fmla="*/ 119628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938"/>
                  </a:moveTo>
                  <a:cubicBezTo>
                    <a:pt x="6210" y="-7470"/>
                    <a:pt x="13410" y="13346"/>
                    <a:pt x="19620" y="2938"/>
                  </a:cubicBezTo>
                  <a:lnTo>
                    <a:pt x="21600" y="18662"/>
                  </a:lnTo>
                  <a:cubicBezTo>
                    <a:pt x="15390" y="29070"/>
                    <a:pt x="8190" y="8254"/>
                    <a:pt x="1980" y="18662"/>
                  </a:cubicBezTo>
                  <a:close/>
                </a:path>
              </a:pathLst>
            </a:custGeom>
            <a:solidFill>
              <a:srgbClr val="eeece1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2"/>
            <p:cNvSpPr/>
            <p:nvPr/>
          </p:nvSpPr>
          <p:spPr>
            <a:xfrm>
              <a:off x="1561680" y="0"/>
              <a:ext cx="552996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c00000"/>
                  </a:solidFill>
                  <a:latin typeface="Calibri"/>
                </a:rPr>
                <a:t>ПОМНИТЕ!  </a:t>
              </a:r>
              <a:br>
                <a:rPr sz="3600"/>
              </a:b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6" name="Picture 4" descr="Карандаш"/>
          <p:cNvPicPr/>
          <p:nvPr/>
        </p:nvPicPr>
        <p:blipFill>
          <a:blip r:embed="rId1"/>
          <a:stretch/>
        </p:blipFill>
        <p:spPr>
          <a:xfrm flipH="1">
            <a:off x="142560" y="4071960"/>
            <a:ext cx="214308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1-15T17:50:30Z</dcterms:modified>
  <cp:revision>40</cp:revision>
  <dc:subject/>
  <dc:title>Слайд 1</dc:title>
</cp:coreProperties>
</file>