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6.gif" ContentType="image/gif"/>
  <Override PartName="/ppt/media/image20.jpeg" ContentType="image/jpeg"/>
  <Override PartName="/ppt/media/image27.gif" ContentType="image/gif"/>
  <Override PartName="/ppt/media/image28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10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0.gif" ContentType="image/gif"/>
  <Override PartName="/ppt/media/image14.jpeg" ContentType="image/jpeg"/>
  <Override PartName="/ppt/media/image37.png" ContentType="image/png"/>
  <Override PartName="/ppt/media/image34.jpeg" ContentType="image/jpeg"/>
  <Override PartName="/ppt/media/image36.png" ContentType="image/png"/>
  <Override PartName="/ppt/media/image18.jpeg" ContentType="image/jpeg"/>
  <Override PartName="/ppt/media/image7.jpeg" ContentType="image/jpeg"/>
  <Override PartName="/ppt/media/image38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1B2A-A0B7-4DE9-AE0B-DBEFD092BE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3E3F-5B56-4E55-BD04-0DF34AC5F3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D6C-058D-41A8-A836-6D721FDE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494-4C18-4CC8-A1AC-E5BFB3F6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372-9676-4403-AEFA-FD3536B6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50B-A44A-44E2-8045-54EB61C3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AC2-2F81-4CB7-AFF2-99B16249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B66-006F-4F49-9946-1A87158C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BDA-1A38-4C3C-BAD3-CB319973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88E-3571-46F9-A362-AF718AED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4E3-A9E8-432B-B909-7BA74FAC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124-9D4B-4592-9849-0E81EF1E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373-795E-4E7E-9F5B-203A4DEE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1EC-31A8-43B2-8E04-AC6F8F61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91B8-59BE-41A1-A645-2D2A55BCD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nn.su/index.php?autocom=gallery&amp;req=si&amp;img=37492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304920"/>
            <a:ext cx="8001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домельская средняя общеобразовательная школа №1 им. А.С. Поп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181480" y="5257800"/>
            <a:ext cx="3733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тилей Еле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505320" y="63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Удомля, 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395280" y="1628640"/>
            <a:ext cx="79930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окружающего мир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класс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2710080" cy="203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1619280" y="3645000"/>
            <a:ext cx="2808360" cy="225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5364000" y="476280"/>
            <a:ext cx="3095640" cy="205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5076720" y="36450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044720" y="2492280"/>
            <a:ext cx="23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повни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5 часов у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365440" y="2492280"/>
            <a:ext cx="31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вая гвозди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часов у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052000" y="5877000"/>
            <a:ext cx="20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уванчи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часов у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5149800" y="587700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часов у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"/>
          <p:cNvPicPr/>
          <p:nvPr/>
        </p:nvPicPr>
        <p:blipFill>
          <a:blip r:embed="rId5"/>
          <a:stretch/>
        </p:blipFill>
        <p:spPr>
          <a:xfrm>
            <a:off x="3708360" y="620640"/>
            <a:ext cx="1441440" cy="1878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179280" y="4076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"/>
          <p:cNvPicPr/>
          <p:nvPr/>
        </p:nvPicPr>
        <p:blipFill>
          <a:blip r:embed="rId7"/>
          <a:stretch/>
        </p:blipFill>
        <p:spPr>
          <a:xfrm>
            <a:off x="7451640" y="4005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цветочные 3"/>
          <p:cNvPicPr/>
          <p:nvPr/>
        </p:nvPicPr>
        <p:blipFill>
          <a:blip r:embed="rId1"/>
          <a:stretch/>
        </p:blipFill>
        <p:spPr>
          <a:xfrm>
            <a:off x="1403280" y="404640"/>
            <a:ext cx="5905440" cy="443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2016000" cy="1827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6732720" y="3284640"/>
            <a:ext cx="15573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&amp;CHcy;&amp;acy;&amp;scy;&amp;ycy; &amp;ncy;&amp;acy; &amp;Mcy;&amp;ocy;&amp;scy;&amp;kcy;&amp;ocy;&amp;vcy;&amp;scy;&amp;kcy;&amp;ocy;&amp;mcy; &amp;tcy;&amp;iecy;&amp;acy;&amp;tcy;&amp;rcy;&amp;iecy; &amp;kcy;&amp;ucy;&amp;kcy;&amp;ocy;&amp;lcy;"/>
          <p:cNvPicPr/>
          <p:nvPr/>
        </p:nvPicPr>
        <p:blipFill>
          <a:blip r:embed="rId1"/>
          <a:stretch/>
        </p:blipFill>
        <p:spPr>
          <a:xfrm>
            <a:off x="179280" y="189000"/>
            <a:ext cx="3319560" cy="381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cdn.fishki.net/upload/post/201602/27/1864572/4dea393e59f03.jpg"/>
          <p:cNvPicPr/>
          <p:nvPr/>
        </p:nvPicPr>
        <p:blipFill>
          <a:blip r:embed="rId2"/>
          <a:stretch/>
        </p:blipFill>
        <p:spPr>
          <a:xfrm>
            <a:off x="3708360" y="189000"/>
            <a:ext cx="5229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legalizeclub.org/uploads/posts/2016-04/1461021150_kreml-420.jpg"/>
          <p:cNvPicPr/>
          <p:nvPr/>
        </p:nvPicPr>
        <p:blipFill>
          <a:blip r:embed="rId1"/>
          <a:stretch/>
        </p:blipFill>
        <p:spPr>
          <a:xfrm>
            <a:off x="4427640" y="765000"/>
            <a:ext cx="4524120" cy="303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Спасская"/>
          <p:cNvPicPr/>
          <p:nvPr/>
        </p:nvPicPr>
        <p:blipFill>
          <a:blip r:embed="rId2"/>
          <a:stretch/>
        </p:blipFill>
        <p:spPr>
          <a:xfrm>
            <a:off x="179280" y="549360"/>
            <a:ext cx="405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539640" y="404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УНДО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qcs.qualitycomplianc.netdna-cdn.com/wp-content/uploads/2014/06/Conveyer-Belt-Care.jpg"/>
          <p:cNvPicPr/>
          <p:nvPr/>
        </p:nvPicPr>
        <p:blipFill>
          <a:blip r:embed="rId1"/>
          <a:stretch/>
        </p:blipFill>
        <p:spPr>
          <a:xfrm>
            <a:off x="3924360" y="333360"/>
            <a:ext cx="4714920" cy="3133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611280" y="378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кунда, минута, час, сутки, неделя, месяц,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39640" y="530064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мин = 60 с                                      60 мин = 1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C:\Users\1\Desktop\clip_image022.jpg"/>
          <p:cNvPicPr/>
          <p:nvPr/>
        </p:nvPicPr>
        <p:blipFill>
          <a:blip r:embed="rId1"/>
          <a:stretch/>
        </p:blipFill>
        <p:spPr>
          <a:xfrm>
            <a:off x="811080" y="706320"/>
            <a:ext cx="75218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1\Desktop\urok-na-tiemu-apokalipsis-ili-vsie-v-tvoikh-rukakh-ghlobal-nyie-probliemy-mira_15.png"/>
          <p:cNvPicPr/>
          <p:nvPr/>
        </p:nvPicPr>
        <p:blipFill>
          <a:blip r:embed="rId1"/>
          <a:stretch/>
        </p:blipFill>
        <p:spPr>
          <a:xfrm>
            <a:off x="822240" y="542880"/>
            <a:ext cx="7139160" cy="2822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250920" y="357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ный, интересный, захватывающий, заставляющий рабо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льный, обыч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учный, работа без интереса. Бесполез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 flipV="1" rot="10799400">
            <a:off x="1258560" y="475200"/>
            <a:ext cx="6702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Georgia"/>
              </a:rPr>
              <a:t>Часы — это прибор для измерения времени и определения его в течение сут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684360" y="115920"/>
            <a:ext cx="64800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рем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3" name="Picture 6" descr="gallery_2_324_97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284640"/>
            <a:ext cx="19303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thelib.ru/books/00/06/88/00068814/cover.jpg"/>
          <p:cNvPicPr/>
          <p:nvPr/>
        </p:nvPicPr>
        <p:blipFill>
          <a:blip r:embed="rId1"/>
          <a:stretch/>
        </p:blipFill>
        <p:spPr>
          <a:xfrm>
            <a:off x="324000" y="260280"/>
            <a:ext cx="2955600" cy="388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&amp;ZHcy;&amp;ucy;&amp;kcy;&amp;ocy;&amp;vcy;&amp;scy;&amp;kcy;&amp;icy;&amp;jcy;, &amp;Acy;&amp;kcy;&amp;scy;&amp;acy;&amp;kcy;&amp;ocy;&amp;vcy; - &amp;Acy;&amp;lcy;&amp;iecy;&amp;ncy;&amp;softcy;&amp;kcy;&amp;icy;&amp;jcy; &amp;tscy;&amp;vcy;&amp;iecy;&amp;tcy;&amp;ocy;&amp;chcy;&amp;iecy;&amp;kcy;: &amp;Scy;&amp;kcy;&amp;acy;&amp;zcy;&amp;kcy;&amp;icy; &amp;ocy;&amp;bcy;&amp;lcy;&amp;ocy;&amp;zhcy;&amp;kcy;&amp;acy; &amp;kcy;&amp;ncy;&amp;icy;&amp;gcy;&amp;icy;"/>
          <p:cNvPicPr/>
          <p:nvPr/>
        </p:nvPicPr>
        <p:blipFill>
          <a:blip r:embed="rId2"/>
          <a:stretch/>
        </p:blipFill>
        <p:spPr>
          <a:xfrm>
            <a:off x="5940360" y="333360"/>
            <a:ext cx="2664000" cy="4116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&amp;IEcy;&amp;vcy;&amp;gcy;&amp;iecy;&amp;ncy;&amp;icy;&amp;jcy; &amp;SHcy;&amp;vcy;&amp;acy;&amp;rcy;&amp;tscy; - &amp;Scy;&amp;kcy;&amp;acy;&amp;zcy;&amp;kcy;&amp;acy; &amp;ocy; &amp;pcy;&amp;ocy;&amp;tcy;&amp;iecy;&amp;rcy;&amp;yacy;&amp;ncy;&amp;ncy;&amp;ocy;&amp;mcy; &amp;vcy;&amp;rcy;&amp;iecy;&amp;mcy;&amp;iecy;&amp;ncy;&amp;icy; &amp;ocy;&amp;bcy;&amp;lcy;&amp;ocy;&amp;zhcy;&amp;kcy;&amp;acy; &amp;kcy;&amp;ncy;&amp;icy;&amp;gcy;&amp;icy;"/>
          <p:cNvPicPr/>
          <p:nvPr/>
        </p:nvPicPr>
        <p:blipFill>
          <a:blip r:embed="rId3"/>
          <a:stretch/>
        </p:blipFill>
        <p:spPr>
          <a:xfrm>
            <a:off x="3132000" y="2349360"/>
            <a:ext cx="288000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razumniki.ru/images/articles/obuchenie_detey/budilnik_sekunda.jpg"/>
          <p:cNvPicPr/>
          <p:nvPr/>
        </p:nvPicPr>
        <p:blipFill>
          <a:blip r:embed="rId1"/>
          <a:stretch/>
        </p:blipFill>
        <p:spPr>
          <a:xfrm>
            <a:off x="2195640" y="692280"/>
            <a:ext cx="4897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2843280" y="404640"/>
            <a:ext cx="3457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нечные ча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3995640" y="404640"/>
            <a:ext cx="403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яные ча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5329080" cy="355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2717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987640" y="333360"/>
            <a:ext cx="31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сочные ча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2" descr="E:\ЧАСЫ\chasi.bmp"/>
          <p:cNvPicPr/>
          <p:nvPr/>
        </p:nvPicPr>
        <p:blipFill>
          <a:blip r:embed="rId1"/>
          <a:srcRect l="0" t="0" r="67641" b="0"/>
          <a:stretch/>
        </p:blipFill>
        <p:spPr>
          <a:xfrm>
            <a:off x="1619280" y="1052640"/>
            <a:ext cx="2773440" cy="525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6156360" y="30686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atchdaily.ru/wp-content/uploads/2014/12/20090116_Co-Axial1_high.jpg"/>
          <p:cNvPicPr/>
          <p:nvPr/>
        </p:nvPicPr>
        <p:blipFill>
          <a:blip r:embed="rId1"/>
          <a:stretch/>
        </p:blipFill>
        <p:spPr>
          <a:xfrm>
            <a:off x="250920" y="333360"/>
            <a:ext cx="491148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vrnzh.clockshop.ru/obj/img/wmarket/hermle-2012/zoom/lens/22827-072114.jpg"/>
          <p:cNvPicPr/>
          <p:nvPr/>
        </p:nvPicPr>
        <p:blipFill>
          <a:blip r:embed="rId2"/>
          <a:stretch/>
        </p:blipFill>
        <p:spPr>
          <a:xfrm>
            <a:off x="6300720" y="260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www.portaorologi.it/images/large/RH1110_LRG.jpg"/>
          <p:cNvPicPr/>
          <p:nvPr/>
        </p:nvPicPr>
        <p:blipFill>
          <a:blip r:embed="rId3"/>
          <a:stretch/>
        </p:blipFill>
        <p:spPr>
          <a:xfrm>
            <a:off x="539640" y="3429000"/>
            <a:ext cx="2121120" cy="3216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old.orax.com.ua/uploads/katalog/tovar_id548m.jpg"/>
          <p:cNvPicPr/>
          <p:nvPr/>
        </p:nvPicPr>
        <p:blipFill>
          <a:blip r:embed="rId4"/>
          <a:stretch/>
        </p:blipFill>
        <p:spPr>
          <a:xfrm>
            <a:off x="6948360" y="357336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www.planetachasov.ru/pictures/705m.jpg"/>
          <p:cNvPicPr/>
          <p:nvPr/>
        </p:nvPicPr>
        <p:blipFill>
          <a:blip r:embed="rId5"/>
          <a:stretch/>
        </p:blipFill>
        <p:spPr>
          <a:xfrm>
            <a:off x="4067280" y="2708280"/>
            <a:ext cx="2173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1830240" cy="173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6588000" y="342900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708360" y="404640"/>
            <a:ext cx="1522440" cy="201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6659640" y="404640"/>
            <a:ext cx="1546200" cy="2062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826920" y="476280"/>
            <a:ext cx="1325880" cy="2006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6"/>
          <a:stretch/>
        </p:blipFill>
        <p:spPr>
          <a:xfrm>
            <a:off x="3635280" y="3429000"/>
            <a:ext cx="1728720" cy="2160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613080" y="249228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ш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494880" y="2492280"/>
            <a:ext cx="19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375240" y="2492280"/>
            <a:ext cx="20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687600" y="5229360"/>
            <a:ext cx="18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590520" y="522936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у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709800" y="5661000"/>
            <a:ext cx="15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8:57:59Z</dcterms:created>
  <dc:creator>Admin</dc:creator>
  <dc:description/>
  <dc:language>en-US</dc:language>
  <cp:lastModifiedBy>Администратор</cp:lastModifiedBy>
  <dcterms:modified xsi:type="dcterms:W3CDTF">2016-10-06T17:06:53Z</dcterms:modified>
  <cp:revision>23</cp:revision>
  <dc:subject/>
  <dc:title>Слайд 1</dc:title>
</cp:coreProperties>
</file>