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8CEE-243F-412E-BF5B-8A8628DB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1E9B-0526-4832-B9EE-C8638711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FEB-DD29-4C70-BF6D-85FD0DE2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10D-EF2B-4071-A3DF-59F05BBB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BDE2-B80A-4AED-9982-CF709D24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F9E9-223E-4BF0-B362-2FB4268E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CAB-33A8-4C90-B1DE-3CBCF9FB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4A31-1D9C-40EC-A95E-06D1FC5A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F8E9-C4D2-4158-A743-3C446FF3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76AB-F227-4940-91ED-2991B490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7954-1BCC-4F3B-B349-075AE09F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C21-F8CC-418D-9E04-21551D84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FB68-1A22-4E62-B3FC-F88980C939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Пиковая дама»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     А.С.Пушк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136313.jpg"/>
          <p:cNvPicPr/>
          <p:nvPr/>
        </p:nvPicPr>
        <p:blipFill>
          <a:blip r:embed="rId1"/>
          <a:stretch/>
        </p:blipFill>
        <p:spPr>
          <a:xfrm>
            <a:off x="689040" y="3565440"/>
            <a:ext cx="2620800" cy="57546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4500720" y="5857920"/>
            <a:ext cx="407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а учителем МБОУ УСОШ №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Удом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ухиной И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1" descr=""/>
          <p:cNvPicPr/>
          <p:nvPr/>
        </p:nvPicPr>
        <p:blipFill>
          <a:blip r:embed="rId1"/>
          <a:stretch/>
        </p:blipFill>
        <p:spPr>
          <a:xfrm>
            <a:off x="1530360" y="1279440"/>
            <a:ext cx="5010120" cy="86040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1571760" y="2214720"/>
            <a:ext cx="55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их надежда на счастье, как понимает его гер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57120" y="2786040"/>
            <a:ext cx="835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!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чё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мерен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удолюб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т мои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и верные карт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от что утроит, усемерит</a:t>
            </a:r>
            <a:r>
              <a:rPr b="0" lang="ru-RU" sz="1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капитал..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5" descr="4847-Three3-Of-Clubs-Playing-Card.jpg"/>
          <p:cNvPicPr/>
          <p:nvPr/>
        </p:nvPicPr>
        <p:blipFill>
          <a:blip r:embed="rId2"/>
          <a:stretch/>
        </p:blipFill>
        <p:spPr>
          <a:xfrm>
            <a:off x="1762200" y="3151080"/>
            <a:ext cx="1193760" cy="1768680"/>
          </a:xfrm>
          <a:prstGeom prst="rect">
            <a:avLst/>
          </a:prstGeom>
          <a:ln w="0">
            <a:noFill/>
          </a:ln>
        </p:spPr>
      </p:pic>
      <p:sp>
        <p:nvSpPr>
          <p:cNvPr id="85" name="TextBox 7"/>
          <p:cNvSpPr/>
          <p:nvPr/>
        </p:nvSpPr>
        <p:spPr>
          <a:xfrm>
            <a:off x="2714760" y="342900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8" descr="sa001c7.jpg"/>
          <p:cNvPicPr/>
          <p:nvPr/>
        </p:nvPicPr>
        <p:blipFill>
          <a:blip r:embed="rId3"/>
          <a:stretch/>
        </p:blipFill>
        <p:spPr>
          <a:xfrm>
            <a:off x="4608360" y="3084480"/>
            <a:ext cx="1036800" cy="1658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9"/>
          <p:cNvSpPr/>
          <p:nvPr/>
        </p:nvSpPr>
        <p:spPr>
          <a:xfrm>
            <a:off x="5214960" y="46432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еме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10" descr="0_7d998_9ee5dcd3_XL.png"/>
          <p:cNvPicPr/>
          <p:nvPr/>
        </p:nvPicPr>
        <p:blipFill>
          <a:blip r:embed="rId4"/>
          <a:stretch/>
        </p:blipFill>
        <p:spPr>
          <a:xfrm>
            <a:off x="3071880" y="4429080"/>
            <a:ext cx="1577880" cy="1889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1"/>
          <p:cNvSpPr/>
          <p:nvPr/>
        </p:nvSpPr>
        <p:spPr>
          <a:xfrm>
            <a:off x="4786200" y="557208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т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2000160" y="5000760"/>
            <a:ext cx="9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о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142920" y="6357960"/>
            <a:ext cx="864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 тайны никакой нет. Счастливые “тройка, семёрка, туз” есть у каждого челове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Прямоугольник 1" descr=""/>
          <p:cNvPicPr/>
          <p:nvPr/>
        </p:nvPicPr>
        <p:blipFill>
          <a:blip r:embed="rId1"/>
          <a:stretch/>
        </p:blipFill>
        <p:spPr>
          <a:xfrm>
            <a:off x="133200" y="1384200"/>
            <a:ext cx="8517240" cy="7066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" descr="131140.jpg"/>
          <p:cNvPicPr/>
          <p:nvPr/>
        </p:nvPicPr>
        <p:blipFill>
          <a:blip r:embed="rId2"/>
          <a:stretch/>
        </p:blipFill>
        <p:spPr>
          <a:xfrm>
            <a:off x="5572080" y="2071800"/>
            <a:ext cx="3087720" cy="464328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285840" y="2786040"/>
            <a:ext cx="5286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еловек начинает жить без че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гоне за своей независим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тупает через других люд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его ждёт  “Пиковая Дама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a668a45457a6a8380a59acecc6777c3d.jpg"/>
          <p:cNvPicPr/>
          <p:nvPr/>
        </p:nvPicPr>
        <p:blipFill>
          <a:blip r:embed="rId1"/>
          <a:stretch/>
        </p:blipFill>
        <p:spPr>
          <a:xfrm>
            <a:off x="714240" y="1643040"/>
            <a:ext cx="3286440" cy="4718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7" name="TextBox 6"/>
          <p:cNvSpPr/>
          <p:nvPr/>
        </p:nvSpPr>
        <p:spPr>
          <a:xfrm>
            <a:off x="2734920" y="2428920"/>
            <a:ext cx="8151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ickham Script Two"/>
                <a:ea typeface="Times New Roman"/>
              </a:rPr>
              <a:t>«Пиковая дама» – изящны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ickham Script Two"/>
                <a:ea typeface="Times New Roman"/>
              </a:rPr>
              <a:t>анекдот  или   начало нов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ickham Script Two"/>
                <a:ea typeface="Times New Roman"/>
              </a:rPr>
              <a:t>русской прозы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046.jpg"/>
          <p:cNvPicPr/>
          <p:nvPr/>
        </p:nvPicPr>
        <p:blipFill>
          <a:blip r:embed="rId1"/>
          <a:stretch/>
        </p:blipFill>
        <p:spPr>
          <a:xfrm>
            <a:off x="115920" y="1444680"/>
            <a:ext cx="1768320" cy="2468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285840" y="314316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енков П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785960" y="1714680"/>
            <a:ext cx="692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иковая дама» произвела при появлении своем всеобщий говор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тывалась, от пышных чертогов до скромных жилищ, с одинаковым наслаждением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4" descr="121600431.jpg"/>
          <p:cNvPicPr/>
          <p:nvPr/>
        </p:nvPicPr>
        <p:blipFill>
          <a:blip r:embed="rId2"/>
          <a:stretch/>
        </p:blipFill>
        <p:spPr>
          <a:xfrm>
            <a:off x="353880" y="3925800"/>
            <a:ext cx="1382760" cy="2011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1901520" y="4286160"/>
            <a:ext cx="709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иковая дама» – собственно не повесть, а мастерский рассказ. В н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о верно очерчена старая графиня, ее воспитанница, их отношени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ый, но демонически-эгоистический характер Германна. Собственно, эт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весть, а анекдот. … Но рассказ – повторяем – верх мастер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357120" y="6000840"/>
            <a:ext cx="151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нский В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photo1.jpg"/>
          <p:cNvPicPr/>
          <p:nvPr/>
        </p:nvPicPr>
        <p:blipFill>
          <a:blip r:embed="rId1"/>
          <a:stretch/>
        </p:blipFill>
        <p:spPr>
          <a:xfrm>
            <a:off x="214200" y="1500120"/>
            <a:ext cx="1524240" cy="200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" name="TextBox 2"/>
          <p:cNvSpPr/>
          <p:nvPr/>
        </p:nvSpPr>
        <p:spPr>
          <a:xfrm>
            <a:off x="142920" y="364320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ковский О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286000" y="1714680"/>
            <a:ext cx="58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исьма к Пушкин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ы создаете нечто новое, Вы начинаете эпоху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е… Вы положили начало н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е, - можете в этом не сомневать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25319-0.jpg"/>
          <p:cNvPicPr/>
          <p:nvPr/>
        </p:nvPicPr>
        <p:blipFill>
          <a:blip r:embed="rId2"/>
          <a:stretch/>
        </p:blipFill>
        <p:spPr>
          <a:xfrm>
            <a:off x="285840" y="4071960"/>
            <a:ext cx="1444680" cy="2119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8" name="TextBox 5"/>
          <p:cNvSpPr/>
          <p:nvPr/>
        </p:nvSpPr>
        <p:spPr>
          <a:xfrm>
            <a:off x="2071800" y="4643280"/>
            <a:ext cx="6929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нтастическое, должно до того соприкасаться с реальны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ы должны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ерить ему. Пушкин, давший нам почти все фор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а, написал “Пиковую даму” – верх искусства фантастического &lt;…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верите, что Германн действительно имел видение…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14200" y="635796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оевский Ф.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1" descr=""/>
          <p:cNvPicPr/>
          <p:nvPr/>
        </p:nvPicPr>
        <p:blipFill>
          <a:blip r:embed="rId1"/>
          <a:stretch/>
        </p:blipFill>
        <p:spPr>
          <a:xfrm>
            <a:off x="1487520" y="1176480"/>
            <a:ext cx="7175520" cy="113328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214200" y="2428920"/>
            <a:ext cx="63579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ьёзный случай, ставший известным Пушкину, дал толчок к сюжетному замыслу “Пиковой Дамы”. Пушкин сообщил своему другу Нащокину, что главная завязка “Пиковой Дамы” не вымышлена. Молодой князь Голицын рассказал ему, как однажды сильно проигрался в карты. Пришлось пойти на поклон к бабушке Наталье Петровне Голицыной, особе надменной и властной (Пушкин был с ней знаком), и просить у неё денег. Денег она не дала. Зато благосклонно передала магический будто бы секрет трёх выигрывающих карт, сообщённый ей знаменитым в своё время графом Сен-Жерменом. Внук поставил на эти карты и отыграл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вастливом рассказе Пушкин уловил сюжет, вернее, зерно сюж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3" descr="голицына натилья петровна.jpg"/>
          <p:cNvPicPr/>
          <p:nvPr/>
        </p:nvPicPr>
        <p:blipFill>
          <a:blip r:embed="rId2"/>
          <a:stretch/>
        </p:blipFill>
        <p:spPr>
          <a:xfrm>
            <a:off x="6620040" y="2206800"/>
            <a:ext cx="1877760" cy="4743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6715080" y="4857840"/>
            <a:ext cx="17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ицына Н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1511280"/>
            <a:ext cx="8229600" cy="13352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142920" y="321480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 Германн: “Игра занимает меня сильно, но я не в состоя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ртвовать необходимым в надежде приобрести излишнее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142920" y="4214880"/>
            <a:ext cx="64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ский о нём: “Германн немец: он </a:t>
            </a: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расчётли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от и всё!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142920" y="500076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о герое: “...не позволял себе малейшей прихоти. Впрочем, он был </a:t>
            </a: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крыте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честолюби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он </a:t>
            </a: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имел сильные стра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гненное воображение, но </a:t>
            </a: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твёрд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асла его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кновенных заблуждений молодости..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6" descr="germann.gif"/>
          <p:cNvPicPr/>
          <p:nvPr/>
        </p:nvPicPr>
        <p:blipFill>
          <a:blip r:embed="rId2"/>
          <a:stretch/>
        </p:blipFill>
        <p:spPr>
          <a:xfrm>
            <a:off x="6786720" y="2247840"/>
            <a:ext cx="2238120" cy="4334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12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12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12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12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1" descr=""/>
          <p:cNvPicPr/>
          <p:nvPr/>
        </p:nvPicPr>
        <p:blipFill>
          <a:blip r:embed="rId1"/>
          <a:stretch/>
        </p:blipFill>
        <p:spPr>
          <a:xfrm>
            <a:off x="920880" y="1633680"/>
            <a:ext cx="7961040" cy="86508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214200" y="2643120"/>
            <a:ext cx="86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! расчёт, умеренность и трудолюбие: вот мои три верные карты, вот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роит, усемерит мой капитал и доставит мне покой и независимость!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142920" y="40006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</a:rPr>
              <a:t>Цель жизн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окой и независим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</a:rPr>
              <a:t>Средства достиже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счёт, умеренность и трудолюб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4" descr="KNIAZEV_Evgenii_Vladimirovich2.jpg"/>
          <p:cNvPicPr/>
          <p:nvPr/>
        </p:nvPicPr>
        <p:blipFill>
          <a:blip r:embed="rId2"/>
          <a:stretch/>
        </p:blipFill>
        <p:spPr>
          <a:xfrm>
            <a:off x="6072120" y="3571920"/>
            <a:ext cx="23907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1" descr=""/>
          <p:cNvPicPr/>
          <p:nvPr/>
        </p:nvPicPr>
        <p:blipFill>
          <a:blip r:embed="rId1"/>
          <a:stretch/>
        </p:blipFill>
        <p:spPr>
          <a:xfrm>
            <a:off x="1542960" y="1279440"/>
            <a:ext cx="5345280" cy="8604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dama70.jpg"/>
          <p:cNvPicPr/>
          <p:nvPr/>
        </p:nvPicPr>
        <p:blipFill>
          <a:blip r:embed="rId2"/>
          <a:stretch/>
        </p:blipFill>
        <p:spPr>
          <a:xfrm>
            <a:off x="214200" y="2286000"/>
            <a:ext cx="5273640" cy="350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TextBox 3"/>
          <p:cNvSpPr/>
          <p:nvPr/>
        </p:nvSpPr>
        <p:spPr>
          <a:xfrm>
            <a:off x="5929200" y="2357280"/>
            <a:ext cx="3071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нка румян, коробка со шпильками, чепец с лентами, полинялые штофные кресла и диваны, с сошедшей позолотой; веера и разные дамские игрушки, изобретённые в конце минувшего столе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142920" y="5929200"/>
            <a:ext cx="832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ьер раскрывает нам сущность графини: с одной стороны — богатой светской дамы, с другой стороны — отживающей свой век гордой старух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357120" y="1928880"/>
            <a:ext cx="812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мский говорит, что на совести Германна, по крайней мере, три злодейства, три жертвы. Какие, на ваш взгля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2" descr="spades03.jpg"/>
          <p:cNvPicPr/>
          <p:nvPr/>
        </p:nvPicPr>
        <p:blipFill>
          <a:blip r:embed="rId1"/>
          <a:stretch/>
        </p:blipFill>
        <p:spPr>
          <a:xfrm>
            <a:off x="189000" y="2639880"/>
            <a:ext cx="3047760" cy="45356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countess.jpg"/>
          <p:cNvPicPr/>
          <p:nvPr/>
        </p:nvPicPr>
        <p:blipFill>
          <a:blip r:embed="rId2"/>
          <a:stretch/>
        </p:blipFill>
        <p:spPr>
          <a:xfrm>
            <a:off x="2762280" y="4492800"/>
            <a:ext cx="3406680" cy="43891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0905fd5606be16f247e33e9de8a86245.jpeg"/>
          <p:cNvPicPr/>
          <p:nvPr/>
        </p:nvPicPr>
        <p:blipFill>
          <a:blip r:embed="rId3"/>
          <a:stretch/>
        </p:blipFill>
        <p:spPr>
          <a:xfrm>
            <a:off x="5907240" y="2567160"/>
            <a:ext cx="3103560" cy="44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7:01:45Z</dcterms:created>
  <dc:creator>Administrator</dc:creator>
  <dc:description/>
  <dc:language>en-US</dc:language>
  <cp:lastModifiedBy>Administrator</cp:lastModifiedBy>
  <dcterms:modified xsi:type="dcterms:W3CDTF">2011-12-16T16:23:51Z</dcterms:modified>
  <cp:revision>37</cp:revision>
  <dc:subject/>
  <dc:title>«Пиковая дама»                                                       А.С.Пушкин</dc:title>
</cp:coreProperties>
</file>