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926-E649-4E68-B1CB-ECF9D2BA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C7B-2577-471C-8C79-BE48BF76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B313C-7692-4E96-842E-5A5DEF40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A76A0-E600-4ACF-81E4-D9877AC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E21C8-221C-4E55-97D5-5FF6BFE7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31B4-5529-4C19-BE6F-FAA300B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877C3-93C5-47F0-AE2B-8F80B12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33DBB-CA24-448F-BB44-DFACF10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2F196-FD8C-4BE5-A6AF-F0627FB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36528-5739-4F6E-9810-B3A0BC96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4DD1E-C2A8-4F21-982D-5096F5F4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6420F-D79B-4A0F-B2DD-FD146926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D88-BDC3-4708-957D-723611EC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F4BC6-C691-44BA-904D-AB3FED39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48419-DF35-46F5-9C87-51BCADC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7A6CF-5D22-4E14-944F-8D023FD4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BA3E1-0AC9-4202-BE50-B1F7B988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19A40-75CF-460C-BAC0-A1E3666E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4E6E8-4EFC-4B34-9ACF-543F9CF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0C0C8-457D-4030-BE18-BCEA0DF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60D6C-39C8-41E1-9AA0-10296FC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113AE-FE88-4813-ABC4-AB87F4F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918F1-B348-4B21-9DDD-8418FB74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536-F291-421A-AE04-10CD8052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95633-A62B-43CB-A097-5A2B8EBC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D9268-A505-43F8-8E88-60C79EAE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7FE37-47AB-48B6-959A-BAF53401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A24A6-C8FB-4DB2-8895-55478FE7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2571B-AF34-4EB1-8C3C-387AE8C2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0343B-55EF-4C5D-83C5-9D493E2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C7597-F343-482D-8B90-B5369BB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18B19-B0B2-42A7-9E81-E7FC287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C8D33-D795-45E7-A35F-FBC9A4F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993B3-D8D3-49E7-868A-4646ED92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260C-5B6B-4087-929D-51CA9E3B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EAAD0-9A6E-4721-8F68-8B30FB64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2B7C8-8146-4BA1-AC88-FCA03ABF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4EA6-A5DF-4FFC-9AAF-52095C34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8678F-F72C-41BF-9C33-6AF671D7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ACD23-0767-4F5C-B22A-DB15AAFD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05ECF-3A62-4EE0-A75D-F85CA812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F9AE2-6EA0-406C-8897-171C49F7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27233-67BD-4D61-929C-E804AF96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2F1C4-3EFD-4487-86CD-BDF4C7CE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CF53B-8D08-40B3-8931-346A3DE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A3E1-4116-4EB2-B092-D488CF50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94472-01BA-4E1A-B7D8-54BC91DD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D304B-9AD3-4BE9-8FE3-E7D2CB5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3D340-6454-4D5E-8DD7-7FC2E16B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FE9BA-855D-4FEB-9CCE-8E8E5F42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FED50-1E5E-4968-A61E-80D3C239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268C1-D92C-44FB-80F5-3B55C440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E7B6A-B0C5-484B-BCE3-7DAF6B79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2F5E1-8511-4F23-8BFA-A741B646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DF1D6-8727-401E-AB39-5B8FD56C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4FE3E-7E9A-4E6D-8083-2AE34674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B3AC-A5DB-4D41-99FA-19B5DB72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4FC2A-8532-44CB-860A-1DC71BEA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C3757-4EFA-4581-9C83-D3ECF4B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982FB-23D7-4133-8D6C-AC673CA7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5200C-8D82-4CF3-A63B-A2F0F6C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CD4BA-C3BA-41C0-B38A-465FE68D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B056F-4268-41A7-A37C-386BF957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BBF0D-B1D9-4C80-B55A-EDAA6A09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5A7EC-7F3A-4F7B-83A5-64ACF420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64BD8-CA3C-467E-94F4-48061C13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A6B6A-74D5-4758-A993-00844101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DC73-CC14-4D3B-B55B-6759A805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BFAF9-AB5A-4398-9DF6-2246049A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E5705-F9EE-4B0D-B3E1-9C201C10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A84CB-AE96-436F-9204-4F25DE64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41265-EB6B-4FE5-833D-8431427F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8EAB2-A86E-40F8-9C33-28D77E3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3EBD4-1B97-4269-AD18-695F1F3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8D4F6-1EC9-4887-944C-5594F443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6F935-02E0-495D-BDB5-26B904E2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10966-388C-41D7-9DED-45568FE1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8723-A5E5-4C5F-AA47-EC65731A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643B-4DEF-4C32-BBFF-22A6355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23F3-837A-457C-8114-83160FF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3C6-565C-4F81-866E-45A51CF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5B29-18F5-46D7-8DB0-95395B3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260A-D5F4-49A8-888B-0FA81ECF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B9AB-768B-42B2-80F9-CB8B5B48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CA5D-448E-4BB7-83B7-47EDD21F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C617-7B15-49A6-8686-FD00FE8F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A04D-F9B3-48A1-85B4-5C1EDFC8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2515-9761-442D-A0D8-BE777B6E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C6F1-0632-4E0E-B026-072B48BB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1F35-9A4F-4832-AC8C-E3A72D45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F8AC-E21B-49E6-8F1E-1DBEEB46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846-E761-4C94-BE7F-CA56B012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3195-FF19-4DA0-AE0F-CAE6B7C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A9B7-1FF3-4AF6-ADC9-936F830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7973-A0DE-40AF-BC0F-1227D5E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2C8E-2953-47F9-BF1E-29B2644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619F-6C84-430B-94A0-4F80F36F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0FD5-2784-411B-94B3-B9F26085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CB9E-E038-4C1E-ABE9-22BC159E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3A6C5-8347-4644-8B65-ED57C4F3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97A0-BC28-431A-BFD8-50BFBAF9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4A02-CA05-4BA3-8DFC-AA53FEA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ECF-167E-4686-BCBD-FF7682B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FD18-E781-4F41-907D-ED3B8C9B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A6EE-3437-44E4-A997-ABC6174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0CF0-9E44-4E90-A4F4-81C6B7D3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76BF-5D5B-47FC-BA01-897D2CA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2922-6FA2-4589-917C-D0316C5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4500-90F7-45B1-8066-FC17884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AD31D-D30B-4871-8A9B-66D93AB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28AA-89C5-4AFC-9AFC-14FE3A32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F66E-0B88-4E28-93EB-B0DE7B44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4DEC-CAB7-4947-BAC7-8773DE33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5CE-0273-4A26-8475-75F74B1B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F684-BD94-4FAB-A1EB-65D78B44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8E243-BF9E-431E-9694-742DF5F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D390-CFBF-4FBC-95BC-0F0671A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990BF-3726-4487-A528-307CB96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67A43-067E-4801-B649-5B10633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4CC7-6DF3-400E-96EA-84EB810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DB7E-981C-4D54-9F07-49FC194C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EC7E-414A-4942-A955-928CD5C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1E8D-BF06-4E4C-A926-3A9506B7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5B55-7C5E-4A87-9105-1E4A3D10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942-A68D-45A2-B9FC-8131FF3A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1BD6D-C1E0-49BB-BF40-F61EA61A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2063B-44F4-4E40-9AED-7E86EF18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3485-B1BA-431B-A263-FAAF2E05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D852-552A-4BBD-B3FF-4DF0E50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6F87C-58DB-4CFD-BEAA-3A21172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39FA-1095-47FD-A9F4-DBA24BA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FCF28-D5EC-4590-A666-1848AD5D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BA63-ADF5-4885-BC2B-AE9DCB3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746E-ABB4-4183-BCB7-857E54F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0A01-D56F-4146-9ED4-4133D2C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856-04D9-4E80-A41E-0803016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7A031-3629-4E5E-8AAB-27BD35E2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A86D1-3158-4761-BBDD-A9B70CFD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D276-A8FD-4010-A7EB-27017C4E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F7311-01E6-4930-ABA0-6ED476BE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CBFD1-F4ED-4DA1-A9CC-A16DB113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1F2AD-1860-4782-942A-6A003799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4CC0B-D36F-4A80-930D-2CE27011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9F6BC-A6D9-4B0D-B54E-86BA4348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01501-D93E-4474-A21A-B001410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AC7CC-68E3-485C-8998-F03DAE0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624-408B-4092-A246-CDE068FD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1F533-523C-49C2-8519-3470788E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74B75-A351-4333-A351-C5ED759C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257B4-E1C1-40B3-88DC-3DCA787A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6BD13-B5C8-47AE-9CEB-9A44F0FD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EA2E5-963B-4520-A768-5AEE94EE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AA83F-7377-4E4D-B92A-BA84ADDA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1002-0203-491C-9DAE-AB6F4BF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176CE-B0C4-4A41-8FC9-FCDD8E3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07F36-F576-46D0-BCCE-8E1343B8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BE05-24B5-449F-AB6B-82A97E2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040-4848-43F7-A8FC-748637E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8561-A121-4C8F-AE0A-3294422A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3789E-43BA-4B15-80CD-57878C4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F5769-2BE0-4957-8E4A-D69A5F1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6B0C-A6F6-49E6-9F5B-D042223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B60B-87D6-44E7-A1FC-D072F7FA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695F3-1783-420A-AA61-E054E1D1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3C7D5-F917-435B-8DB5-611F85A8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0C9AC-77B1-45E8-ACC8-32EE73BF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75BD3-58E1-489D-992A-591EA678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65F34-5007-4364-8DB2-1F62A4CD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FBC9-BE2C-4275-BD68-2C5F7F80E9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9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2E7B-C08A-4F49-8B3A-19E1F752A0A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1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1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24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525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529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534-E24A-4518-B6A7-37B5BAD1D9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7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8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8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2EB-75AB-4EA1-9C3F-CA9693D795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A7AC-E54D-4A72-BC33-5C358EF98C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7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7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4DC2-3EAE-463C-985A-594D2C0B6D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ACC0-B9BA-4019-9134-054E6CFA34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0BB8-3BF5-4F9A-A855-632065CC00B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D727-F87E-4885-A17A-89630B1A8D1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8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4407-D9F8-4BBE-81E7-4F6E273130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7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7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A30-7DCB-4F77-8F46-4925878A54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C95B-5967-4255-ABD5-FA35E63434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7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7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FA80-AA78-4BE3-B9A3-59664D8FE8C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2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2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8CDD-46EE-48E9-9070-DCA31E16F0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.deport.ru/slovar/bes/p/predmet.html" TargetMode="External"/><Relationship Id="rId2" Type="http://schemas.openxmlformats.org/officeDocument/2006/relationships/hyperlink" Target="http://lib.deport.ru/slovar/bes/p/predmet.html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713880"/>
            <a:ext cx="8353440" cy="494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«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                    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ФРАЗА ДНЯ</a:t>
            </a:r>
            <a:br>
              <a:rPr sz="4400"/>
            </a:b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нание только тогда знание, когда приобретено усилиями собственной мысли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8" name="Picture 2" descr="C:\Users\ё\Desktop\imagesCA00CYKK.jpg"/>
          <p:cNvPicPr/>
          <p:nvPr/>
        </p:nvPicPr>
        <p:blipFill>
          <a:blip r:embed="rId1"/>
          <a:stretch/>
        </p:blipFill>
        <p:spPr>
          <a:xfrm>
            <a:off x="1979640" y="1700280"/>
            <a:ext cx="489600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0" name="Picture 2" descr="C:\Users\ё\Desktop\72969654_61455975_Passione___Red_by_Callu[1].jpg"/>
          <p:cNvPicPr/>
          <p:nvPr/>
        </p:nvPicPr>
        <p:blipFill>
          <a:blip r:embed="rId1"/>
          <a:stretch/>
        </p:blipFill>
        <p:spPr>
          <a:xfrm>
            <a:off x="2268360" y="1844640"/>
            <a:ext cx="46911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у красную люблю,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е отсерца Вам дарю,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усть эта прекрастная роза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 сагреет в морозы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777080" cy="509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РЬ СЕБЯ!</a:t>
            </a:r>
            <a:br>
              <a:rPr sz="4400"/>
            </a:br>
            <a:br>
              <a:rPr sz="36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у красную люблю,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е 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т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сер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д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м дарю,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усть эта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кра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сн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я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а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ru-RU" sz="4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ее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морозы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Признак предмета или явления</a:t>
            </a:r>
            <a:br>
              <a:rPr sz="4400"/>
            </a:b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Обозначает определение.</a:t>
            </a:r>
            <a:br>
              <a:rPr sz="4400"/>
            </a:b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Чей? И какой? Ответы просты.</a:t>
            </a:r>
            <a:br>
              <a:rPr sz="4400"/>
            </a:br>
            <a:r>
              <a:rPr b="0" lang="ru-RU" sz="4400" spc="-1" strike="noStrike">
                <a:solidFill>
                  <a:srgbClr val="320fb1"/>
                </a:solidFill>
                <a:latin typeface="Times New Roman"/>
                <a:ea typeface="Times New Roman"/>
              </a:rPr>
              <a:t>Лишь не хватает волнистой черт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ля индивидуальной творческой работы</a:t>
            </a:r>
            <a:br>
              <a:rPr sz="1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(какая?) осен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(каком?) лесу с деревьев давно облетели листья. Только (какие?) берёзки сохранили (какие?) листочки. Изредка (какие?) лучи (какого?) солнца озаряют (какой?) ле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5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В каких предложениях  есть определения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осле знойного лета наступила холодная осень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 высокому синему небу плывут облака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Листья летят отовсюду и падают на воду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коро зазеленеют степи, рощи и леса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К далёкому пути готовятся дикие утки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7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: 1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ажнение 182, 183 по выбору (по образцу и творческое задание);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2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вторить, что такое «определ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mic Sans MS"/>
              </a:rPr>
              <a:t>Нужен ли Ь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ереч.., доч.., грач.., вещ.., 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лыбаеш..ся,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ешиш..,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варищ..,</a:t>
            </a:r>
            <a:br>
              <a:rPr sz="4800"/>
            </a:b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сто встреч.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787640" y="1447920"/>
            <a:ext cx="389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ь?</a:t>
            </a:r>
            <a:br>
              <a:rPr sz="4400"/>
            </a:br>
            <a:br>
              <a:rPr sz="3400"/>
            </a:br>
            <a:br>
              <a:rPr sz="700"/>
            </a:br>
            <a:r>
              <a:rPr b="0" lang="ru-RU" sz="7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Найти разность х – у.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 Ъ = 5, Ь = 4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х – трехзначное число, в котором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сотен – под..езд 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десятков – у руч..я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единиц – вороб..и.</a:t>
            </a:r>
            <a:br>
              <a:rPr sz="3100"/>
            </a:b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– трехзначное число, в котором: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сотен – в..ёт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десятков – л..ется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единиц – об..явление.</a:t>
            </a:r>
            <a:br>
              <a:rPr sz="31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под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ъ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у руч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роб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= 54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r>
              <a:rPr b="0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в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т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л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тся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об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ъ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вление(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= 44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44 – 445 = 99.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9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 Что изучает синтаксис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Назовите виды предложений по цели высказывания и по интонации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 Что такое грамматическая основа предложения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*Назовите второстепенные члены предложе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ова</a:t>
            </a:r>
            <a:r>
              <a:rPr b="0" lang="ru-RU" sz="66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ться</a:t>
            </a:r>
            <a:r>
              <a:rPr b="0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розами*</a:t>
            </a:r>
            <a:br>
              <a:rPr sz="6600"/>
            </a:br>
            <a:br>
              <a:rPr sz="6600"/>
            </a:b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еннее солнце осветило лесную поляну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68706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50"/>
                </a:solidFill>
                <a:latin typeface="Comic Sans MS"/>
              </a:rPr>
              <a:t>Определять</a:t>
            </a:r>
            <a:r>
              <a:rPr b="0" lang="ru-RU" sz="8000" spc="-1" strike="noStrike">
                <a:solidFill>
                  <a:srgbClr val="00b050"/>
                </a:solidFill>
                <a:latin typeface="Comic Sans MS"/>
              </a:rPr>
              <a:t> - 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0070c0"/>
                </a:solidFill>
                <a:latin typeface="Comic Sans MS"/>
              </a:rPr>
              <a:t>уточнять</a:t>
            </a:r>
            <a:br>
              <a:rPr sz="6600"/>
            </a:br>
            <a:r>
              <a:rPr b="0" lang="ru-RU" sz="6600" spc="-1" strike="noStrike">
                <a:solidFill>
                  <a:srgbClr val="0070c0"/>
                </a:solidFill>
                <a:latin typeface="Comic Sans MS"/>
              </a:rPr>
              <a:t>  характеристику </a:t>
            </a:r>
            <a:br>
              <a:rPr sz="6600"/>
            </a:br>
            <a:r>
              <a:rPr b="0" lang="ru-RU" sz="6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6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предмет</a:t>
            </a:r>
            <a:r>
              <a:rPr b="0" lang="ru-RU" sz="6600" spc="-1" strike="noStrike" u="sng">
                <a:solidFill>
                  <a:srgbClr val="00b050"/>
                </a:solidFill>
                <a:uFillTx/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2060"/>
                </a:solidFill>
                <a:latin typeface="Comic Sans MS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1-15T14:52:47Z</dcterms:modified>
  <cp:revision>49</cp:revision>
  <dc:subject/>
  <dc:title>Найдите существительное 3-его склонения.</dc:title>
</cp:coreProperties>
</file>