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3A1-4814-4837-B439-A80D5191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23CF-C6CF-41C5-BFF3-908C666E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1B36E-BCD9-4E13-90D2-28FCA4FB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7FE0F-CD18-46FC-99F0-2F8020C6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EBF3C-05B9-4021-9249-57DB5679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B762C-73BF-4778-A2D2-11A54587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2C5BB-02D9-44FE-8C87-D472AF5A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8E65C-F35A-4BA2-8683-B86F6CAA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E2C10-72EC-4AC4-937A-1CCB5EBF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42A53-EDCE-4FEC-9EBB-5BA061B8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7C54E-BB1F-4C9B-A6D3-75D94256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F2ECC-740A-4000-A223-DC92ACF9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51A1-11D9-40A2-AB2A-31621FC0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A311F-F4A3-46C1-AF3E-D7361238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06E52-D399-4078-8FDB-DC653214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A784A-CD2E-4CFE-966A-200CE2EA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F87FA-BF31-4CA4-BB43-A73E8D48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1D1CE-7020-4258-BE4D-67F8B7A7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41228-B21F-446F-84AC-EDA65A80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08A36-AADD-40F6-A9EF-677A7A58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376B2-6183-405A-8A1C-FE185628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B4EDC-C3FC-4FB1-8394-F5CF0DF7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0E1FA-3DEF-405B-A514-660D50AB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F0E-C384-4ECD-9DF6-75952428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D13F9-9D22-4A0F-A30F-6311CCD5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1214D-B0EF-4DF2-B39E-1733BC6D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FAF5F-46D5-47C5-A203-FE128CBC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0C5C3-5B16-4388-AEFA-89F9E531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52854-13E0-4B8B-A26D-5B8F4614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FFE57-9483-44F7-9C34-C8D15E7F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4D448-4DB0-40B0-B0B4-7C6DC676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124D7-D4E4-4AAC-BD8C-BFFDDFDE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07A18-2793-45CE-BC8C-3C3284CC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B99E1-E624-49C0-980C-42452BEB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FE72-9031-45EC-8921-FAC0BAA7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9B0C9-8913-4F63-AE3F-F4400CA2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74ECA-0812-42C3-9E86-51C97362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0BAA0-8A11-40BB-8A3F-E4276563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06BAC-CC3D-4405-9747-0E226AD9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9EAFD-B804-453A-BA0C-865C1F8B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0855B-A642-4AF5-BAB8-573D8170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494C3-38D6-4F10-AD7C-D615470C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0CAC9-99C3-4E32-9706-9EE7D633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CDD6F-2335-40C7-B6AD-8A774DF2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6F806-DEC7-4081-AF09-38BB7C4E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FC60-2984-4B54-ABD1-2F6D157E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2B836-79B9-4E80-BFDA-099EA29F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2664D-E888-4574-B9C7-FCD82754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C8C46-B181-4B8E-80F0-14240CDA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6C917-7D45-4961-A15C-B6D921E5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D098A-6EDE-4C27-A401-4108C929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D67C5-83BB-4A31-A6A6-36D02255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63630-489E-4E8C-80B7-1D8DDA8A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F18CAB-A53F-4BA5-97F8-3D890CE4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C0136-4E30-41B3-BB28-7BFD5010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82F3F2-8765-409D-8A6E-A9A35D30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4BCA-6607-46E3-807E-28576A68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F3CEB4-8BB8-4FE3-98ED-9C538EF8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8CAF7-EAFC-4201-BC11-C5DF8083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52C8AE-7CFA-4401-A2F8-316C55A6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832C7-5C1A-4B15-8785-8EC7781F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91EB83-2C1A-4F09-8F6C-B740A9B4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36B62-FCF7-4051-B453-80B90FBC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5FC30-0BF4-4FB2-8156-2F607FC5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FA20EF-5C37-4AE3-BB5C-E4E3113E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59EECE-7A68-480D-8655-4726C0AE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19EEF-F38E-4517-8542-F81F319B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88F2-8D57-4B53-900A-17083D90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2A786A-9591-4566-8161-450C03E7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4A3F36-49C3-4ADA-AFEE-30AB6E06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4A382A-664A-46BD-85B7-13B81B65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D82C6D-5670-4757-9906-DE0E6510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765A0D-54F8-44B5-9AD1-45B47E4C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4892E6-D47C-40F0-9276-C5FD8889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E1F37B-4C66-47A0-B1AE-F9439D68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CA863-1AEF-424E-8110-C24BCADD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779C8-5946-4A6F-892F-F5BECE84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8E28-94F1-4EB8-BDF0-881A9CF0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C56D-264A-4411-BF7E-6ABB7C43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AD7C-908F-4DAA-AEAB-BF5C1043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3B52-8601-442C-882C-05790CFB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82E7-71E7-423F-AFB2-B5393F4A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53A6-73D9-4351-9CDA-074B85BD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BC34-0A72-4406-9111-C2631514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BD9B-C4CC-4118-9C2A-59BA1107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B803-08EB-4006-84A6-5880EB30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572D0-0372-48F9-AB1A-71D66563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98351-4128-4E74-A8EE-63AC041F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7910B-0974-41B5-B4C0-CE5F8A8E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080C7-C799-4318-A657-F1759872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CEF07-A6AF-4256-9B58-DCEC8FD0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6C0A-E91A-4BA9-A1DE-E8D4D004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150DA-40DF-4A36-B71D-0013AC32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5F6DD-A870-45EE-BFA5-21157E57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3B1F9-10B2-4267-A678-3B960EFD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8F044-EE56-4E2B-9C8D-A83555A1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69040-BEBD-4751-BF54-E43D43C4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E9C6C-1283-466B-AB7A-82291990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06AB4-5385-46C5-8075-88EEA7A7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771C0-991F-4F57-A940-A63FE0C8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F1697-9BB6-42B6-9CB6-DF800F95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9394A-C346-4B93-840A-CF7289AA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CB2-E8A6-4256-8E1B-68BC201A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88B59-466E-4C20-AA52-FE7FC28D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C26F8-E55A-43E6-A6F1-249E0CD7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85FC4-BA3B-48FB-99DD-03DF9E23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77E3F-8567-4FC4-8B89-9F6DB0A7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F20DA-D5B2-417F-AFA1-DA47CA4B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92107-5B8E-4CD2-99C3-1C18A70F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456CB-06C2-4B21-A215-263BE5AB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0A365-0C06-4159-8626-C1F0B039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9B057-5516-4891-AA9B-99474830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90C2A-16F5-4002-A9AF-A3427D4B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7E5D-98B5-4095-8982-F50AAD35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B5DE3-AE44-472C-8277-D4968C5A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A5A32-FB3F-4859-9A0C-AFFD7154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D5681-846E-4E97-BB82-AD12425E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A19A8-4E79-4321-8F10-C52142B9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A287F-3A45-42AC-B2AC-C87F6CE5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359DA-1FD4-4F1F-9658-4301FC6B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93817-5690-4801-85C7-152F188E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EB3A9-C742-4599-B745-C06B0142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9991A-E2FA-4093-890D-FEB1E2D6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90FA9-3304-48CD-A84F-5884CD14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E0A-2C84-49EE-B776-FB78AB34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4C054-F511-4DB4-B94F-DA4157A0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3E3AC-4619-406B-9AFB-7497AE37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6AF92-A663-4D6C-AEF1-EBA0B2A7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F2886-BF97-4D71-9990-F6F47C4F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28A5C-CD6F-480E-99EF-C842DB4C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A8919-3D82-4F89-92C5-2049CC0E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FF836-AF38-4CEB-92D0-60662B36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B082E-B72D-40A0-A134-A22B571F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1F7F8-BA9D-4BFE-95EE-915EFD22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EB666-41F6-4B3C-82E4-F1CEE7FA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73F8-5941-4516-98C7-5CD546EC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EF6C3-BBF7-4839-A0CA-7EE7FA5D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72E9F-5CA3-405D-A4C2-883F69F4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A960B-B010-48E5-A32A-5B9F10B1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62CCE4-F170-4FAF-B127-11E50A2A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8405D9-F7C3-4590-AC66-D253DDF6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5D19C9-A8A3-4C11-A09E-919B0F77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380698-7276-4CDD-ACE3-3E017EA1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C79CB5-4942-4F73-8C8D-2F8F27F5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A182AF-E199-4B4C-8EE6-1811DCBA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AD8447-B4A5-445A-A9FA-219DB40D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0ACF-B0DC-4EF4-87B1-A0855B39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7D1E4-29EB-4FD6-A22D-461ACACC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26E579-A12F-48F7-8EF5-5E30E543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174E00-46C1-4B69-8732-B2862F0C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360186-DA75-49BE-A923-5C0D52A8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B0714E-94A1-4103-84FE-B5DC26FA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B10DA-06B6-4CB5-B665-11B88284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18333-8C9C-43FC-A450-E0260FFB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D2A22-6FFF-41F8-8DBA-A323704B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C183A-BC5D-44DF-A0A7-71E0462A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2795D-1384-47AC-A9FB-7FFCB960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98D1-A76E-4951-A271-0983E88E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29CB3-ADEA-4174-8487-A74B0095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8DF17-674E-4E19-A3CC-8F5FC044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8A621-E104-40C9-BDD7-77DBF41C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DEBA4-AB2F-44FA-840B-0152C5EB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15A85-5A76-442A-83BC-A29E7112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37901-BFF6-421A-ACFE-3B4A7915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DCD24-AECF-4A4C-B5AA-9D7E1222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AA5B4-6DEE-44FF-A4EC-1E6BD5B1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1118A-A735-4120-8577-A22B554C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FB20A-478E-4196-BFDF-8A9172CE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CCED-308B-4F4B-98CF-AABBEA88F9D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9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CC4E-52A9-48E3-882D-B65021B4693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15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1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24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525" name="Freeform 19"/>
            <p:cNvSpPr/>
            <p:nvPr/>
          </p:nvSpPr>
          <p:spPr>
            <a:xfrm rot="7320000">
              <a:off x="7790760" y="4661280"/>
              <a:ext cx="998640" cy="463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Freeform 20"/>
            <p:cNvSpPr/>
            <p:nvPr/>
          </p:nvSpPr>
          <p:spPr>
            <a:xfrm rot="7320000">
              <a:off x="7766640" y="4640040"/>
              <a:ext cx="995400" cy="4586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Freeform 21"/>
            <p:cNvSpPr/>
            <p:nvPr/>
          </p:nvSpPr>
          <p:spPr>
            <a:xfrm rot="7320000">
              <a:off x="7934760" y="4626000"/>
              <a:ext cx="660240" cy="419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8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529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0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1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34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C812-E153-4D57-B045-C0070176FC2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7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8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8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2D96-B898-49F5-9B7E-0106709D903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5E1D-EB61-4B5E-8310-4C41983EB39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7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7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3DE7-7C80-4ED9-B0D1-DD8127DC190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B8ED-748B-4AD9-B042-52DA788B06B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9C88-2A77-4DA8-B82E-0D8CA8E6CF7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CDDE-BFF0-4827-A837-95E8D397F61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80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2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83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4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5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8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0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2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3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5B8C-5500-46B0-A2E0-7293520DFF1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76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77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F595-AE96-4783-928F-97C75396AD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8AD0-66EC-4B8C-8E96-625286A0DA1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2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1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71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72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4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75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6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7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0604-2D6E-47AC-854A-32288694CA5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2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2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1BAE-4783-4888-99D3-E010E409C88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b.deport.ru/slovar/bes/p/predmet.html" TargetMode="External"/><Relationship Id="rId2" Type="http://schemas.openxmlformats.org/officeDocument/2006/relationships/hyperlink" Target="http://lib.deport.ru/slovar/bes/p/predmet.html" TargetMode="External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5280" y="713880"/>
            <a:ext cx="8353440" cy="494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«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                            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ФРАЗА ДНЯ</a:t>
            </a:r>
            <a:br>
              <a:rPr sz="4400"/>
            </a:b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нание только тогда знание, когда приобретено усилиями собственной мысли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8" name="Picture 2" descr="C:\Users\ё\Desktop\imagesCA00CYKK.jpg"/>
          <p:cNvPicPr/>
          <p:nvPr/>
        </p:nvPicPr>
        <p:blipFill>
          <a:blip r:embed="rId1"/>
          <a:stretch/>
        </p:blipFill>
        <p:spPr>
          <a:xfrm>
            <a:off x="1979640" y="1700280"/>
            <a:ext cx="4896000" cy="44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0" name="Picture 2" descr="C:\Users\ё\Desktop\72969654_61455975_Passione___Red_by_Callu[1].jpg"/>
          <p:cNvPicPr/>
          <p:nvPr/>
        </p:nvPicPr>
        <p:blipFill>
          <a:blip r:embed="rId1"/>
          <a:stretch/>
        </p:blipFill>
        <p:spPr>
          <a:xfrm>
            <a:off x="2268360" y="1844640"/>
            <a:ext cx="469116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зу красную люблю,</a:t>
            </a:r>
            <a:br>
              <a:rPr sz="5400"/>
            </a:br>
            <a:r>
              <a:rPr b="0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е отсерца Вам дарю,</a:t>
            </a:r>
            <a:br>
              <a:rPr sz="5400"/>
            </a:br>
            <a:r>
              <a:rPr b="0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пусть эта прекрастная роза</a:t>
            </a:r>
            <a:br>
              <a:rPr sz="5400"/>
            </a:br>
            <a:r>
              <a:rPr b="0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с сагреет в морозы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77080" cy="509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ВЕРЬ СЕБЯ!</a:t>
            </a:r>
            <a:br>
              <a:rPr sz="4400"/>
            </a:br>
            <a:br>
              <a:rPr sz="3600"/>
            </a:b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зу красную люблю,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е </a:t>
            </a:r>
            <a:r>
              <a:rPr b="0" lang="ru-RU" sz="4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от</a:t>
            </a: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сер</a:t>
            </a:r>
            <a:r>
              <a:rPr b="0" lang="ru-RU" sz="4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д</a:t>
            </a: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ца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м дарю,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пусть эта </a:t>
            </a: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кра</a:t>
            </a:r>
            <a:r>
              <a:rPr b="0" lang="ru-RU" sz="4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сн</a:t>
            </a: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я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за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с </a:t>
            </a: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</a:t>
            </a:r>
            <a:r>
              <a:rPr b="0" lang="ru-RU" sz="4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реет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 морозы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20fb1"/>
                </a:solidFill>
                <a:latin typeface="Times New Roman"/>
                <a:ea typeface="Times New Roman"/>
              </a:rPr>
              <a:t>Признак предмета или явления</a:t>
            </a:r>
            <a:br>
              <a:rPr sz="4400"/>
            </a:br>
            <a:r>
              <a:rPr b="0" lang="ru-RU" sz="4400" spc="-1" strike="noStrike">
                <a:solidFill>
                  <a:srgbClr val="320fb1"/>
                </a:solidFill>
                <a:latin typeface="Times New Roman"/>
                <a:ea typeface="Times New Roman"/>
              </a:rPr>
              <a:t>Обозначает определение.</a:t>
            </a:r>
            <a:br>
              <a:rPr sz="4400"/>
            </a:br>
            <a:r>
              <a:rPr b="0" lang="ru-RU" sz="4400" spc="-1" strike="noStrike">
                <a:solidFill>
                  <a:srgbClr val="320fb1"/>
                </a:solidFill>
                <a:latin typeface="Times New Roman"/>
                <a:ea typeface="Times New Roman"/>
              </a:rPr>
              <a:t>Чей? И какой? Ответы просты.</a:t>
            </a:r>
            <a:br>
              <a:rPr sz="4400"/>
            </a:br>
            <a:r>
              <a:rPr b="0" lang="ru-RU" sz="4400" spc="-1" strike="noStrike">
                <a:solidFill>
                  <a:srgbClr val="320fb1"/>
                </a:solidFill>
                <a:latin typeface="Times New Roman"/>
                <a:ea typeface="Times New Roman"/>
              </a:rPr>
              <a:t>Лишь не хватает волнистой черт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для индивидуальной творческой работы</a:t>
            </a:r>
            <a:br>
              <a:rPr sz="1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(какая?) осень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(каком?) лесу с деревьев давно облетели листья. Только (какие?) берёзки сохранили (какие?) листочки. Изредка (какие?) лучи (какого?) солнца озаряют (какой?) лес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6870600" cy="15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В каких предложениях  есть определения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После знойного лета наступила холодная осень.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По высокому синему небу плывут облака.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Листья летят отовсюду и падают на воду.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Скоро зазеленеют степи, рощи и леса.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К далёкому пути готовятся дикие утки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70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Домашнее задание: 1)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пражнение 182, 183 по выбору (по образцу и творческое задание);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2)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вторить, что такое «определение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mic Sans MS"/>
              </a:rPr>
              <a:t>Нужен ли Ь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omic Sans MS"/>
              </a:rPr>
              <a:t>  </a:t>
            </a: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тереч.., доч.., грач.., вещ.., </a:t>
            </a:r>
            <a:br>
              <a:rPr sz="4800"/>
            </a:b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лыбаеш..ся,</a:t>
            </a:r>
            <a:br>
              <a:rPr sz="4800"/>
            </a:b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ешиш..,</a:t>
            </a:r>
            <a:br>
              <a:rPr sz="4800"/>
            </a:b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оварищ..,</a:t>
            </a:r>
            <a:br>
              <a:rPr sz="4800"/>
            </a:b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есто встреч.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787640" y="1447920"/>
            <a:ext cx="389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ь?</a:t>
            </a:r>
            <a:br>
              <a:rPr sz="4400"/>
            </a:br>
            <a:br>
              <a:rPr sz="3400"/>
            </a:br>
            <a:br>
              <a:rPr sz="700"/>
            </a:br>
            <a:r>
              <a:rPr b="0" lang="ru-RU" sz="7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268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ние:</a:t>
            </a:r>
            <a:r>
              <a:rPr b="0" lang="ru-RU" sz="3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Найти разность х – у. 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и Ъ = 5, Ь = 4, 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ли х – трехзначное число, в котором</a:t>
            </a: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ло сотен – под..езд </a:t>
            </a:r>
            <a:br>
              <a:rPr sz="3100"/>
            </a:b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ло десятков – у руч..я</a:t>
            </a:r>
            <a:br>
              <a:rPr sz="3100"/>
            </a:b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ло единиц – вороб..и.</a:t>
            </a:r>
            <a:br>
              <a:rPr sz="3100"/>
            </a:br>
            <a:r>
              <a:rPr b="0" lang="ru-RU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– трехзначное число, в котором:</a:t>
            </a:r>
            <a:br>
              <a:rPr sz="3100"/>
            </a:b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ло сотен – в..ёт</a:t>
            </a:r>
            <a:br>
              <a:rPr sz="3100"/>
            </a:b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ло десятков – л..ется</a:t>
            </a:r>
            <a:br>
              <a:rPr sz="3100"/>
            </a:b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ло единиц – об..явление.</a:t>
            </a:r>
            <a:br>
              <a:rPr sz="3100"/>
            </a:br>
            <a:r>
              <a:rPr b="0" lang="ru-RU" sz="31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под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ъ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(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, у руч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ь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(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роб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ь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(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. 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 = 544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br>
              <a:rPr sz="4400"/>
            </a:b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в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ь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т(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, л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ь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тся(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, об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ъ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вление(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. 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= 445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44 – 445 = 99.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 99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* Что изучает синтаксис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*Назовите виды предложений по цели высказывания и по интонации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* Что такое грамматическая основа предложения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*Назовите второстепенные члены предложени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481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юбова</a:t>
            </a:r>
            <a:r>
              <a:rPr b="0" lang="ru-RU" sz="66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ться</a:t>
            </a:r>
            <a:r>
              <a:rPr b="0" lang="ru-RU" sz="6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розами*</a:t>
            </a:r>
            <a:br>
              <a:rPr sz="6600"/>
            </a:br>
            <a:br>
              <a:rPr sz="6600"/>
            </a:br>
            <a:br>
              <a:rPr sz="6000"/>
            </a:b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еннее солнце осветило лесную поляну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440" y="1196640"/>
            <a:ext cx="687060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b050"/>
                </a:solidFill>
                <a:latin typeface="Comic Sans MS"/>
              </a:rPr>
              <a:t>Определять</a:t>
            </a:r>
            <a:r>
              <a:rPr b="0" lang="ru-RU" sz="8000" spc="-1" strike="noStrike">
                <a:solidFill>
                  <a:srgbClr val="00b050"/>
                </a:solidFill>
                <a:latin typeface="Comic Sans MS"/>
              </a:rPr>
              <a:t> -  </a:t>
            </a:r>
            <a:br>
              <a:rPr sz="5400"/>
            </a:br>
            <a:r>
              <a:rPr b="0" lang="ru-RU" sz="5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ru-RU" sz="6600" spc="-1" strike="noStrike">
                <a:solidFill>
                  <a:srgbClr val="0070c0"/>
                </a:solidFill>
                <a:latin typeface="Comic Sans MS"/>
              </a:rPr>
              <a:t>уточнять</a:t>
            </a:r>
            <a:br>
              <a:rPr sz="6600"/>
            </a:br>
            <a:r>
              <a:rPr b="0" lang="ru-RU" sz="6600" spc="-1" strike="noStrike">
                <a:solidFill>
                  <a:srgbClr val="0070c0"/>
                </a:solidFill>
                <a:latin typeface="Comic Sans MS"/>
              </a:rPr>
              <a:t>  характеристику </a:t>
            </a:r>
            <a:br>
              <a:rPr sz="6600"/>
            </a:br>
            <a:r>
              <a:rPr b="0" lang="ru-RU" sz="66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ru-RU" sz="66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предмет</a:t>
            </a:r>
            <a:r>
              <a:rPr b="0" lang="ru-RU" sz="6600" spc="-1" strike="noStrike" u="sng">
                <a:solidFill>
                  <a:srgbClr val="00b050"/>
                </a:solidFill>
                <a:uFillTx/>
                <a:latin typeface="Comic Sans MS"/>
              </a:rPr>
              <a:t>а</a:t>
            </a:r>
            <a:r>
              <a:rPr b="0" lang="ru-RU" sz="6600" spc="-1" strike="noStrike">
                <a:solidFill>
                  <a:srgbClr val="002060"/>
                </a:solidFill>
                <a:latin typeface="Comic Sans MS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2-01-15T14:52:47Z</dcterms:modified>
  <cp:revision>49</cp:revision>
  <dc:subject/>
  <dc:title>Найдите существительное 3-его склонения.</dc:title>
</cp:coreProperties>
</file>