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A4E-BFB5-493A-9B86-4675403A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A0C-0306-40F9-A357-980D3820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DAA-124E-4EBB-B31A-F1F116EA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1F9-538D-42BF-BCAB-AA0648DA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896-87BA-44A7-99E2-087BBBF5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5CE-6D61-4C02-8CCB-03DEEE10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C9B-6061-4886-B3C3-F8D453EC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1FE-F871-46D4-BF74-8F1B0CC4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692-5CD0-4FE7-9606-E5F786D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294-E2D0-4F9D-A7EC-EB542A4A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8EA-E21C-49AA-A79E-CE16BC89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052-2DE6-4112-BE2F-712AA3D7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CD17-C275-41EE-879E-FC0F0ED53C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_charushin_1"/>
          <p:cNvPicPr/>
          <p:nvPr/>
        </p:nvPicPr>
        <p:blipFill>
          <a:blip r:embed="rId1"/>
          <a:stretch/>
        </p:blipFill>
        <p:spPr>
          <a:xfrm>
            <a:off x="324000" y="549360"/>
            <a:ext cx="3663720" cy="52560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42" name="WordArt 5"/>
          <p:cNvSpPr txBox="1"/>
          <p:nvPr/>
        </p:nvSpPr>
        <p:spPr>
          <a:xfrm>
            <a:off x="4643280" y="907920"/>
            <a:ext cx="374364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гений 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ванович 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рушин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4716360" y="4221000"/>
            <a:ext cx="3382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 1901 - 1965 )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14"/>
          <p:cNvGraphicFramePr/>
          <p:nvPr/>
        </p:nvGraphicFramePr>
        <p:xfrm>
          <a:off x="324000" y="1773360"/>
          <a:ext cx="420984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42098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468360" y="1413000"/>
          <a:ext cx="4182840" cy="45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13000"/>
                    <a:ext cx="418284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WordArt 6"/>
          <p:cNvSpPr txBox="1"/>
          <p:nvPr/>
        </p:nvSpPr>
        <p:spPr>
          <a:xfrm>
            <a:off x="1187280" y="26028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книгам каких писателей сделаны эти 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</a:t>
            </a: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люстрации?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5796000" y="2708280"/>
            <a:ext cx="309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.Горький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оробьишко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5219640" y="3141720"/>
            <a:ext cx="33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.Бианки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ервая охота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86" name="Object 10"/>
          <p:cNvGraphicFramePr/>
          <p:nvPr/>
        </p:nvGraphicFramePr>
        <p:xfrm>
          <a:off x="539640" y="1628640"/>
          <a:ext cx="4232520" cy="452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1628640"/>
                    <a:ext cx="42325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WordArt 11"/>
          <p:cNvSpPr txBox="1"/>
          <p:nvPr/>
        </p:nvSpPr>
        <p:spPr>
          <a:xfrm>
            <a:off x="5580000" y="2924280"/>
            <a:ext cx="25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.Бианки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узыкант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763640" y="549360"/>
            <a:ext cx="57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Чарушин - скульптор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2700360" y="3284640"/>
          <a:ext cx="2763720" cy="32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284640"/>
                    <a:ext cx="276372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7"/>
          <p:cNvGraphicFramePr/>
          <p:nvPr/>
        </p:nvGraphicFramePr>
        <p:xfrm>
          <a:off x="468360" y="1628640"/>
          <a:ext cx="2566800" cy="30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628640"/>
                    <a:ext cx="256680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8"/>
          <p:cNvGraphicFramePr/>
          <p:nvPr/>
        </p:nvGraphicFramePr>
        <p:xfrm>
          <a:off x="5292720" y="1773360"/>
          <a:ext cx="3422520" cy="403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1773360"/>
                    <a:ext cx="34225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1763640" y="549360"/>
            <a:ext cx="57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Чарушин - писатель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1280" y="1844640"/>
            <a:ext cx="4176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т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рный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юпа, Томка и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мкины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шна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940360" y="3500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19280" y="1844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Епиф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627280" y="2637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Тр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995640" y="3500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о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987640" y="4292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2987640" y="5157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истор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4"/>
          <p:cNvGraphicFramePr/>
          <p:nvPr/>
        </p:nvGraphicFramePr>
        <p:xfrm>
          <a:off x="611280" y="1773360"/>
          <a:ext cx="3849480" cy="46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73360"/>
                    <a:ext cx="384948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5"/>
          <p:cNvGraphicFramePr/>
          <p:nvPr/>
        </p:nvGraphicFramePr>
        <p:xfrm>
          <a:off x="684360" y="1916280"/>
          <a:ext cx="4027320" cy="46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916280"/>
                    <a:ext cx="40273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6"/>
          <p:cNvGraphicFramePr/>
          <p:nvPr/>
        </p:nvGraphicFramePr>
        <p:xfrm>
          <a:off x="539640" y="1989000"/>
          <a:ext cx="4191120" cy="33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1989000"/>
                    <a:ext cx="419112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WordArt 7"/>
          <p:cNvSpPr txBox="1"/>
          <p:nvPr/>
        </p:nvSpPr>
        <p:spPr>
          <a:xfrm>
            <a:off x="1187280" y="26028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роями каких рассказов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Чарушина являются эти животные?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1" name="Object 8"/>
          <p:cNvGraphicFramePr/>
          <p:nvPr/>
        </p:nvGraphicFramePr>
        <p:xfrm>
          <a:off x="0" y="1773360"/>
          <a:ext cx="5292720" cy="321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773360"/>
                    <a:ext cx="52927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WordArt 9"/>
          <p:cNvSpPr txBox="1"/>
          <p:nvPr/>
        </p:nvSpPr>
        <p:spPr>
          <a:xfrm>
            <a:off x="5724360" y="2349360"/>
            <a:ext cx="2592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едвежата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WordArt 10"/>
          <p:cNvSpPr txBox="1"/>
          <p:nvPr/>
        </p:nvSpPr>
        <p:spPr>
          <a:xfrm>
            <a:off x="5724360" y="4797360"/>
            <a:ext cx="25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ро Томку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5796000" y="393372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олчишко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12"/>
          <p:cNvSpPr txBox="1"/>
          <p:nvPr/>
        </p:nvSpPr>
        <p:spPr>
          <a:xfrm>
            <a:off x="5867280" y="3141720"/>
            <a:ext cx="208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Лисята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68360" y="184464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 зверьки были настоящие ловкач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! – и по занавеске взберутся  прямо до самого верх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! – они уже на высоком шкаф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от и на комоде, а вот оба таскают друг друга за шиворо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-то пришёл охотник со службы, а их нет. Стал он  искать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глянул на шкаф – на шкафу нет. Отодвинул комод – и там нет никого, и под стульями нет. И под кроватью не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ут мой приятель даже испугался. Видит: охотничий сапог, что лежал в углу, шевельнулся, поднялся, свалился наб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друг поскакал по полу. Так и скачет, подпрыгивае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за чудо так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539640" y="404640"/>
            <a:ext cx="806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какого произведения эти строки?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5724360" y="5013360"/>
            <a:ext cx="208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Лисята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059280" y="1052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6920" y="765000"/>
            <a:ext cx="7632720" cy="38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 время у щенят чешутся зубы, и они любят что-нибудь погрызть. Один щенок грыз деревяшку. Я эту деревяшку отнял и спрятал от него. Почует он её или не почу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нок начал искать. Других щенят всех обнюхал - не у них ли деревяшка. Нет, не нашёл. Ленивый спит, злой рычит, незлой злого лижет - уговаривает не сердиться. И вот он стал нюхать, нюхать и пошёл к тому месту, куда я её спрятал. Почуя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5724360" y="5013360"/>
            <a:ext cx="208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Томка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826920" y="907920"/>
            <a:ext cx="70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раз медвежонок один чуть не помер с перепугу - кур принесли в избу. Мороз был на дворе такой, что вороны на лету замерзали; вот кур и принесли, чтоб от холода упрятать. А медвежишко выкатился из-под лавки на них посмотреть. Тут петух на него и наскочил. И давай трепать. Да как трепал! И клювом бил, и шпорами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5"/>
          <p:cNvSpPr txBox="1"/>
          <p:nvPr/>
        </p:nvSpPr>
        <p:spPr>
          <a:xfrm>
            <a:off x="5651640" y="4653000"/>
            <a:ext cx="208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ишки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539640" y="1341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24000" y="981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95280" y="90792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1197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Жил  он с матерью в лесу. Ушла мать на охоту. Поймал зверька человек, сунул в мешок и принёс в город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5076720" y="278136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олчишко"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826920" y="3933720"/>
            <a:ext cx="720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Чем закончилась эта история?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4"/>
          <p:cNvGraphicFramePr/>
          <p:nvPr/>
        </p:nvGraphicFramePr>
        <p:xfrm>
          <a:off x="2484360" y="2708280"/>
          <a:ext cx="303840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708280"/>
                    <a:ext cx="30384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5"/>
          <p:cNvGraphicFramePr/>
          <p:nvPr/>
        </p:nvGraphicFramePr>
        <p:xfrm>
          <a:off x="468360" y="260280"/>
          <a:ext cx="2716200" cy="388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60280"/>
                    <a:ext cx="27162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5508720" y="1628640"/>
          <a:ext cx="3392280" cy="431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1628640"/>
                    <a:ext cx="3392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7"/>
          <p:cNvSpPr/>
          <p:nvPr/>
        </p:nvSpPr>
        <p:spPr>
          <a:xfrm>
            <a:off x="3419640" y="260280"/>
            <a:ext cx="54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эти рисунки нарисовала внучка писателя – Наталья Никитична Чарушина-Капус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11280" y="260280"/>
            <a:ext cx="784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вь к природе родители прививали сыну с детства: </a:t>
            </a: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«Отец брал меня во все свои поездки . Ездили мы и днём и ночью, лесами и лугами, в пургу и осеннюю непогоду. И волки за нами гнались, и въезжали мы на токовище тетеревов, и глухарей вспугивали с вершин сосен. И восход солнца, и туманы утренние, и как лес просыпается, как птицы запевают, как колёса хрустят по белому мху, как полозья свистят на морозе — всё это я с детства полюбил и пережи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11280" y="321300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ь учила ребёнка </a:t>
            </a: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«смотреть и удивляться силе и красоте природы и всему её разнообразию и великолепию…»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11280" y="4292640"/>
            <a:ext cx="770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ьский дом с огромным, заросшим садом был густо населён животными: поросятами, индюшатами, кроликами, цыплятами, чижами, свиристелями, щеглами, подстрелками разных птиц, которых выхаживали и лечили… </a:t>
            </a: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«Были у нас кошки, банки с рыбками, птицы в клетках. На окнах заросли цветов — любимое дело матер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68360" y="33336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ещё в доме жил Бобка — трёхногий калека-пёс, который был закадычным другом Чарушина. </a:t>
            </a: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«Он лежал всегда на лестнице. Все об него спотыкались и бранились. Я же ласкал его и часто рассказывал  о своих детских огорчениях»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39640" y="2133720"/>
            <a:ext cx="792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овать Чарушин начал ра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«Это было просто, по-видимому, свойственно мне, как говорить, петь, шалить или слушать сказки. Помню, как я слушал сказки с карандашом и рисовал во время рассказ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95280" y="393372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«Обаятельная и талантливая натура Чарушина сказывалась во многом: он играл на скрипке, писал стихи, был актёром, вечно что-то изобретал (мы его так и прозвали «Евгеша-изобретатель»)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,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поминал товарищ.  Мало кто знает, что у художника Чарушина было несколько патентов на изобретения. Он построил планёр и летал на нём. Ходил по воде на придуманных им самим лыжах-поплав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476360" y="404640"/>
            <a:ext cx="64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Чарушин - 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удожник - анималист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539640" y="1989000"/>
          <a:ext cx="311472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31147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6"/>
          <p:cNvGraphicFramePr/>
          <p:nvPr/>
        </p:nvGraphicFramePr>
        <p:xfrm>
          <a:off x="4716360" y="3933720"/>
          <a:ext cx="4086360" cy="248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933720"/>
                    <a:ext cx="40863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7"/>
          <p:cNvSpPr/>
          <p:nvPr/>
        </p:nvSpPr>
        <p:spPr>
          <a:xfrm>
            <a:off x="4067280" y="2205000"/>
            <a:ext cx="460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ник, который рисует животных, называетс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4140360" y="3068640"/>
            <a:ext cx="20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ималист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har03"/>
          <p:cNvPicPr/>
          <p:nvPr/>
        </p:nvPicPr>
        <p:blipFill>
          <a:blip r:embed="rId1"/>
          <a:stretch/>
        </p:blipFill>
        <p:spPr>
          <a:xfrm>
            <a:off x="179280" y="907920"/>
            <a:ext cx="3478320" cy="5042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har01"/>
          <p:cNvPicPr/>
          <p:nvPr/>
        </p:nvPicPr>
        <p:blipFill>
          <a:blip r:embed="rId2"/>
          <a:stretch/>
        </p:blipFill>
        <p:spPr>
          <a:xfrm>
            <a:off x="3995640" y="2924280"/>
            <a:ext cx="4667400" cy="3400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635280" y="404640"/>
            <a:ext cx="51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ник наблюдал за животными, часто бывал в зоопарке и выполнял множество рисунков с натуры. Ведь для того, чтобы правдиво изобразить животное, нужно хорошо его изучить, знать не только внешность зверя, но и движения, повадки и даже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067280" y="3500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2781360"/>
            <a:ext cx="49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но представить, что вся эта теплая пушистость "выходила"  из твердого литографского камня, который надо было особым образом процарапать острой иглой, покрыть краской и только потом получить оттиск-изображение на бума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003"/>
          <p:cNvPicPr/>
          <p:nvPr/>
        </p:nvPicPr>
        <p:blipFill>
          <a:blip r:embed="rId1"/>
          <a:stretch/>
        </p:blipFill>
        <p:spPr>
          <a:xfrm>
            <a:off x="5113440" y="1844640"/>
            <a:ext cx="4030560" cy="3468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395280" y="18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в углу страницы притаился крохотный пушистый котенок. Спинка выгнута, хвост трубой, ушки торчком. Так и хочется его погладить, провести ладонью по странице, по пушистой теплой шкур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5003640" y="551664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тография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1332000" y="1628640"/>
          <a:ext cx="69469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6946920" cy="46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WordArt 6"/>
          <p:cNvSpPr txBox="1"/>
          <p:nvPr/>
        </p:nvSpPr>
        <p:spPr>
          <a:xfrm>
            <a:off x="1547640" y="620640"/>
            <a:ext cx="655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Чарушин - иллюстратор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5"/>
          <p:cNvSpPr txBox="1"/>
          <p:nvPr/>
        </p:nvSpPr>
        <p:spPr>
          <a:xfrm>
            <a:off x="4716360" y="549360"/>
            <a:ext cx="381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.Чарушин 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люстрирует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ниги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гих писателей</a:t>
            </a:r>
            <a:endParaRPr b="0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859280" y="263700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й из работ художника были иллюстрации к "Деткам в клетке" Маршака. За нее он получил Золотую медаль на международной выставке детской книги в Лейпци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7"/>
          <p:cNvGraphicFramePr/>
          <p:nvPr/>
        </p:nvGraphicFramePr>
        <p:xfrm>
          <a:off x="395280" y="549360"/>
          <a:ext cx="421812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421812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539640" y="765000"/>
          <a:ext cx="2627280" cy="54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765000"/>
                    <a:ext cx="262728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6"/>
          <p:cNvGraphicFramePr/>
          <p:nvPr/>
        </p:nvGraphicFramePr>
        <p:xfrm>
          <a:off x="3708360" y="2349360"/>
          <a:ext cx="4969080" cy="382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349360"/>
                    <a:ext cx="496908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7"/>
          <p:cNvSpPr/>
          <p:nvPr/>
        </p:nvSpPr>
        <p:spPr>
          <a:xfrm>
            <a:off x="3708360" y="54936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32748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419640" y="112536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ми видел художник «деток в клетк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4:15:17Z</dcterms:created>
  <dc:creator>Варфоломеев Андрей</dc:creator>
  <dc:description/>
  <dc:language>en-US</dc:language>
  <cp:lastModifiedBy>Administrator</cp:lastModifiedBy>
  <dcterms:modified xsi:type="dcterms:W3CDTF">2012-01-25T21:47:41Z</dcterms:modified>
  <cp:revision>16</cp:revision>
  <dc:subject/>
  <dc:title>Слайд 1</dc:title>
</cp:coreProperties>
</file>