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3.png" ContentType="image/png"/>
  <Override PartName="/ppt/media/image33.png" ContentType="image/png"/>
  <Override PartName="/ppt/media/image2.png" ContentType="image/png"/>
  <Override PartName="/ppt/media/image32.png" ContentType="image/png"/>
  <Override PartName="/ppt/media/image12.jpeg" ContentType="image/jpeg"/>
  <Override PartName="/ppt/media/image13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1.png" ContentType="image/png"/>
  <Override PartName="/ppt/media/image38.gif" ContentType="image/gif"/>
  <Override PartName="/ppt/media/image43.png" ContentType="image/png"/>
  <Override PartName="/ppt/media/image50.gif" ContentType="image/gif"/>
  <Override PartName="/ppt/media/image44.png" ContentType="image/png"/>
  <Override PartName="/ppt/media/image46.jpeg" ContentType="image/jpeg"/>
  <Override PartName="/ppt/media/image48.jpeg" ContentType="image/jpeg"/>
  <Override PartName="/ppt/media/image49.png" ContentType="image/png"/>
  <Override PartName="/ppt/media/image5.png" ContentType="image/png"/>
  <Override PartName="/ppt/media/image29.jpeg" ContentType="image/jpeg"/>
  <Override PartName="/ppt/media/image37.gif" ContentType="image/gi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47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45.gif" ContentType="image/gif"/>
  <Override PartName="/ppt/media/image8.png" ContentType="image/png"/>
  <Override PartName="/ppt/media/image25.gif" ContentType="image/gif"/>
  <Override PartName="/ppt/media/image6.jpeg" ContentType="image/jpeg"/>
  <Override PartName="/ppt/media/image2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EA57-6FA7-49BE-97EB-DA7C74BFFB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70CC-E995-4325-BB87-260D7BAA51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6FA-BAA6-4F58-8867-A0D4E988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963F-C8C5-4E2E-9195-780CA250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AEA44-7164-45A3-BB54-A4D3F62E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7F54D-89CE-4F89-A745-7A364A83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EBD0C-F99E-40D8-B519-847FC633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F39F8-BCCF-4755-AA2E-72FDBE30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E2477-D6E1-4226-9234-4261A3D4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031B7-5149-42AD-AD10-CC993A7C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EC724-8BF7-4B31-8101-E8709F1D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2B9C8-840E-4B79-9379-81DB6E3B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2EF02-7EC4-4B51-9F65-EB052085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292E3-6253-4750-B0D4-DB69D992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27EC-796A-400A-8048-8836EA64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36467-45AA-4BAB-9636-BBA90492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22D36-A593-4A19-ADE1-5E188692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24F75-7208-4376-8033-70F851F6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80181-AB42-4202-85B3-46C1B574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853AB-5744-495D-85D8-E8A23EDB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89236-3980-4172-8BBC-50A84CA7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B9BCC-F9F0-403A-93BE-7500E6FF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A40C6-6D3D-4155-969A-2834F59A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72DB8-F6CC-49EF-8352-85FF3AB6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9D1EC-5897-4027-BA44-D62ECDEA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0CFB-2C61-46FF-A0F1-52629A6D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4892C-5DEE-431E-B17F-669FDB77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4EF3A-BF89-458C-B644-9ED71AF9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7A623-5DA1-40ED-980D-EEDCAAEF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86329-6E51-4D64-8D70-047AF0F4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BF8D8-4E4D-430C-A131-270C9B3F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7D37A-C07B-4A50-BB72-068643CA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79C0F-B5DE-417B-AC5B-A7B9D932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A61CA-6A74-4465-ACC7-0515300F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EB7E1-0B74-4896-91C9-B621230A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7A214-46B0-491A-A192-6F4C5CB0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E8C2-DBCF-4ABA-9F09-D50202FA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B3E19-CBF8-40F1-BC4F-381C629D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53ECE-1688-4E3A-8DC5-22E62585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33391-8864-4E07-B504-AE9A3A7B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E74F2-48E9-4ECC-8421-72360811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866D3-4F8A-4EBF-BDFC-641C9636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347E2-9099-4170-84D8-F3FA5BEB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06728-C7E7-4B09-97E5-315CA689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3CB6B-AD5F-4A71-B3A7-99B12032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0C0ED-5988-422F-8FC8-FE78A367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D728B-665A-4FE1-A060-5CE33F40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1D77-B592-429C-9632-E3B88CCF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F46E2-F13E-4DD6-92B0-76D05EF2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FC403-2304-49D7-9B0E-3FC61D2F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005CC-FC72-48BD-AA25-0EA0D0A9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77C63-837D-49B9-AA7A-25859850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FBE36-5633-4789-9958-9B39BFD9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C30F-375E-4AB6-991B-A962656D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2C1D-9101-413D-8925-A9D4B935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3FF8-AA35-4D58-8EF3-5C68916B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CBC7-6B16-403E-83FD-F1EDD03D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7475-532B-4C0D-B354-853F78FD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17E7-D981-453A-B9B3-538A9B20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A682-D662-4AB0-995B-0CB2FC57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7F41-ECA6-4B15-A7C0-03031259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498E-EEE3-4C8A-934D-87BAC3F9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DBE2-03A4-4BDE-8D30-E2527EC9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AFA3-91B1-4A7C-95F0-647949D0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00FD2-B466-467F-9DF4-70E3A809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B25C7-00FC-427E-9A84-DC370B0E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7531F-65D1-48BE-B2F7-04F5509F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6685C-72D8-4CEE-8806-42C59720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1D63A-73B6-4E08-8FD1-99EA5C3A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897-7AAC-4476-B06D-596DC936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718DC-6654-47E1-AD97-F8E67A2F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522A6-B6FB-43C3-827A-7999E30E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198CC-468F-41D2-817F-B000D1BA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FEB67-7166-4255-9A4B-6FFCA769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1E6E4-3DD2-430F-A2CC-9F19594A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AFBF9-2854-4A64-845F-97709D65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78A30-1801-43FF-A32D-73999DD4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0B800-BAEB-464D-A4F8-D7C12467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FC1A4-0996-440B-A7AB-3124E1BF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4D3C3-88F9-43FE-AF43-52F4D9DC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1D53-02D5-4B2C-8277-4A756B0B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E4386-43AE-4117-889D-67F31BEB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3008B-CF80-4662-A6CD-E6047EF2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535BC-0AAE-42AA-AEB6-8F488BCF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B0DDB-5ED6-4CBA-8CB0-309D7746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9894F-A742-4E3E-93D1-912E3607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1F88E-331F-4CDD-BABD-33C6649B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86565-204C-4579-A8F8-10B3A1A7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760DD-E585-471A-8993-15073665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65B5E-8D10-4063-8980-4D026E29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3A18D-763B-4748-8CB5-D2BC7EA1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553-8930-4618-8598-60B0DB70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26927-C83D-450F-95C6-6FCF730B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9EDFF-510B-4D5B-B292-950ECE79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65190-8B63-400D-ACC8-85815845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555BC-BB17-4AAF-B508-EA5BDE1C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57EC8-FCAE-40F0-AD6F-0C24AFEC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8C815-6EBD-42D9-93EE-52F12BCA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2A6B6-616E-4435-AC99-C03A59C1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49541-11F6-4C19-A650-4DFDBDD2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9500D-9195-49EF-90DD-C4C52CA7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81C3B-1BDB-4F3E-B2B8-80B9B735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389-DCF8-44E6-9420-7E01335A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00D2A-C97D-440F-AD96-BBA83961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41104-349C-4009-99D1-7D6DA02F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21F7E-5318-4215-83D1-BD4E853D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4A959-CEF1-4B56-B003-7CDEB248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668E7-9C54-4171-BE69-4FA2BD66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D2670-952C-4D0D-A730-57BB60EE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6C189-EC8B-40E5-B67E-DB19E586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0ABBE-0A20-4A41-A17E-D1494C4F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9EECA-61B3-4971-B488-8BF656FF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CDCE9-1C90-4406-9A7F-2FFBF282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C92-11A4-4A7C-A035-F3815198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DE7D9-4B3A-4245-B4CC-3F12F0A7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A6B4C-6C1B-428E-9BA5-E061A09D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37075-433D-4948-B5E6-21ED0B11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45AC6-6C69-4931-A1E3-5F5C6598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8C1A8-96B8-425C-BF02-E9C06572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A2CBD-A6FD-4617-846C-7715A400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48BDB-286F-4E40-82E5-BE8E4927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4AD4B-6429-427C-A833-2A3DF92B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B874B-8F47-44D6-A635-C5C25C60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D8FAE-8BE7-45F6-9376-44038001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3B8B-4123-4176-B968-62E41CE9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7DCE0-5479-4931-AA75-CA913E10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82ADE-63FD-4996-A5A1-839F2566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C1054-EF7A-4A8E-87C9-46F409EB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A6CB7-DD4D-4F80-83B3-183C4664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EDA4F-CD73-4DD0-B8CB-15DB5229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CFA46-E38C-4881-8FDD-6FF6B43B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8EB06-8FEF-401F-B16A-0AE2A8EE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E7008-1467-4D63-BB60-F4CB9B73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41149-D40D-40DA-AFDB-AEFEC3B3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65EF9-FD27-492C-9D32-7E35ACDB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7E3-1950-40A8-96C2-CBFE6C92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991A9-C0AA-4B7F-BD15-BE961486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4E692-5594-4C11-9D7D-F918696E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843A4-6344-41C0-83F7-DC72514D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14DE6-073D-423A-B36A-C2585827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6DE97-69B3-4A1C-A412-F196EF59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D806C-2812-42C1-B718-5CEAA08D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FF2B5-5054-454E-9D2F-1B4D9F61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167A2-63F9-41B8-8882-6CE8EE68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31077-B7DF-4055-8718-8FAF2486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09CCB-8329-45B6-B326-47552BC6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9065-4FBE-499C-98F0-12E0C9DDF8A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6F3C-471B-47FB-A29E-B6F321673F3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5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5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2874-08CB-4671-A250-0A3552248C0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5D98-B946-442D-9619-C165292B3E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2940-7085-4E2E-A67C-1AFEEE9B9D3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FC21-9915-4FC1-9594-AA0268EE8D1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33D0-AAD4-468C-BD4F-4058B443924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5DB5-6450-4562-8B7B-735A68C5C5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4A0C-8CA5-477D-8104-7BDCF65F84A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5CDB-E208-404D-A052-1CE2E63A504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0DCB-21CD-4BF0-BD3C-E72480F95E5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2C0E-DECF-4E3F-832D-33A42590103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image" Target="../media/image37.gif"/><Relationship Id="rId7" Type="http://schemas.openxmlformats.org/officeDocument/2006/relationships/image" Target="../media/image38.gif"/><Relationship Id="rId8" Type="http://schemas.openxmlformats.org/officeDocument/2006/relationships/image" Target="../media/image38.gi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5.gif"/><Relationship Id="rId3" Type="http://schemas.openxmlformats.org/officeDocument/2006/relationships/image" Target="../media/image45.gif"/><Relationship Id="rId4" Type="http://schemas.openxmlformats.org/officeDocument/2006/relationships/image" Target="../media/image7.pn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25.gif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Заголовок 1" descr=""/>
          <p:cNvPicPr/>
          <p:nvPr/>
        </p:nvPicPr>
        <p:blipFill>
          <a:blip r:embed="rId1"/>
          <a:stretch/>
        </p:blipFill>
        <p:spPr>
          <a:xfrm>
            <a:off x="291960" y="4761000"/>
            <a:ext cx="8553600" cy="168912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356000" y="1197000"/>
            <a:ext cx="338472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1581f"/>
                </a:solidFill>
                <a:latin typeface="Franklin Gothic Book"/>
              </a:rPr>
              <a:t>      </a:t>
            </a:r>
            <a:r>
              <a:rPr b="0" i="1" lang="ru-RU" sz="2800" spc="-1" strike="noStrike">
                <a:solidFill>
                  <a:srgbClr val="91581f"/>
                </a:solidFill>
                <a:latin typeface="Franklin Gothic Book"/>
              </a:rPr>
              <a:t>ПОЭ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1581f"/>
                </a:solidFill>
                <a:latin typeface="Franklin Gothic Book"/>
              </a:rPr>
              <a:t>ПЕРЕВОДЧИК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1581f"/>
                </a:solidFill>
                <a:latin typeface="Franklin Gothic Book"/>
              </a:rPr>
              <a:t>ДРАМАТУРГ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1581f"/>
                </a:solidFill>
                <a:latin typeface="Franklin Gothic Book"/>
              </a:rPr>
              <a:t>РЕДАКТОР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1581f"/>
                </a:solidFill>
                <a:latin typeface="Franklin Gothic Book"/>
              </a:rPr>
              <a:t>ЛИТЕРАТУРНЫЙ КРИТИК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8" name="img_1" descr="95642654"/>
          <p:cNvPicPr/>
          <p:nvPr/>
        </p:nvPicPr>
        <p:blipFill>
          <a:blip r:embed="rId2"/>
          <a:stretch/>
        </p:blipFill>
        <p:spPr>
          <a:xfrm>
            <a:off x="539640" y="115920"/>
            <a:ext cx="3448080" cy="4365720"/>
          </a:xfrm>
          <a:prstGeom prst="rect">
            <a:avLst/>
          </a:prstGeom>
          <a:ln w="0">
            <a:noFill/>
          </a:ln>
        </p:spPr>
      </p:pic>
      <p:pic>
        <p:nvPicPr>
          <p:cNvPr id="559" name="dmt__quot_raduga_quot-shli__kuda_popalo_stihi_samuila_marshaka.mp3" descr=""/>
          <p:cNvPicPr/>
          <p:nvPr/>
        </p:nvPicPr>
        <p:blipFill>
          <a:blip r:embed="rId3"/>
          <a:stretch/>
        </p:blipFill>
        <p:spPr>
          <a:xfrm>
            <a:off x="7596360" y="54450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74579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Rectangle 2" descr=""/>
          <p:cNvPicPr/>
          <p:nvPr/>
        </p:nvPicPr>
        <p:blipFill>
          <a:blip r:embed="rId1"/>
          <a:stretch/>
        </p:blipFill>
        <p:spPr>
          <a:xfrm>
            <a:off x="420840" y="5267160"/>
            <a:ext cx="8285040" cy="10414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" descr="64234286_orig"/>
          <p:cNvPicPr/>
          <p:nvPr/>
        </p:nvPicPr>
        <p:blipFill>
          <a:blip r:embed="rId2"/>
          <a:stretch/>
        </p:blipFill>
        <p:spPr>
          <a:xfrm>
            <a:off x="2819520" y="333360"/>
            <a:ext cx="3203280" cy="4824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93" name="Picture 11" descr="kniga02"/>
          <p:cNvPicPr/>
          <p:nvPr/>
        </p:nvPicPr>
        <p:blipFill>
          <a:blip r:embed="rId3"/>
          <a:stretch/>
        </p:blipFill>
        <p:spPr>
          <a:xfrm>
            <a:off x="6578640" y="4292640"/>
            <a:ext cx="2565360" cy="28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E5BE-A72F-4223-8CD7-B346392FE74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5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67D4-A11E-4152-A146-8B6AFE2E7CF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6" name="Прямоугольник 6"/>
          <p:cNvSpPr/>
          <p:nvPr/>
        </p:nvSpPr>
        <p:spPr>
          <a:xfrm>
            <a:off x="4428720" y="1773360"/>
            <a:ext cx="10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чки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6257880" y="1397160"/>
            <a:ext cx="1273320" cy="1272960"/>
          </a:xfrm>
          <a:prstGeom prst="rect">
            <a:avLst/>
          </a:prstGeom>
          <a:ln w="0">
            <a:noFill/>
          </a:ln>
        </p:spPr>
      </p:pic>
      <p:sp>
        <p:nvSpPr>
          <p:cNvPr id="598" name="Прямоугольник 8"/>
          <p:cNvSpPr/>
          <p:nvPr/>
        </p:nvSpPr>
        <p:spPr>
          <a:xfrm>
            <a:off x="3937680" y="337032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ла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99" name="Picture 3" descr=""/>
          <p:cNvPicPr/>
          <p:nvPr/>
        </p:nvPicPr>
        <p:blipFill>
          <a:blip r:embed="rId2"/>
          <a:stretch/>
        </p:blipFill>
        <p:spPr>
          <a:xfrm>
            <a:off x="5403960" y="3011400"/>
            <a:ext cx="3259080" cy="1241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"/>
          <p:cNvPicPr/>
          <p:nvPr/>
        </p:nvPicPr>
        <p:blipFill>
          <a:blip r:embed="rId3"/>
          <a:stretch/>
        </p:blipFill>
        <p:spPr>
          <a:xfrm>
            <a:off x="5857920" y="4438800"/>
            <a:ext cx="1673280" cy="1765080"/>
          </a:xfrm>
          <a:prstGeom prst="rect">
            <a:avLst/>
          </a:prstGeom>
          <a:ln w="0">
            <a:noFill/>
          </a:ln>
        </p:spPr>
      </p:pic>
      <p:sp>
        <p:nvSpPr>
          <p:cNvPr id="601" name="Прямоугольник 10"/>
          <p:cNvSpPr/>
          <p:nvPr/>
        </p:nvSpPr>
        <p:spPr>
          <a:xfrm>
            <a:off x="4380120" y="505944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яч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2" name="TextBox 11"/>
          <p:cNvSpPr/>
          <p:nvPr/>
        </p:nvSpPr>
        <p:spPr>
          <a:xfrm>
            <a:off x="3359520" y="488880"/>
            <a:ext cx="20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и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3" name="Горизонтальный свиток 17"/>
          <p:cNvSpPr/>
          <p:nvPr/>
        </p:nvSpPr>
        <p:spPr>
          <a:xfrm>
            <a:off x="127080" y="1058760"/>
            <a:ext cx="3612960" cy="182556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Что такое перед нами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е оглобли за  ушами,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глазах по колесу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седёлка на носу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4" name="Горизонтальный свиток 19"/>
          <p:cNvSpPr/>
          <p:nvPr/>
        </p:nvSpPr>
        <p:spPr>
          <a:xfrm>
            <a:off x="127080" y="2878200"/>
            <a:ext cx="3612960" cy="18082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Принялась она за дело,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изжада и запела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а, ела дуб, дуб,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омала зуб, зуб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5" name="Горизонтальный свиток 20"/>
          <p:cNvSpPr/>
          <p:nvPr/>
        </p:nvSpPr>
        <p:spPr>
          <a:xfrm>
            <a:off x="127080" y="4691160"/>
            <a:ext cx="3803400" cy="18334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 Бьют его рукой и палкой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ому его не жалко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за что беднягу бьют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за то, что он надут!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06" name="Рисунок 1" descr=""/>
          <p:cNvPicPr/>
          <p:nvPr/>
        </p:nvPicPr>
        <p:blipFill>
          <a:blip r:embed="rId4"/>
          <a:stretch/>
        </p:blipFill>
        <p:spPr>
          <a:xfrm>
            <a:off x="8101080" y="36684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Вертикальный свиток 1"/>
          <p:cNvSpPr/>
          <p:nvPr/>
        </p:nvSpPr>
        <p:spPr>
          <a:xfrm>
            <a:off x="119160" y="1628640"/>
            <a:ext cx="5389560" cy="36007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748800" y="2035080"/>
            <a:ext cx="46198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л он утром на крова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л рубашку надевать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укава просунул руки -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азалось, это брюки…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место шляпы на ход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надел сковород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9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FF9B-7C11-4BF5-AE26-7AB25D6B8C1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0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086B-630A-407E-A183-60E33290267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324240" cy="4286520"/>
          </a:xfrm>
          <a:prstGeom prst="rect">
            <a:avLst/>
          </a:prstGeom>
          <a:ln w="0">
            <a:noFill/>
          </a:ln>
        </p:spPr>
      </p:pic>
      <p:sp>
        <p:nvSpPr>
          <p:cNvPr id="612" name="Прямоугольник 5"/>
          <p:cNvSpPr/>
          <p:nvPr/>
        </p:nvSpPr>
        <p:spPr>
          <a:xfrm>
            <a:off x="1981800" y="633240"/>
            <a:ext cx="50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13" name="Рисунок 5" descr=""/>
          <p:cNvPicPr/>
          <p:nvPr/>
        </p:nvPicPr>
        <p:blipFill>
          <a:blip r:embed="rId2"/>
          <a:stretch/>
        </p:blipFill>
        <p:spPr>
          <a:xfrm>
            <a:off x="8101080" y="3729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Вертикальный свиток 1"/>
          <p:cNvSpPr/>
          <p:nvPr/>
        </p:nvSpPr>
        <p:spPr>
          <a:xfrm>
            <a:off x="28440" y="1174680"/>
            <a:ext cx="5459400" cy="511344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95280" y="174960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ди спрашивают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Кто это у вас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девочка говорит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то моя дочк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ди спрашивают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чему у вашей дочки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рые щёчки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девочка говорит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на давно не мылас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6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C31A-33C8-4F1D-9D5B-7CC5C372384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7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47F3-9867-4AFB-9D80-D1677DB3ABD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18" name="Рисунок 5" descr=""/>
          <p:cNvPicPr/>
          <p:nvPr/>
        </p:nvPicPr>
        <p:blipFill>
          <a:blip r:embed="rId1"/>
          <a:stretch/>
        </p:blipFill>
        <p:spPr>
          <a:xfrm>
            <a:off x="5648400" y="1587600"/>
            <a:ext cx="3247920" cy="4286160"/>
          </a:xfrm>
          <a:prstGeom prst="rect">
            <a:avLst/>
          </a:prstGeom>
          <a:ln w="0">
            <a:noFill/>
          </a:ln>
        </p:spPr>
      </p:pic>
      <p:sp>
        <p:nvSpPr>
          <p:cNvPr id="619" name="Прямоугольник 6"/>
          <p:cNvSpPr/>
          <p:nvPr/>
        </p:nvSpPr>
        <p:spPr>
          <a:xfrm>
            <a:off x="1692360" y="488880"/>
            <a:ext cx="55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20" name="Рисунок 6" descr=""/>
          <p:cNvPicPr/>
          <p:nvPr/>
        </p:nvPicPr>
        <p:blipFill>
          <a:blip r:embed="rId2"/>
          <a:stretch/>
        </p:blipFill>
        <p:spPr>
          <a:xfrm>
            <a:off x="8191440" y="36684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Вертикальный свиток 5"/>
          <p:cNvSpPr/>
          <p:nvPr/>
        </p:nvSpPr>
        <p:spPr>
          <a:xfrm>
            <a:off x="179280" y="1557360"/>
            <a:ext cx="5400720" cy="428616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68360" y="2169720"/>
            <a:ext cx="4680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ма сдавала в багаж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ван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квояж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одан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тину, корзину, картонк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маленькую собачонк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3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46EE-B82E-439A-9407-C8CDFD5F35A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4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97CA-3B34-4448-A24C-760BA889773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5724360" y="1646280"/>
            <a:ext cx="3168720" cy="410832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оугольник 1"/>
          <p:cNvSpPr/>
          <p:nvPr/>
        </p:nvSpPr>
        <p:spPr>
          <a:xfrm>
            <a:off x="1908000" y="620640"/>
            <a:ext cx="545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27" name="Рисунок 1" descr=""/>
          <p:cNvPicPr/>
          <p:nvPr/>
        </p:nvPicPr>
        <p:blipFill>
          <a:blip r:embed="rId2"/>
          <a:stretch/>
        </p:blipFill>
        <p:spPr>
          <a:xfrm>
            <a:off x="8124840" y="3222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Вертикальный свиток 2"/>
          <p:cNvSpPr/>
          <p:nvPr/>
        </p:nvSpPr>
        <p:spPr>
          <a:xfrm>
            <a:off x="108000" y="1539720"/>
            <a:ext cx="5688000" cy="43927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95280" y="206064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 праздник новогодни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дали мы приказ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скай цветут сегодн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снежники у нас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лесу цветёт подснежник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не метель метёт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тот из вас мятежник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скажет: не метёт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0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31C3-D92A-4864-90CA-D745FDF82D40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1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2585-5E87-4D99-84C5-868B65E3793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5867280" y="1677960"/>
            <a:ext cx="3152880" cy="4286160"/>
          </a:xfrm>
          <a:prstGeom prst="rect">
            <a:avLst/>
          </a:prstGeom>
          <a:ln w="0">
            <a:noFill/>
          </a:ln>
        </p:spPr>
      </p:pic>
      <p:sp>
        <p:nvSpPr>
          <p:cNvPr id="633" name="Прямоугольник 1"/>
          <p:cNvSpPr/>
          <p:nvPr/>
        </p:nvSpPr>
        <p:spPr>
          <a:xfrm>
            <a:off x="1719360" y="549360"/>
            <a:ext cx="552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34" name="Рисунок 1" descr=""/>
          <p:cNvPicPr/>
          <p:nvPr/>
        </p:nvPicPr>
        <p:blipFill>
          <a:blip r:embed="rId2"/>
          <a:stretch/>
        </p:blipFill>
        <p:spPr>
          <a:xfrm>
            <a:off x="8078760" y="325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Вертикальный свиток 2"/>
          <p:cNvSpPr/>
          <p:nvPr/>
        </p:nvSpPr>
        <p:spPr>
          <a:xfrm>
            <a:off x="108000" y="1484280"/>
            <a:ext cx="5256000" cy="41767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84000" y="1988640"/>
            <a:ext cx="4330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им – бом! Тили – бом!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дворе - высокий дом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венки резные,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на расписные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на лестнице ковер –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итый золотом узор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узорному ковру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ходит кошка по утру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7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4FC0-2021-4396-AFB3-7E21EF013DE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8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C46D-4023-4BCD-B638-6203A916F80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5562720" y="1370160"/>
            <a:ext cx="3371760" cy="4506840"/>
          </a:xfrm>
          <a:prstGeom prst="rect">
            <a:avLst/>
          </a:prstGeom>
          <a:ln w="0">
            <a:noFill/>
          </a:ln>
        </p:spPr>
      </p:pic>
      <p:sp>
        <p:nvSpPr>
          <p:cNvPr id="640" name="Прямоугольник 1"/>
          <p:cNvSpPr/>
          <p:nvPr/>
        </p:nvSpPr>
        <p:spPr>
          <a:xfrm>
            <a:off x="1835280" y="60480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41" name="Рисунок 1" descr=""/>
          <p:cNvPicPr/>
          <p:nvPr/>
        </p:nvPicPr>
        <p:blipFill>
          <a:blip r:embed="rId2"/>
          <a:stretch/>
        </p:blipFill>
        <p:spPr>
          <a:xfrm>
            <a:off x="8024760" y="3268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Дата 1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14CC-B4FB-4B0B-AE70-F2F38C981B4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3" name="Номер слайда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72B7-ABBA-49A9-9288-259EAE5BD5C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44" name="Picture 2" descr=""/>
          <p:cNvPicPr/>
          <p:nvPr/>
        </p:nvPicPr>
        <p:blipFill>
          <a:blip r:embed="rId1"/>
          <a:stretch/>
        </p:blipFill>
        <p:spPr>
          <a:xfrm>
            <a:off x="493560" y="1413000"/>
            <a:ext cx="2384640" cy="16700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" descr=""/>
          <p:cNvPicPr/>
          <p:nvPr/>
        </p:nvPicPr>
        <p:blipFill>
          <a:blip r:embed="rId2"/>
          <a:stretch/>
        </p:blipFill>
        <p:spPr>
          <a:xfrm>
            <a:off x="3951360" y="1620720"/>
            <a:ext cx="1523880" cy="12384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"/>
          <p:cNvPicPr/>
          <p:nvPr/>
        </p:nvPicPr>
        <p:blipFill>
          <a:blip r:embed="rId3"/>
          <a:stretch/>
        </p:blipFill>
        <p:spPr>
          <a:xfrm>
            <a:off x="5364000" y="3794040"/>
            <a:ext cx="2275200" cy="17049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" descr=""/>
          <p:cNvPicPr/>
          <p:nvPr/>
        </p:nvPicPr>
        <p:blipFill>
          <a:blip r:embed="rId4"/>
          <a:stretch/>
        </p:blipFill>
        <p:spPr>
          <a:xfrm>
            <a:off x="1409760" y="3789360"/>
            <a:ext cx="2541600" cy="1693800"/>
          </a:xfrm>
          <a:prstGeom prst="rect">
            <a:avLst/>
          </a:prstGeom>
          <a:ln w="0">
            <a:noFill/>
          </a:ln>
        </p:spPr>
      </p:pic>
      <p:sp>
        <p:nvSpPr>
          <p:cNvPr id="648" name="TextBox 3"/>
          <p:cNvSpPr/>
          <p:nvPr/>
        </p:nvSpPr>
        <p:spPr>
          <a:xfrm>
            <a:off x="853920" y="306864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чта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9" name="TextBox 4"/>
          <p:cNvSpPr/>
          <p:nvPr/>
        </p:nvSpPr>
        <p:spPr>
          <a:xfrm>
            <a:off x="2765160" y="308448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венадцать месяцев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0" name="TextBox 5"/>
          <p:cNvSpPr/>
          <p:nvPr/>
        </p:nvSpPr>
        <p:spPr>
          <a:xfrm>
            <a:off x="4509720" y="5530680"/>
            <a:ext cx="42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от какой рассеянный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1" name="TextBox 6"/>
          <p:cNvSpPr/>
          <p:nvPr/>
        </p:nvSpPr>
        <p:spPr>
          <a:xfrm>
            <a:off x="6715800" y="308304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агаж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2" name="TextBox 7"/>
          <p:cNvSpPr/>
          <p:nvPr/>
        </p:nvSpPr>
        <p:spPr>
          <a:xfrm>
            <a:off x="799920" y="5532480"/>
            <a:ext cx="36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сатый полосатый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53" name="Picture 16" descr=""/>
          <p:cNvPicPr/>
          <p:nvPr/>
        </p:nvPicPr>
        <p:blipFill>
          <a:blip r:embed="rId5"/>
          <a:stretch/>
        </p:blipFill>
        <p:spPr>
          <a:xfrm>
            <a:off x="6365880" y="1433520"/>
            <a:ext cx="2201760" cy="1649520"/>
          </a:xfrm>
          <a:prstGeom prst="rect">
            <a:avLst/>
          </a:prstGeom>
          <a:ln w="0">
            <a:noFill/>
          </a:ln>
        </p:spPr>
      </p:pic>
      <p:sp>
        <p:nvSpPr>
          <p:cNvPr id="654" name="Прямоугольник 9"/>
          <p:cNvSpPr/>
          <p:nvPr/>
        </p:nvSpPr>
        <p:spPr>
          <a:xfrm>
            <a:off x="2154240" y="584280"/>
            <a:ext cx="511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предметы?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55" name="Рисунок 9" descr=""/>
          <p:cNvPicPr/>
          <p:nvPr/>
        </p:nvPicPr>
        <p:blipFill>
          <a:blip r:embed="rId6"/>
          <a:stretch/>
        </p:blipFill>
        <p:spPr>
          <a:xfrm>
            <a:off x="8191440" y="3398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Заголовок 1" descr=""/>
          <p:cNvPicPr/>
          <p:nvPr/>
        </p:nvPicPr>
        <p:blipFill>
          <a:blip r:embed="rId1"/>
          <a:stretch/>
        </p:blipFill>
        <p:spPr>
          <a:xfrm>
            <a:off x="73080" y="414360"/>
            <a:ext cx="8924760" cy="1255680"/>
          </a:xfrm>
          <a:prstGeom prst="rect">
            <a:avLst/>
          </a:prstGeom>
          <a:ln w="0">
            <a:noFill/>
          </a:ln>
        </p:spPr>
      </p:pic>
      <p:sp>
        <p:nvSpPr>
          <p:cNvPr id="657" name="Дата 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1DAC-DEAD-4856-BA6C-247F2BE9A8D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8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735A-BB50-476A-AB51-FF6E35A5D27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59" name="dmt__quot_raduga_quot-shli__kuda_popalo_stihi_samuila_marshaka.mp3" descr=""/>
          <p:cNvPicPr/>
          <p:nvPr/>
        </p:nvPicPr>
        <p:blipFill>
          <a:blip r:embed="rId2"/>
          <a:stretch/>
        </p:blipFill>
        <p:spPr>
          <a:xfrm>
            <a:off x="468360" y="55562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60" name="Рисунок 5" descr=""/>
          <p:cNvPicPr/>
          <p:nvPr/>
        </p:nvPicPr>
        <p:blipFill>
          <a:blip r:embed="rId3"/>
          <a:stretch/>
        </p:blipFill>
        <p:spPr>
          <a:xfrm>
            <a:off x="5254560" y="4524480"/>
            <a:ext cx="1857600" cy="1285920"/>
          </a:xfrm>
          <a:prstGeom prst="rect">
            <a:avLst/>
          </a:prstGeom>
          <a:ln w="0">
            <a:noFill/>
          </a:ln>
        </p:spPr>
      </p:pic>
      <p:pic>
        <p:nvPicPr>
          <p:cNvPr id="661" name="Рисунок 6" descr=""/>
          <p:cNvPicPr/>
          <p:nvPr/>
        </p:nvPicPr>
        <p:blipFill>
          <a:blip r:embed="rId4"/>
          <a:stretch/>
        </p:blipFill>
        <p:spPr>
          <a:xfrm>
            <a:off x="1835280" y="2444760"/>
            <a:ext cx="1857240" cy="1285920"/>
          </a:xfrm>
          <a:prstGeom prst="rect">
            <a:avLst/>
          </a:prstGeom>
          <a:ln w="0">
            <a:noFill/>
          </a:ln>
        </p:spPr>
      </p:pic>
      <p:pic>
        <p:nvPicPr>
          <p:cNvPr id="662" name="Рисунок 7" descr=""/>
          <p:cNvPicPr/>
          <p:nvPr/>
        </p:nvPicPr>
        <p:blipFill>
          <a:blip r:embed="rId5"/>
          <a:stretch/>
        </p:blipFill>
        <p:spPr>
          <a:xfrm>
            <a:off x="5219640" y="2444760"/>
            <a:ext cx="1857600" cy="1285920"/>
          </a:xfrm>
          <a:prstGeom prst="rect">
            <a:avLst/>
          </a:prstGeom>
          <a:ln w="0">
            <a:noFill/>
          </a:ln>
        </p:spPr>
      </p:pic>
      <p:pic>
        <p:nvPicPr>
          <p:cNvPr id="663" name="Рисунок 8" descr=""/>
          <p:cNvPicPr/>
          <p:nvPr/>
        </p:nvPicPr>
        <p:blipFill>
          <a:blip r:embed="rId6"/>
          <a:stretch/>
        </p:blipFill>
        <p:spPr>
          <a:xfrm>
            <a:off x="1692360" y="4508640"/>
            <a:ext cx="1857240" cy="1285560"/>
          </a:xfrm>
          <a:prstGeom prst="rect">
            <a:avLst/>
          </a:prstGeom>
          <a:ln w="0">
            <a:noFill/>
          </a:ln>
        </p:spPr>
      </p:pic>
      <p:pic>
        <p:nvPicPr>
          <p:cNvPr id="664" name="Рисунок 9" descr=""/>
          <p:cNvPicPr/>
          <p:nvPr/>
        </p:nvPicPr>
        <p:blipFill>
          <a:blip r:embed="rId7"/>
          <a:stretch/>
        </p:blipFill>
        <p:spPr>
          <a:xfrm>
            <a:off x="4910040" y="1392120"/>
            <a:ext cx="3533760" cy="857520"/>
          </a:xfrm>
          <a:prstGeom prst="rect">
            <a:avLst/>
          </a:prstGeom>
          <a:ln w="0">
            <a:noFill/>
          </a:ln>
        </p:spPr>
      </p:pic>
      <p:pic>
        <p:nvPicPr>
          <p:cNvPr id="665" name="Рисунок 10" descr=""/>
          <p:cNvPicPr/>
          <p:nvPr/>
        </p:nvPicPr>
        <p:blipFill>
          <a:blip r:embed="rId8"/>
          <a:stretch/>
        </p:blipFill>
        <p:spPr>
          <a:xfrm>
            <a:off x="611280" y="1373040"/>
            <a:ext cx="353376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1" dur="174579" fill="hold"/>
                                        <p:tgtEl>
                                          <p:spTgt spid="6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Горизонтальный свиток 23"/>
          <p:cNvSpPr/>
          <p:nvPr/>
        </p:nvSpPr>
        <p:spPr>
          <a:xfrm>
            <a:off x="1908000" y="4443480"/>
            <a:ext cx="5384880" cy="73332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67" name="Picture 22" descr=""/>
          <p:cNvPicPr/>
          <p:nvPr/>
        </p:nvPicPr>
        <p:blipFill>
          <a:blip r:embed="rId1"/>
          <a:stretch/>
        </p:blipFill>
        <p:spPr>
          <a:xfrm>
            <a:off x="1908000" y="5253120"/>
            <a:ext cx="5384880" cy="896760"/>
          </a:xfrm>
          <a:prstGeom prst="rect">
            <a:avLst/>
          </a:prstGeom>
          <a:ln w="0">
            <a:noFill/>
          </a:ln>
        </p:spPr>
      </p:pic>
      <p:pic>
        <p:nvPicPr>
          <p:cNvPr id="668" name="Заголовок 1" descr=""/>
          <p:cNvPicPr/>
          <p:nvPr/>
        </p:nvPicPr>
        <p:blipFill>
          <a:blip r:embed="rId2"/>
          <a:stretch/>
        </p:blipFill>
        <p:spPr>
          <a:xfrm>
            <a:off x="73080" y="414360"/>
            <a:ext cx="8924760" cy="1255680"/>
          </a:xfrm>
          <a:prstGeom prst="rect">
            <a:avLst/>
          </a:prstGeom>
          <a:ln w="0">
            <a:noFill/>
          </a:ln>
        </p:spPr>
      </p:pic>
      <p:sp>
        <p:nvSpPr>
          <p:cNvPr id="669" name="Дата 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8A7F-DA80-4E58-8F73-B00203C95D10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0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B10D-90FD-45D2-A343-BBB15EB90E0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1" name="Прямоугольник 6"/>
          <p:cNvSpPr/>
          <p:nvPr/>
        </p:nvSpPr>
        <p:spPr>
          <a:xfrm>
            <a:off x="3323160" y="5411880"/>
            <a:ext cx="27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ышкин дом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2" name="Прямоугольник 8"/>
          <p:cNvSpPr/>
          <p:nvPr/>
        </p:nvSpPr>
        <p:spPr>
          <a:xfrm>
            <a:off x="1909800" y="4541760"/>
            <a:ext cx="51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ассказ об известном герое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3" name="Горизонтальный свиток 4"/>
          <p:cNvSpPr/>
          <p:nvPr/>
        </p:nvSpPr>
        <p:spPr>
          <a:xfrm>
            <a:off x="1908000" y="3522600"/>
            <a:ext cx="5424840" cy="84312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4" name="Picture 19" descr=""/>
          <p:cNvPicPr/>
          <p:nvPr/>
        </p:nvPicPr>
        <p:blipFill>
          <a:blip r:embed="rId3"/>
          <a:stretch/>
        </p:blipFill>
        <p:spPr>
          <a:xfrm>
            <a:off x="1908000" y="2708280"/>
            <a:ext cx="5424840" cy="8143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0" descr=""/>
          <p:cNvPicPr/>
          <p:nvPr/>
        </p:nvPicPr>
        <p:blipFill>
          <a:blip r:embed="rId4"/>
          <a:stretch/>
        </p:blipFill>
        <p:spPr>
          <a:xfrm>
            <a:off x="1908000" y="1889280"/>
            <a:ext cx="5424840" cy="8190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1" descr=""/>
          <p:cNvPicPr/>
          <p:nvPr/>
        </p:nvPicPr>
        <p:blipFill>
          <a:blip r:embed="rId5"/>
          <a:stretch/>
        </p:blipFill>
        <p:spPr>
          <a:xfrm>
            <a:off x="1908000" y="1125360"/>
            <a:ext cx="5424840" cy="763920"/>
          </a:xfrm>
          <a:prstGeom prst="rect">
            <a:avLst/>
          </a:prstGeom>
          <a:ln w="0">
            <a:noFill/>
          </a:ln>
        </p:spPr>
      </p:pic>
      <p:sp>
        <p:nvSpPr>
          <p:cNvPr id="677" name="TextBox 6"/>
          <p:cNvSpPr/>
          <p:nvPr/>
        </p:nvSpPr>
        <p:spPr>
          <a:xfrm>
            <a:off x="2975760" y="1246320"/>
            <a:ext cx="33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етки в зоопарке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8" name="TextBox 8"/>
          <p:cNvSpPr/>
          <p:nvPr/>
        </p:nvSpPr>
        <p:spPr>
          <a:xfrm>
            <a:off x="2641680" y="2038320"/>
            <a:ext cx="40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надцать  месяцев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9" name="TextBox 6"/>
          <p:cNvSpPr/>
          <p:nvPr/>
        </p:nvSpPr>
        <p:spPr>
          <a:xfrm>
            <a:off x="3035160" y="3683160"/>
            <a:ext cx="33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рок грубости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0" name="TextBox 8"/>
          <p:cNvSpPr/>
          <p:nvPr/>
        </p:nvSpPr>
        <p:spPr>
          <a:xfrm>
            <a:off x="2643120" y="2851200"/>
            <a:ext cx="40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ткуда стул пришёл?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1" name="TextBox 9"/>
          <p:cNvSpPr/>
          <p:nvPr/>
        </p:nvSpPr>
        <p:spPr>
          <a:xfrm>
            <a:off x="4500720" y="1246320"/>
            <a:ext cx="150156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ке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2" name="TextBox 10"/>
          <p:cNvSpPr/>
          <p:nvPr/>
        </p:nvSpPr>
        <p:spPr>
          <a:xfrm>
            <a:off x="2917800" y="2038320"/>
            <a:ext cx="209376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надцать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3" name="TextBox 11"/>
          <p:cNvSpPr/>
          <p:nvPr/>
        </p:nvSpPr>
        <p:spPr>
          <a:xfrm>
            <a:off x="4096800" y="2854440"/>
            <a:ext cx="88956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4" name="TextBox 12"/>
          <p:cNvSpPr/>
          <p:nvPr/>
        </p:nvSpPr>
        <p:spPr>
          <a:xfrm flipH="1">
            <a:off x="4207680" y="3683160"/>
            <a:ext cx="238932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ливости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3708360" y="4548240"/>
            <a:ext cx="352764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вестном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ерое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6" name="TextBox 14"/>
          <p:cNvSpPr/>
          <p:nvPr/>
        </p:nvSpPr>
        <p:spPr>
          <a:xfrm>
            <a:off x="3564000" y="5415120"/>
            <a:ext cx="158436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ин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87" name="Рисунок 1" descr=""/>
          <p:cNvPicPr/>
          <p:nvPr/>
        </p:nvPicPr>
        <p:blipFill>
          <a:blip r:embed="rId6"/>
          <a:stretch/>
        </p:blipFill>
        <p:spPr>
          <a:xfrm>
            <a:off x="8101080" y="3110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Заголовок 1" descr=""/>
          <p:cNvPicPr/>
          <p:nvPr/>
        </p:nvPicPr>
        <p:blipFill>
          <a:blip r:embed="rId1"/>
          <a:stretch/>
        </p:blipFill>
        <p:spPr>
          <a:xfrm>
            <a:off x="244440" y="4797360"/>
            <a:ext cx="8601120" cy="172584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380520" y="333000"/>
            <a:ext cx="8458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562" name="img_14" descr="16626303"/>
          <p:cNvPicPr/>
          <p:nvPr/>
        </p:nvPicPr>
        <p:blipFill>
          <a:blip r:embed="rId2"/>
          <a:stretch/>
        </p:blipFill>
        <p:spPr>
          <a:xfrm>
            <a:off x="1116000" y="0"/>
            <a:ext cx="6732720" cy="4797360"/>
          </a:xfrm>
          <a:prstGeom prst="rect">
            <a:avLst/>
          </a:prstGeom>
          <a:ln w="28440">
            <a:solidFill>
              <a:srgbClr val="9158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Заголовок 1" descr=""/>
          <p:cNvPicPr/>
          <p:nvPr/>
        </p:nvPicPr>
        <p:blipFill>
          <a:blip r:embed="rId1"/>
          <a:stretch/>
        </p:blipFill>
        <p:spPr>
          <a:xfrm>
            <a:off x="73080" y="414360"/>
            <a:ext cx="8924760" cy="1255680"/>
          </a:xfrm>
          <a:prstGeom prst="rect">
            <a:avLst/>
          </a:prstGeom>
          <a:ln w="0">
            <a:noFill/>
          </a:ln>
        </p:spPr>
      </p:pic>
      <p:sp>
        <p:nvSpPr>
          <p:cNvPr id="689" name="Дата 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7160-F130-4364-810A-BF450CAD6CF2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0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4B5D-A1FE-4E39-B262-6B47FA8D1F3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2"/>
          <a:stretch/>
        </p:blipFill>
        <p:spPr>
          <a:xfrm>
            <a:off x="1033560" y="1351080"/>
            <a:ext cx="6764400" cy="4133880"/>
          </a:xfrm>
          <a:prstGeom prst="rect">
            <a:avLst/>
          </a:prstGeom>
          <a:ln w="0">
            <a:noFill/>
          </a:ln>
        </p:spPr>
      </p:pic>
      <p:sp>
        <p:nvSpPr>
          <p:cNvPr id="692" name="Прямоугольник 5"/>
          <p:cNvSpPr/>
          <p:nvPr/>
        </p:nvSpPr>
        <p:spPr>
          <a:xfrm>
            <a:off x="1763640" y="1847880"/>
            <a:ext cx="56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открыла дверцу Лена -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кочил огонь с ______  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3" name="Прямоугольник 6"/>
          <p:cNvSpPr/>
          <p:nvPr/>
        </p:nvSpPr>
        <p:spPr>
          <a:xfrm>
            <a:off x="4721400" y="227664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на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4" name="Прямоугольник 7"/>
          <p:cNvSpPr/>
          <p:nvPr/>
        </p:nvSpPr>
        <p:spPr>
          <a:xfrm>
            <a:off x="1793880" y="27147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д печкой выжег пол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лез по скатерти на ____ 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5" name="Прямоугольник 8"/>
          <p:cNvSpPr/>
          <p:nvPr/>
        </p:nvSpPr>
        <p:spPr>
          <a:xfrm>
            <a:off x="1820880" y="358776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ежал по стульям с треском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рх пополз по ___________ 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6" name="Прямоугольник 9"/>
          <p:cNvSpPr/>
          <p:nvPr/>
        </p:nvSpPr>
        <p:spPr>
          <a:xfrm>
            <a:off x="1824120" y="45036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ены дымом заволок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жет пол и ________ 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7" name="Прямоугольник 10"/>
          <p:cNvSpPr/>
          <p:nvPr/>
        </p:nvSpPr>
        <p:spPr>
          <a:xfrm>
            <a:off x="5138280" y="314496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8" name="Прямоугольник 11"/>
          <p:cNvSpPr/>
          <p:nvPr/>
        </p:nvSpPr>
        <p:spPr>
          <a:xfrm>
            <a:off x="4726800" y="400680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авескам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9" name="Прямоугольник 12"/>
          <p:cNvSpPr/>
          <p:nvPr/>
        </p:nvSpPr>
        <p:spPr>
          <a:xfrm>
            <a:off x="4044600" y="4933800"/>
            <a:ext cx="14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лок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0" name="TextBox 13"/>
          <p:cNvSpPr/>
          <p:nvPr/>
        </p:nvSpPr>
        <p:spPr>
          <a:xfrm>
            <a:off x="5799960" y="587700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жар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701" name="Рисунок 1" descr=""/>
          <p:cNvPicPr/>
          <p:nvPr/>
        </p:nvPicPr>
        <p:blipFill>
          <a:blip r:embed="rId3"/>
          <a:stretch/>
        </p:blipFill>
        <p:spPr>
          <a:xfrm>
            <a:off x="8007480" y="39852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Заголовок 1" descr=""/>
          <p:cNvPicPr/>
          <p:nvPr/>
        </p:nvPicPr>
        <p:blipFill>
          <a:blip r:embed="rId1"/>
          <a:stretch/>
        </p:blipFill>
        <p:spPr>
          <a:xfrm>
            <a:off x="231840" y="378000"/>
            <a:ext cx="8467560" cy="1371600"/>
          </a:xfrm>
          <a:prstGeom prst="rect">
            <a:avLst/>
          </a:prstGeom>
          <a:ln w="0">
            <a:noFill/>
          </a:ln>
        </p:spPr>
      </p:pic>
      <p:sp>
        <p:nvSpPr>
          <p:cNvPr id="703" name="Дата 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7244-4D22-486E-9435-9E8287F20C3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4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AF7A-B343-4D1F-BC2E-4636831FC3E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705" name="Рисунок 4" descr=""/>
          <p:cNvPicPr/>
          <p:nvPr/>
        </p:nvPicPr>
        <p:blipFill>
          <a:blip r:embed="rId2"/>
          <a:stretch/>
        </p:blipFill>
        <p:spPr>
          <a:xfrm>
            <a:off x="7932600" y="4651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06" name="Рисунок 5" descr=""/>
          <p:cNvPicPr/>
          <p:nvPr/>
        </p:nvPicPr>
        <p:blipFill>
          <a:blip r:embed="rId3"/>
          <a:stretch/>
        </p:blipFill>
        <p:spPr>
          <a:xfrm>
            <a:off x="6041880" y="2836800"/>
            <a:ext cx="1305000" cy="1238400"/>
          </a:xfrm>
          <a:prstGeom prst="rect">
            <a:avLst/>
          </a:prstGeom>
          <a:ln w="0">
            <a:noFill/>
          </a:ln>
        </p:spPr>
      </p:pic>
      <p:pic>
        <p:nvPicPr>
          <p:cNvPr id="707" name="detskie_-_pesenka_mamontenka Minusovki.MpTri.Net.mp3" descr=""/>
          <p:cNvPicPr/>
          <p:nvPr/>
        </p:nvPicPr>
        <p:blipFill>
          <a:blip r:embed="rId4"/>
          <a:stretch/>
        </p:blipFill>
        <p:spPr>
          <a:xfrm>
            <a:off x="7323120" y="524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0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9" name="AutoShape 13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0" name="AutoShape 15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711" name="Рисунок 6" descr=""/>
          <p:cNvPicPr/>
          <p:nvPr/>
        </p:nvPicPr>
        <p:blipFill>
          <a:blip r:embed="rId5"/>
          <a:stretch/>
        </p:blipFill>
        <p:spPr>
          <a:xfrm>
            <a:off x="971640" y="1663560"/>
            <a:ext cx="358272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restart="whenNotActive" nodeType="interactiveSeq" fill="hold">
                <p:stCondLst>
                  <p:cond evt="onClick">
                    <p:tgtEl>
                      <p:spTgt spid="707"/>
                    </p:tgtEl>
                  </p:cond>
                </p:stCondLst>
                <p:childTnLst>
                  <p:par>
                    <p:cTn id="452" nodeType="clickEffect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1" fill="hold"/>
                                        <p:tgtEl>
                                          <p:spTgt spid="7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Горизонтальный свиток 5"/>
          <p:cNvSpPr/>
          <p:nvPr/>
        </p:nvSpPr>
        <p:spPr>
          <a:xfrm>
            <a:off x="4114800" y="1844640"/>
            <a:ext cx="5003640" cy="31258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713" name="Заголовок 1" descr=""/>
          <p:cNvPicPr/>
          <p:nvPr/>
        </p:nvPicPr>
        <p:blipFill>
          <a:blip r:embed="rId1"/>
          <a:stretch/>
        </p:blipFill>
        <p:spPr>
          <a:xfrm>
            <a:off x="3913200" y="2255760"/>
            <a:ext cx="8632800" cy="2249640"/>
          </a:xfrm>
          <a:prstGeom prst="rect">
            <a:avLst/>
          </a:prstGeom>
          <a:ln w="0">
            <a:noFill/>
          </a:ln>
        </p:spPr>
      </p:pic>
      <p:sp>
        <p:nvSpPr>
          <p:cNvPr id="714" name="Дата 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C018-BCE4-44FE-869B-705CB0B201E4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5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DA95-42E5-45FD-B16E-93D967757EA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716" name="Рисунок 5" descr=""/>
          <p:cNvPicPr/>
          <p:nvPr/>
        </p:nvPicPr>
        <p:blipFill>
          <a:blip r:embed="rId2"/>
          <a:stretch/>
        </p:blipFill>
        <p:spPr>
          <a:xfrm>
            <a:off x="7451640" y="4665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2" descr="http://s-marshak.ru/autographs/nadpis/nadpis15_1.jpg"/>
          <p:cNvPicPr/>
          <p:nvPr/>
        </p:nvPicPr>
        <p:blipFill>
          <a:blip r:embed="rId3"/>
          <a:stretch/>
        </p:blipFill>
        <p:spPr>
          <a:xfrm>
            <a:off x="108000" y="1197000"/>
            <a:ext cx="36957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Rectangle 2" descr=""/>
          <p:cNvPicPr/>
          <p:nvPr/>
        </p:nvPicPr>
        <p:blipFill>
          <a:blip r:embed="rId1"/>
          <a:stretch/>
        </p:blipFill>
        <p:spPr>
          <a:xfrm>
            <a:off x="85680" y="542880"/>
            <a:ext cx="8620200" cy="2024280"/>
          </a:xfrm>
          <a:prstGeom prst="rect">
            <a:avLst/>
          </a:prstGeom>
          <a:ln w="0">
            <a:noFill/>
          </a:ln>
        </p:spPr>
      </p:pic>
      <p:pic>
        <p:nvPicPr>
          <p:cNvPr id="719" name="Рисунок 2" descr=""/>
          <p:cNvPicPr/>
          <p:nvPr/>
        </p:nvPicPr>
        <p:blipFill>
          <a:blip r:embed="rId2"/>
          <a:stretch/>
        </p:blipFill>
        <p:spPr>
          <a:xfrm>
            <a:off x="3995640" y="2824200"/>
            <a:ext cx="1838520" cy="2857320"/>
          </a:xfrm>
          <a:prstGeom prst="rect">
            <a:avLst/>
          </a:prstGeom>
          <a:ln w="0">
            <a:noFill/>
          </a:ln>
        </p:spPr>
      </p:pic>
      <p:pic>
        <p:nvPicPr>
          <p:cNvPr id="720" name="Рисунок 3" descr=""/>
          <p:cNvPicPr/>
          <p:nvPr/>
        </p:nvPicPr>
        <p:blipFill>
          <a:blip r:embed="rId3"/>
          <a:stretch/>
        </p:blipFill>
        <p:spPr>
          <a:xfrm rot="571200">
            <a:off x="5563800" y="2676600"/>
            <a:ext cx="3533760" cy="857160"/>
          </a:xfrm>
          <a:prstGeom prst="rect">
            <a:avLst/>
          </a:prstGeom>
          <a:ln w="0">
            <a:noFill/>
          </a:ln>
        </p:spPr>
      </p:pic>
      <p:pic>
        <p:nvPicPr>
          <p:cNvPr id="721" name="Рисунок 4" descr=""/>
          <p:cNvPicPr/>
          <p:nvPr/>
        </p:nvPicPr>
        <p:blipFill>
          <a:blip r:embed="rId4"/>
          <a:stretch/>
        </p:blipFill>
        <p:spPr>
          <a:xfrm rot="20790600">
            <a:off x="519120" y="2676600"/>
            <a:ext cx="3533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609120"/>
            <a:ext cx="447516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Первый раз произведения Самуила Яковлевича Маршака напечатали в 1907 году. Это были лирические стихи и перевод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Самуил Яковлевич по праву считается, мастером художественного перевода, замечательным драматургом и одним из создателей детской литературы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65" name="Picture 7" descr="С.Я. Маршак. 1927 г."/>
          <p:cNvPicPr/>
          <p:nvPr/>
        </p:nvPicPr>
        <p:blipFill>
          <a:blip r:embed="rId1"/>
          <a:stretch/>
        </p:blipFill>
        <p:spPr>
          <a:xfrm>
            <a:off x="5508720" y="692280"/>
            <a:ext cx="3076560" cy="476244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35640" y="2707920"/>
            <a:ext cx="347976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0800" y="666360"/>
            <a:ext cx="3354120" cy="26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80800" y="4436640"/>
            <a:ext cx="42908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В 12 лет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Самуил Яковлевич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писал целые поэмы</a:t>
            </a:r>
            <a:r>
              <a:rPr b="0" lang="ru-RU" sz="2400" spc="-1" strike="noStrike">
                <a:solidFill>
                  <a:srgbClr val="6633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647960" y="333000"/>
            <a:ext cx="4289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Franklin Gothic Book"/>
              </a:rPr>
              <a:t>А началось всё, когда Маршаку было всего 4 года, уже тогда он пытался сочинять стихотворные строчки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71" name="Picture 12" descr="detstvo01"/>
          <p:cNvPicPr/>
          <p:nvPr/>
        </p:nvPicPr>
        <p:blipFill>
          <a:blip r:embed="rId1"/>
          <a:srcRect l="0" t="0" r="0" b="11104"/>
          <a:stretch/>
        </p:blipFill>
        <p:spPr>
          <a:xfrm>
            <a:off x="539640" y="333360"/>
            <a:ext cx="3097440" cy="374328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72" name="Picture 8" descr="detstvo02"/>
          <p:cNvPicPr/>
          <p:nvPr/>
        </p:nvPicPr>
        <p:blipFill>
          <a:blip r:embed="rId2"/>
          <a:stretch/>
        </p:blipFill>
        <p:spPr>
          <a:xfrm>
            <a:off x="5580000" y="2708280"/>
            <a:ext cx="3024360" cy="367344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575160" y="609120"/>
            <a:ext cx="5340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66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3300"/>
                </a:solidFill>
                <a:latin typeface="Franklin Gothic Book"/>
              </a:rPr>
              <a:t>Самуил Яковлевич Маршак всю жизнь был добрым другом детей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66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66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3300"/>
                </a:solidFill>
                <a:latin typeface="Franklin Gothic Book"/>
              </a:rPr>
              <a:t>В своих произведениях он учил ребят радоваться красоте поэтического слова. Показывал, что стихами можно рассказывать занимательные и поучительные истории и сказк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76" name="Picture 6" descr="95642654_orig"/>
          <p:cNvPicPr/>
          <p:nvPr/>
        </p:nvPicPr>
        <p:blipFill>
          <a:blip r:embed="rId1"/>
          <a:stretch/>
        </p:blipFill>
        <p:spPr>
          <a:xfrm>
            <a:off x="684360" y="1484280"/>
            <a:ext cx="2225520" cy="309888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7" name=""/>
          <p:cNvSpPr txBox="1"/>
          <p:nvPr/>
        </p:nvSpPr>
        <p:spPr>
          <a:xfrm>
            <a:off x="3575160" y="609120"/>
            <a:ext cx="5340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8" descr="С. Маршак Детки в клетке"/>
          <p:cNvPicPr/>
          <p:nvPr/>
        </p:nvPicPr>
        <p:blipFill>
          <a:blip r:embed="rId1"/>
          <a:stretch/>
        </p:blipFill>
        <p:spPr>
          <a:xfrm>
            <a:off x="324000" y="620640"/>
            <a:ext cx="3313080" cy="5329440"/>
          </a:xfrm>
          <a:prstGeom prst="rect">
            <a:avLst/>
          </a:prstGeom>
          <a:ln w="76320">
            <a:solidFill>
              <a:srgbClr val="a5644e"/>
            </a:solidFill>
            <a:miter/>
          </a:ln>
        </p:spPr>
      </p:pic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814560" y="189000"/>
            <a:ext cx="53290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Первая детская книга Самуила Яковлевича Маршака называлась — «Детки в клетке» и   была выпущена в 1923 году.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Его произведения для детей - это краткие рассказы в стихах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Вряд ли сегодня найдётся ребёнок, незнакомый с  творчеством Самуила Яковлевича Маршак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779640" y="333360"/>
            <a:ext cx="51116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Первые детские стихи поэт написал о самых маленьких и для самых маленьких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Герои многих произведений Самуила Яковлевича Маршака – животные. Рассказывая о них, писатель подразумевает поступки людей и взаимоотношения между ним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81" name="Picture 8" descr="95980761_orig"/>
          <p:cNvPicPr/>
          <p:nvPr/>
        </p:nvPicPr>
        <p:blipFill>
          <a:blip r:embed="rId1"/>
          <a:stretch/>
        </p:blipFill>
        <p:spPr>
          <a:xfrm>
            <a:off x="250920" y="549360"/>
            <a:ext cx="3584520" cy="5113080"/>
          </a:xfrm>
          <a:prstGeom prst="rect">
            <a:avLst/>
          </a:prstGeom>
          <a:ln w="76320">
            <a:solidFill>
              <a:srgbClr val="a5644e"/>
            </a:solidFill>
            <a:miter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541008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160" y="188640"/>
            <a:ext cx="27064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8000"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b0761f"/>
                </a:solidFill>
                <a:latin typeface="Franklin Gothic Medium"/>
              </a:rPr>
              <a:t>ИЗ ВОСПОМИНАНИЙ САМУИЛА ЯКОВЛЕВИЧА  МАРШАКА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2987640" y="259920"/>
            <a:ext cx="5950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35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ПУШКИН НЕ ОБИДИТСЯ!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80800" y="1125360"/>
            <a:ext cx="42908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ак-то Самуил Яковлевич Маршак в шутку спросил своего пятилетнего сына: «Чьи сказки тебе больше нравятся — мои или Александра Сергеевича  Пушкина?»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Мальчик сначала ничего не ответил. Тогда Самуил Яковлевич  сказал: «Ты может свободно высказать свое мнение, так как «Пушкин не обидится».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Мальчик, видимо, понял шутку, еще немного подумал и сказал: «Тогда обидишься ты»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1"/>
          <a:stretch/>
        </p:blipFill>
        <p:spPr>
          <a:xfrm>
            <a:off x="5594400" y="1316160"/>
            <a:ext cx="293832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0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7" descr="doski02-1"/>
          <p:cNvPicPr/>
          <p:nvPr/>
        </p:nvPicPr>
        <p:blipFill>
          <a:blip r:embed="rId1"/>
          <a:stretch/>
        </p:blipFill>
        <p:spPr>
          <a:xfrm>
            <a:off x="4716360" y="692280"/>
            <a:ext cx="351000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88" name="Rectangle 2" descr=""/>
          <p:cNvPicPr/>
          <p:nvPr/>
        </p:nvPicPr>
        <p:blipFill>
          <a:blip r:embed="rId2"/>
          <a:stretch/>
        </p:blipFill>
        <p:spPr>
          <a:xfrm>
            <a:off x="285840" y="-19080"/>
            <a:ext cx="8407440" cy="10000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" descr="doski02-2"/>
          <p:cNvPicPr/>
          <p:nvPr/>
        </p:nvPicPr>
        <p:blipFill>
          <a:blip r:embed="rId3"/>
          <a:stretch/>
        </p:blipFill>
        <p:spPr>
          <a:xfrm>
            <a:off x="250920" y="981000"/>
            <a:ext cx="4074840" cy="25272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250560" y="3860280"/>
            <a:ext cx="85071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Большая часть жизнь Самуила Яковлевича связана с Москво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Об этом напоминает памятная доска, установленная на доме № 14/16 по улице Чкалова, где он жил и работал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0:20:39Z</dcterms:created>
  <dc:creator>иванова</dc:creator>
  <dc:description/>
  <dc:language>en-US</dc:language>
  <cp:lastModifiedBy>Администратор</cp:lastModifiedBy>
  <dcterms:modified xsi:type="dcterms:W3CDTF">2012-11-13T17:19:13Z</dcterms:modified>
  <cp:revision>61</cp:revision>
  <dc:subject/>
  <dc:title> САМУИЛ  ЯКОВЛЕВИЧ  МАРШАК          1887 – 1964 Г.Г.</dc:title>
</cp:coreProperties>
</file>