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3.png" ContentType="image/png"/>
  <Override PartName="/ppt/media/image33.png" ContentType="image/png"/>
  <Override PartName="/ppt/media/image2.png" ContentType="image/png"/>
  <Override PartName="/ppt/media/image32.png" ContentType="image/png"/>
  <Override PartName="/ppt/media/image12.jpeg" ContentType="image/jpeg"/>
  <Override PartName="/ppt/media/image13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1.png" ContentType="image/png"/>
  <Override PartName="/ppt/media/image38.gif" ContentType="image/gif"/>
  <Override PartName="/ppt/media/image43.png" ContentType="image/png"/>
  <Override PartName="/ppt/media/image50.gif" ContentType="image/gif"/>
  <Override PartName="/ppt/media/image44.png" ContentType="image/png"/>
  <Override PartName="/ppt/media/image46.jpeg" ContentType="image/jpeg"/>
  <Override PartName="/ppt/media/image48.jpeg" ContentType="image/jpeg"/>
  <Override PartName="/ppt/media/image49.png" ContentType="image/png"/>
  <Override PartName="/ppt/media/image5.png" ContentType="image/png"/>
  <Override PartName="/ppt/media/image29.jpeg" ContentType="image/jpeg"/>
  <Override PartName="/ppt/media/image37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7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45.gif" ContentType="image/gif"/>
  <Override PartName="/ppt/media/image8.png" ContentType="image/png"/>
  <Override PartName="/ppt/media/image25.gif" ContentType="image/gif"/>
  <Override PartName="/ppt/media/image6.jpeg" ContentType="image/jpeg"/>
  <Override PartName="/ppt/media/image2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3713-6AB6-4593-81AC-349E3D47C4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DA0D-DF34-41C6-9E25-18FF5B208F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02F-31B0-4969-83BE-8400EA3C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805-9A58-40E2-B687-4A44E155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702FE-86F1-4CE5-A4F5-93A47045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C5E47-42DC-4D00-B5C8-91DEBB99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4770A-6F51-42B7-840D-2E4A87A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F7A53-37C7-4B43-A26C-B060F3A4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40447-375F-4A88-A5FC-65D5283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2F8D9-D5D5-42E1-B0EB-37BD7DA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7F2B-FE6F-4C23-B824-5834C514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11E52-7942-4C8B-81C8-CF3E9BC8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F2940-F8B3-4A63-B895-56E43C20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A4539-5C8E-472C-9AE0-5772FC73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96B-B3D1-45B1-90A3-E39F604C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E9EFB-B27A-4DDB-B371-A5018D24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FB1D5-A7BF-4D60-88FB-630D2812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259AD-1BF5-4CAD-81EA-0A7F2FC3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834A2-B798-41F0-8F9D-4E2F44F2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A1135-EE58-4D20-B274-B0E83DB6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F26CF-C17B-43B4-8E4B-A02FBA96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75B07-7B84-4D61-AADD-923BD51E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BA018-1878-4C09-B710-FB06395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1FA27-B861-4DC6-9E50-145599B1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9EABC-9080-4555-B678-45D5E53B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FBA-B6CF-429B-AD69-E2B73D69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95388-13B2-4C2F-8FFD-08E88D04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F94EC-32EB-481E-8985-66040DE3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9CFE-ACC3-489D-95B9-B4F88C4E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F6451-21BD-4473-8EC4-EC2E271C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B05DE-A5AC-4ABD-B15A-A0EDC017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E755A-EDB8-4534-9331-6A23EE80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4EC10-5064-4559-862B-60FB4858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5FC5B-2B8B-4C4F-ABFB-FB10D81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92314-A9C3-42DF-945E-DF6DA98C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79B4C-328C-4461-845E-651C4E56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BFAE-1DD5-45DF-8766-6248D594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FEF95-9487-48F9-B20B-88576AA8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DDD8-5D9E-45A2-B2A5-CC640A2C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37C67-07FD-469E-9D5F-067739D2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FB7E0-7A52-40AC-B4D5-736FCD9F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B0E5B-882E-453C-9AE6-331B5722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10E40-22C2-41F8-AEB3-515E6355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361F3-4CB7-4AD3-9D00-68170200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3BCDD-1E8E-4EE2-9418-AF8CA4DD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836F9-5F48-415B-99C7-C1F29D29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6EAE5-9666-4905-A312-6DCD1692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A6E6-80D4-4D98-9E1E-D02CFBCC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FB8B8-440D-4BA9-BD10-B03C199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63A43-DCA7-40E4-842F-666F97B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3A4FC-12DE-49D9-A81D-F3A95E7A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7A1C6-1000-4D1B-9EA2-99F03372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A14F0-BE72-4B29-AF84-5C58DF47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92EF-D15D-40BF-B85A-7BBA38EA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1AE3-0222-4120-AC12-1E38C6B2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151C-54D0-43A8-9F4B-E2346EE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C4A7-E4A6-4156-81C2-27681445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47DB-3C2B-47D4-B74E-6C1B2154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F15-4523-4DB7-9CF1-948EC99E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287B-7884-4746-ADFC-F9A1CF5E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A89B-5F0B-46C9-8750-735FB8F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5E12-BFA7-4929-958C-87BAA416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2501-E6AD-460D-86BA-4BAE4A76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237A-F297-43D4-B8BE-801FDE4E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200F-57A5-4781-9C10-F21427E9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C1E5-1F3D-4104-AECF-E8022B61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EC1C-F559-4658-B856-0984ACF4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CFDF-0C25-4F43-844B-0CDA781F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0AAE-C153-4AB0-883F-B0A8A300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4BF-B3C3-4CC6-8202-F77B2AC5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F323-F825-40CC-8EC2-273EA84E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8A2D-4759-41F6-AC1E-AB54BE3F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4B76-12A4-4A98-96F7-D6E4EE4D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DEEB-2370-4EC5-B7C0-0E0D3352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7731-2B2A-496A-A061-3029931E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1880-08C9-4A07-94AC-303EA2F0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6AEF0-B23C-40C7-B50A-5C42D13D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769E-3BD6-41BF-8E8E-8DC0E6B4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91315-C9AD-4DEB-A193-3581438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281F8-58C6-4853-A11A-3860376A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91B-70EE-4EA5-96E5-4AC0076A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D1B1-976D-4169-833A-BD0AD9AE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50FB-D09E-406C-B3F8-73984F88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A2F1-A1C4-4FC7-9C74-2EE69F97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9209-8388-442C-BA4E-91375032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D3BD-E64E-4E2B-BB6A-F2FF939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D6CA3-C8DD-4909-BAE5-3A136CF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5A7F-2728-4D90-B260-B3AD4FD9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B4A3-2CD2-461B-9A2A-1744C2BE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0EF8-64F4-45EF-8400-04C82F65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7BC2B-1D08-4683-BFCC-D5AA490E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03D-35AD-4382-9BC9-96FEC63F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F2C6-1C97-468B-BB5F-D3737E15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B549E-3885-4656-BA11-CD25817C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FCF8D-E474-4A37-9870-014E106A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4D65-8505-41FA-AE96-7817F269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5890-3C48-44EC-9F5C-51247083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09028-6219-4DD7-AB16-C5AF4AC8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6E421-096F-42EA-9163-A4E393E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97C79-6288-4D00-B6C3-9DBD5857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B527-F2D2-4D68-8362-C13B664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1A2C6-1CC8-4A27-96D9-4E56ABC6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E8E-E309-4B16-AD7C-828C2D4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94C1-2EA2-4761-A480-D44816DF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7E22F-E27E-4F9B-A938-6192C6AE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0AE8-DDB4-46DC-A876-683C7DEE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859F8-ADFA-47C0-B206-6951D41B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F61E6-0361-42D4-8AF0-C4EB7AC1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E183E-EE72-45E9-BED3-061F888E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BAE21-3EDE-4C8A-A50D-7795DBF9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E254-4659-4A15-963E-9657098D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2B504-FD58-485A-B44C-1474B18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479B-DEAA-4695-B25E-A8DAA4BF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61B-DE62-46E2-A921-1D388501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B026-1556-4B3D-A6AB-8B755AB4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2F45-BAA2-4AFD-AF7B-4703E386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8DA4E-8D0B-4D88-83E4-66ECFF96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EA87-5FCE-4727-8E05-4E3AF0A1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22A19-1719-4A38-8C82-D28AA9E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F9AA8-C0F3-4E1A-8695-FAEB43FA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558B-BD9F-4097-BFDB-7A67D3EC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DA680-C0D9-4151-BB2F-F5986218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A76F-E11B-4743-A7C0-6675B41D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BECCE-1D41-42B7-87B8-F7F274D1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09F-51C4-4166-B2AE-2D375069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8827-DD5B-4341-BAD3-AAE12F7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7AF16-32F6-4176-B152-E9100FB9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E7271-7464-4240-B5E8-672B3333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F47F2-9387-4F52-A408-F5483ACE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0C6F-6575-4681-8BE3-11E68423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CC9B9-B578-4620-812B-BDACBB65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FFA75-F3C5-479E-8505-0C8881D0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43582-28D6-4F10-B4C4-72217D96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ABB8-2199-4745-93DE-846F76B2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9DBDE-4EDF-47CC-A6DC-42611B6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D98-E1FB-4935-9EA0-3787B2C1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3E14C-F169-462A-91F5-99CD0444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1C1C2-49C4-4AE9-B425-B33F2D26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B1851-CE65-45FC-8F5F-BCCF810E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2E885-3EEE-40EE-B895-BA8615D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F55C8-5F62-4714-996D-EE15E4E7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3B341-C5B0-4534-ACD9-0475F571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91F0D-7E0A-48AA-B94E-85306816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C293-D83B-4D4B-8A79-FDBFA365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AFADB-F9ED-455C-90F0-5D6F666B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3B2F2-BFB0-4D45-B74C-661E7B2A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F0E7-3594-4AF1-9BDF-19A7911F43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CAB-7A49-4D18-9A5B-84054C1259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5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5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7FE6-963E-4595-A5E7-9AC9E9E256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53D3-9E95-4524-99BD-B370BEEE3F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CAD3-91EE-42C6-990A-C249F00C05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0678-5A24-417D-987E-DB6B9B9CCF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58E9-EEC9-4072-8B7F-B78CAB64D95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F916-567A-4E48-99D0-C844C3B17F6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F12E-E4E7-4E2B-8BF3-1C4BB0EFD8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AF11-7653-4426-B7CF-F6E8906262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D6E1-B89D-4B70-97A5-869C09C0B84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59F5-C3CA-4379-9A88-6AEC15938CE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5.gif"/><Relationship Id="rId3" Type="http://schemas.openxmlformats.org/officeDocument/2006/relationships/image" Target="../media/image45.gif"/><Relationship Id="rId4" Type="http://schemas.openxmlformats.org/officeDocument/2006/relationships/image" Target="../media/image7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5.gif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291960" y="4761000"/>
            <a:ext cx="8553600" cy="16891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356000" y="1197000"/>
            <a:ext cx="33847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      </a:t>
            </a: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ПОЭ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ПЕРЕВОДЧИ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ДРАМАТУРГ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РЕДАКТО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1581f"/>
                </a:solidFill>
                <a:latin typeface="Franklin Gothic Book"/>
              </a:rPr>
              <a:t>ЛИТЕРАТУРНЫЙ КРИТИ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8" name="img_1" descr="95642654"/>
          <p:cNvPicPr/>
          <p:nvPr/>
        </p:nvPicPr>
        <p:blipFill>
          <a:blip r:embed="rId2"/>
          <a:stretch/>
        </p:blipFill>
        <p:spPr>
          <a:xfrm>
            <a:off x="539640" y="115920"/>
            <a:ext cx="3448080" cy="4365720"/>
          </a:xfrm>
          <a:prstGeom prst="rect">
            <a:avLst/>
          </a:prstGeom>
          <a:ln w="0">
            <a:noFill/>
          </a:ln>
        </p:spPr>
      </p:pic>
      <p:pic>
        <p:nvPicPr>
          <p:cNvPr id="559" name="dmt__quot_raduga_quot-shli__kuda_popalo_stihi_samuila_marshaka.mp3" descr=""/>
          <p:cNvPicPr/>
          <p:nvPr/>
        </p:nvPicPr>
        <p:blipFill>
          <a:blip r:embed="rId3"/>
          <a:stretch/>
        </p:blipFill>
        <p:spPr>
          <a:xfrm>
            <a:off x="759636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74579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Rectangle 2" descr=""/>
          <p:cNvPicPr/>
          <p:nvPr/>
        </p:nvPicPr>
        <p:blipFill>
          <a:blip r:embed="rId1"/>
          <a:stretch/>
        </p:blipFill>
        <p:spPr>
          <a:xfrm>
            <a:off x="420840" y="5267160"/>
            <a:ext cx="8285040" cy="10414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64234286_orig"/>
          <p:cNvPicPr/>
          <p:nvPr/>
        </p:nvPicPr>
        <p:blipFill>
          <a:blip r:embed="rId2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3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F7DD-AAD0-4A84-B9EA-18A6CD0F781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756C-D1BB-4DBB-97B5-2641AB0FF6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6" name="Прямоугольник 6"/>
          <p:cNvSpPr/>
          <p:nvPr/>
        </p:nvSpPr>
        <p:spPr>
          <a:xfrm>
            <a:off x="4428720" y="177336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6257880" y="1397160"/>
            <a:ext cx="1273320" cy="127296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оугольник 8"/>
          <p:cNvSpPr/>
          <p:nvPr/>
        </p:nvSpPr>
        <p:spPr>
          <a:xfrm>
            <a:off x="3937680" y="33703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л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5403960" y="3011400"/>
            <a:ext cx="3259080" cy="1241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"/>
          <p:cNvPicPr/>
          <p:nvPr/>
        </p:nvPicPr>
        <p:blipFill>
          <a:blip r:embed="rId3"/>
          <a:stretch/>
        </p:blipFill>
        <p:spPr>
          <a:xfrm>
            <a:off x="5857920" y="4438800"/>
            <a:ext cx="1673280" cy="1765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10"/>
          <p:cNvSpPr/>
          <p:nvPr/>
        </p:nvSpPr>
        <p:spPr>
          <a:xfrm>
            <a:off x="4380120" y="505944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яч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2" name="TextBox 11"/>
          <p:cNvSpPr/>
          <p:nvPr/>
        </p:nvSpPr>
        <p:spPr>
          <a:xfrm>
            <a:off x="3359520" y="488880"/>
            <a:ext cx="20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3" name="Горизонтальный свиток 17"/>
          <p:cNvSpPr/>
          <p:nvPr/>
        </p:nvSpPr>
        <p:spPr>
          <a:xfrm>
            <a:off x="127080" y="1058760"/>
            <a:ext cx="3612960" cy="18255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Что такое перед нами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е оглобли за  ушами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лазах по колесу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дёлка на носу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4" name="Горизонтальный свиток 19"/>
          <p:cNvSpPr/>
          <p:nvPr/>
        </p:nvSpPr>
        <p:spPr>
          <a:xfrm>
            <a:off x="127080" y="2878200"/>
            <a:ext cx="3612960" cy="1808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Принялась она за дело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зжада и запел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а, ела дуб, дуб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мала зуб, зуб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5" name="Горизонтальный свиток 20"/>
          <p:cNvSpPr/>
          <p:nvPr/>
        </p:nvSpPr>
        <p:spPr>
          <a:xfrm>
            <a:off x="127080" y="4691160"/>
            <a:ext cx="3803400" cy="18334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Бьют его рукой и палкой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му его не жалк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что беднягу бьют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то, что он надут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06" name="Рисунок 1" descr=""/>
          <p:cNvPicPr/>
          <p:nvPr/>
        </p:nvPicPr>
        <p:blipFill>
          <a:blip r:embed="rId4"/>
          <a:stretch/>
        </p:blipFill>
        <p:spPr>
          <a:xfrm>
            <a:off x="810108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Вертикальный свиток 1"/>
          <p:cNvSpPr/>
          <p:nvPr/>
        </p:nvSpPr>
        <p:spPr>
          <a:xfrm>
            <a:off x="119160" y="1628640"/>
            <a:ext cx="5389560" cy="3600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748800" y="2035080"/>
            <a:ext cx="46198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 он утром на крова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рубашку надевать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кава просунул руки -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это брюки…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о шляпы на ход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дел сковород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D17A-3875-4FA0-A1A2-F0ED05EA69D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0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489C-2C53-40A6-8095-5BD248D924C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324240" cy="428652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5"/>
          <p:cNvSpPr/>
          <p:nvPr/>
        </p:nvSpPr>
        <p:spPr>
          <a:xfrm>
            <a:off x="1981800" y="63324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13" name="Рисунок 5" descr=""/>
          <p:cNvPicPr/>
          <p:nvPr/>
        </p:nvPicPr>
        <p:blipFill>
          <a:blip r:embed="rId2"/>
          <a:stretch/>
        </p:blipFill>
        <p:spPr>
          <a:xfrm>
            <a:off x="8101080" y="3729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Вертикальный свиток 1"/>
          <p:cNvSpPr/>
          <p:nvPr/>
        </p:nvSpPr>
        <p:spPr>
          <a:xfrm>
            <a:off x="28440" y="1174680"/>
            <a:ext cx="5459400" cy="51134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95280" y="17496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то это у вас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моя доч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чему у вашей дочк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ые щёчки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на давно не мылас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6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379A-76CD-4F5F-B9CA-0446C99D66D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7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419D-C7AB-46AB-8EE0-DA5ECE2E22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18" name="Рисунок 5" descr=""/>
          <p:cNvPicPr/>
          <p:nvPr/>
        </p:nvPicPr>
        <p:blipFill>
          <a:blip r:embed="rId1"/>
          <a:stretch/>
        </p:blipFill>
        <p:spPr>
          <a:xfrm>
            <a:off x="5648400" y="1587600"/>
            <a:ext cx="3247920" cy="4286160"/>
          </a:xfrm>
          <a:prstGeom prst="rect">
            <a:avLst/>
          </a:prstGeom>
          <a:ln w="0">
            <a:noFill/>
          </a:ln>
        </p:spPr>
      </p:pic>
      <p:sp>
        <p:nvSpPr>
          <p:cNvPr id="619" name="Прямоугольник 6"/>
          <p:cNvSpPr/>
          <p:nvPr/>
        </p:nvSpPr>
        <p:spPr>
          <a:xfrm>
            <a:off x="1692360" y="48888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20" name="Рисунок 6" descr=""/>
          <p:cNvPicPr/>
          <p:nvPr/>
        </p:nvPicPr>
        <p:blipFill>
          <a:blip r:embed="rId2"/>
          <a:stretch/>
        </p:blipFill>
        <p:spPr>
          <a:xfrm>
            <a:off x="819144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Вертикальный свиток 5"/>
          <p:cNvSpPr/>
          <p:nvPr/>
        </p:nvSpPr>
        <p:spPr>
          <a:xfrm>
            <a:off x="179280" y="1557360"/>
            <a:ext cx="5400720" cy="42861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68360" y="2169720"/>
            <a:ext cx="4680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ма сдавала в багаж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ван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квояж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одан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у, корзину, картонк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аленькую собачо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F88B-0194-4FE0-A175-7FCA6DBCEC6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4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9011-A7BE-4526-9806-95C46B3EE31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5724360" y="1646280"/>
            <a:ext cx="3168720" cy="410832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1"/>
          <p:cNvSpPr/>
          <p:nvPr/>
        </p:nvSpPr>
        <p:spPr>
          <a:xfrm>
            <a:off x="1908000" y="620640"/>
            <a:ext cx="54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27" name="Рисунок 1" descr=""/>
          <p:cNvPicPr/>
          <p:nvPr/>
        </p:nvPicPr>
        <p:blipFill>
          <a:blip r:embed="rId2"/>
          <a:stretch/>
        </p:blipFill>
        <p:spPr>
          <a:xfrm>
            <a:off x="8124840" y="322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Вертикальный свиток 2"/>
          <p:cNvSpPr/>
          <p:nvPr/>
        </p:nvSpPr>
        <p:spPr>
          <a:xfrm>
            <a:off x="108000" y="1539720"/>
            <a:ext cx="5688000" cy="4392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5280" y="206064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праздник новогод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дали мы приказ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кай цветут сегод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снежники у нас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есу цветёт подснежник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е метель метёт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от из вас мятежник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кажет: не метёт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E3EB-17C7-4B94-ADC2-E348F267057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1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EA46-64D5-4B3F-BACB-002B807D82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5867280" y="1677960"/>
            <a:ext cx="3152880" cy="4286160"/>
          </a:xfrm>
          <a:prstGeom prst="rect">
            <a:avLst/>
          </a:prstGeom>
          <a:ln w="0">
            <a:noFill/>
          </a:ln>
        </p:spPr>
      </p:pic>
      <p:sp>
        <p:nvSpPr>
          <p:cNvPr id="633" name="Прямоугольник 1"/>
          <p:cNvSpPr/>
          <p:nvPr/>
        </p:nvSpPr>
        <p:spPr>
          <a:xfrm>
            <a:off x="1719360" y="549360"/>
            <a:ext cx="552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34" name="Рисунок 1" descr=""/>
          <p:cNvPicPr/>
          <p:nvPr/>
        </p:nvPicPr>
        <p:blipFill>
          <a:blip r:embed="rId2"/>
          <a:stretch/>
        </p:blipFill>
        <p:spPr>
          <a:xfrm>
            <a:off x="8078760" y="32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Вертикальный свиток 2"/>
          <p:cNvSpPr/>
          <p:nvPr/>
        </p:nvSpPr>
        <p:spPr>
          <a:xfrm>
            <a:off x="108000" y="1484280"/>
            <a:ext cx="5256000" cy="4176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4000" y="1988640"/>
            <a:ext cx="4330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м – бом! Тили – бом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воре - высокий д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венки резные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на расписные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а лестнице ковер –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тый золотом узо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зорному ковру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одит кошка по утру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335E-482C-46E8-90B4-1EFFC28DACB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8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D05-D510-45EF-9C53-69405A1B93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5562720" y="1370160"/>
            <a:ext cx="3371760" cy="450684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1"/>
          <p:cNvSpPr/>
          <p:nvPr/>
        </p:nvSpPr>
        <p:spPr>
          <a:xfrm>
            <a:off x="1835280" y="60480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41" name="Рисунок 1" descr=""/>
          <p:cNvPicPr/>
          <p:nvPr/>
        </p:nvPicPr>
        <p:blipFill>
          <a:blip r:embed="rId2"/>
          <a:stretch/>
        </p:blipFill>
        <p:spPr>
          <a:xfrm>
            <a:off x="8024760" y="326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Дата 1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8ACD-B8D7-472A-BF3A-15ED4A5193E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3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433-8A78-4585-BE7E-8834F1421D5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493560" y="1413000"/>
            <a:ext cx="2384640" cy="1670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3951360" y="1620720"/>
            <a:ext cx="1523880" cy="1238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3"/>
          <a:stretch/>
        </p:blipFill>
        <p:spPr>
          <a:xfrm>
            <a:off x="5364000" y="3794040"/>
            <a:ext cx="2275200" cy="17049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"/>
          <p:cNvPicPr/>
          <p:nvPr/>
        </p:nvPicPr>
        <p:blipFill>
          <a:blip r:embed="rId4"/>
          <a:stretch/>
        </p:blipFill>
        <p:spPr>
          <a:xfrm>
            <a:off x="1409760" y="3789360"/>
            <a:ext cx="2541600" cy="16938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3"/>
          <p:cNvSpPr/>
          <p:nvPr/>
        </p:nvSpPr>
        <p:spPr>
          <a:xfrm>
            <a:off x="853920" y="306864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чта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2765160" y="30844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венадцать месяцев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0" name="TextBox 5"/>
          <p:cNvSpPr/>
          <p:nvPr/>
        </p:nvSpPr>
        <p:spPr>
          <a:xfrm>
            <a:off x="4509720" y="5530680"/>
            <a:ext cx="42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т какой рассеянный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6715800" y="30830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агаж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2" name="TextBox 7"/>
          <p:cNvSpPr/>
          <p:nvPr/>
        </p:nvSpPr>
        <p:spPr>
          <a:xfrm>
            <a:off x="799920" y="553248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сатый полосатый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3" name="Picture 16" descr=""/>
          <p:cNvPicPr/>
          <p:nvPr/>
        </p:nvPicPr>
        <p:blipFill>
          <a:blip r:embed="rId5"/>
          <a:stretch/>
        </p:blipFill>
        <p:spPr>
          <a:xfrm>
            <a:off x="6365880" y="1433520"/>
            <a:ext cx="2201760" cy="1649520"/>
          </a:xfrm>
          <a:prstGeom prst="rect">
            <a:avLst/>
          </a:prstGeom>
          <a:ln w="0">
            <a:noFill/>
          </a:ln>
        </p:spPr>
      </p:pic>
      <p:sp>
        <p:nvSpPr>
          <p:cNvPr id="654" name="Прямоугольник 9"/>
          <p:cNvSpPr/>
          <p:nvPr/>
        </p:nvSpPr>
        <p:spPr>
          <a:xfrm>
            <a:off x="2154240" y="584280"/>
            <a:ext cx="51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предметы?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5" name="Рисунок 9" descr=""/>
          <p:cNvPicPr/>
          <p:nvPr/>
        </p:nvPicPr>
        <p:blipFill>
          <a:blip r:embed="rId6"/>
          <a:stretch/>
        </p:blipFill>
        <p:spPr>
          <a:xfrm>
            <a:off x="8191440" y="3398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Заголовок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sp>
        <p:nvSpPr>
          <p:cNvPr id="657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474D-A4C8-4CCF-AA05-BD7A392DE12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8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40F8-3865-4AD1-A739-E10AF3549E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59" name="dmt__quot_raduga_quot-shli__kuda_popalo_stihi_samuila_marshaka.mp3" descr=""/>
          <p:cNvPicPr/>
          <p:nvPr/>
        </p:nvPicPr>
        <p:blipFill>
          <a:blip r:embed="rId2"/>
          <a:stretch/>
        </p:blipFill>
        <p:spPr>
          <a:xfrm>
            <a:off x="468360" y="5556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60" name="Рисунок 5" descr=""/>
          <p:cNvPicPr/>
          <p:nvPr/>
        </p:nvPicPr>
        <p:blipFill>
          <a:blip r:embed="rId3"/>
          <a:stretch/>
        </p:blipFill>
        <p:spPr>
          <a:xfrm>
            <a:off x="5254560" y="452448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661" name="Рисунок 6" descr=""/>
          <p:cNvPicPr/>
          <p:nvPr/>
        </p:nvPicPr>
        <p:blipFill>
          <a:blip r:embed="rId4"/>
          <a:stretch/>
        </p:blipFill>
        <p:spPr>
          <a:xfrm>
            <a:off x="1835280" y="2444760"/>
            <a:ext cx="1857240" cy="1285920"/>
          </a:xfrm>
          <a:prstGeom prst="rect">
            <a:avLst/>
          </a:prstGeom>
          <a:ln w="0">
            <a:noFill/>
          </a:ln>
        </p:spPr>
      </p:pic>
      <p:pic>
        <p:nvPicPr>
          <p:cNvPr id="662" name="Рисунок 7" descr=""/>
          <p:cNvPicPr/>
          <p:nvPr/>
        </p:nvPicPr>
        <p:blipFill>
          <a:blip r:embed="rId5"/>
          <a:stretch/>
        </p:blipFill>
        <p:spPr>
          <a:xfrm>
            <a:off x="5219640" y="2444760"/>
            <a:ext cx="1857600" cy="1285920"/>
          </a:xfrm>
          <a:prstGeom prst="rect">
            <a:avLst/>
          </a:prstGeom>
          <a:ln w="0">
            <a:noFill/>
          </a:ln>
        </p:spPr>
      </p:pic>
      <p:pic>
        <p:nvPicPr>
          <p:cNvPr id="663" name="Рисунок 8" descr=""/>
          <p:cNvPicPr/>
          <p:nvPr/>
        </p:nvPicPr>
        <p:blipFill>
          <a:blip r:embed="rId6"/>
          <a:stretch/>
        </p:blipFill>
        <p:spPr>
          <a:xfrm>
            <a:off x="1692360" y="4508640"/>
            <a:ext cx="1857240" cy="1285560"/>
          </a:xfrm>
          <a:prstGeom prst="rect">
            <a:avLst/>
          </a:prstGeom>
          <a:ln w="0">
            <a:noFill/>
          </a:ln>
        </p:spPr>
      </p:pic>
      <p:pic>
        <p:nvPicPr>
          <p:cNvPr id="664" name="Рисунок 9" descr=""/>
          <p:cNvPicPr/>
          <p:nvPr/>
        </p:nvPicPr>
        <p:blipFill>
          <a:blip r:embed="rId7"/>
          <a:stretch/>
        </p:blipFill>
        <p:spPr>
          <a:xfrm>
            <a:off x="4910040" y="1392120"/>
            <a:ext cx="3533760" cy="857520"/>
          </a:xfrm>
          <a:prstGeom prst="rect">
            <a:avLst/>
          </a:prstGeom>
          <a:ln w="0">
            <a:noFill/>
          </a:ln>
        </p:spPr>
      </p:pic>
      <p:pic>
        <p:nvPicPr>
          <p:cNvPr id="665" name="Рисунок 10" descr=""/>
          <p:cNvPicPr/>
          <p:nvPr/>
        </p:nvPicPr>
        <p:blipFill>
          <a:blip r:embed="rId8"/>
          <a:stretch/>
        </p:blipFill>
        <p:spPr>
          <a:xfrm>
            <a:off x="611280" y="1373040"/>
            <a:ext cx="35337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74579" fill="hold"/>
                                        <p:tgtEl>
                                          <p:spTgt spid="6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Горизонтальный свиток 23"/>
          <p:cNvSpPr/>
          <p:nvPr/>
        </p:nvSpPr>
        <p:spPr>
          <a:xfrm>
            <a:off x="1908000" y="4443480"/>
            <a:ext cx="5384880" cy="7333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67" name="Picture 22" descr=""/>
          <p:cNvPicPr/>
          <p:nvPr/>
        </p:nvPicPr>
        <p:blipFill>
          <a:blip r:embed="rId1"/>
          <a:stretch/>
        </p:blipFill>
        <p:spPr>
          <a:xfrm>
            <a:off x="1908000" y="5253120"/>
            <a:ext cx="5384880" cy="896760"/>
          </a:xfrm>
          <a:prstGeom prst="rect">
            <a:avLst/>
          </a:prstGeom>
          <a:ln w="0">
            <a:noFill/>
          </a:ln>
        </p:spPr>
      </p:pic>
      <p:pic>
        <p:nvPicPr>
          <p:cNvPr id="668" name="Заголовок 1" descr=""/>
          <p:cNvPicPr/>
          <p:nvPr/>
        </p:nvPicPr>
        <p:blipFill>
          <a:blip r:embed="rId2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sp>
        <p:nvSpPr>
          <p:cNvPr id="669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B761-A09C-4416-8262-AF58AFF319A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0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449F-4843-4D61-996C-21FE21E960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Прямоугольник 6"/>
          <p:cNvSpPr/>
          <p:nvPr/>
        </p:nvSpPr>
        <p:spPr>
          <a:xfrm>
            <a:off x="3323160" y="541188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шкин дом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2" name="Прямоугольник 8"/>
          <p:cNvSpPr/>
          <p:nvPr/>
        </p:nvSpPr>
        <p:spPr>
          <a:xfrm>
            <a:off x="1909800" y="4541760"/>
            <a:ext cx="51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ссказ об известном герое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3" name="Горизонтальный свиток 4"/>
          <p:cNvSpPr/>
          <p:nvPr/>
        </p:nvSpPr>
        <p:spPr>
          <a:xfrm>
            <a:off x="1908000" y="3522600"/>
            <a:ext cx="5424840" cy="84312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4" name="Picture 19" descr=""/>
          <p:cNvPicPr/>
          <p:nvPr/>
        </p:nvPicPr>
        <p:blipFill>
          <a:blip r:embed="rId3"/>
          <a:stretch/>
        </p:blipFill>
        <p:spPr>
          <a:xfrm>
            <a:off x="1908000" y="2708280"/>
            <a:ext cx="5424840" cy="8143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0" descr=""/>
          <p:cNvPicPr/>
          <p:nvPr/>
        </p:nvPicPr>
        <p:blipFill>
          <a:blip r:embed="rId4"/>
          <a:stretch/>
        </p:blipFill>
        <p:spPr>
          <a:xfrm>
            <a:off x="1908000" y="1889280"/>
            <a:ext cx="5424840" cy="8190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1" descr=""/>
          <p:cNvPicPr/>
          <p:nvPr/>
        </p:nvPicPr>
        <p:blipFill>
          <a:blip r:embed="rId5"/>
          <a:stretch/>
        </p:blipFill>
        <p:spPr>
          <a:xfrm>
            <a:off x="1908000" y="1125360"/>
            <a:ext cx="5424840" cy="763920"/>
          </a:xfrm>
          <a:prstGeom prst="rect">
            <a:avLst/>
          </a:prstGeom>
          <a:ln w="0">
            <a:noFill/>
          </a:ln>
        </p:spPr>
      </p:pic>
      <p:sp>
        <p:nvSpPr>
          <p:cNvPr id="677" name="TextBox 6"/>
          <p:cNvSpPr/>
          <p:nvPr/>
        </p:nvSpPr>
        <p:spPr>
          <a:xfrm>
            <a:off x="2975760" y="124632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тки в зоопарке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2641680" y="20383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надцать  месяцев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9" name="TextBox 6"/>
          <p:cNvSpPr/>
          <p:nvPr/>
        </p:nvSpPr>
        <p:spPr>
          <a:xfrm>
            <a:off x="3035160" y="368316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рок грубости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0" name="TextBox 8"/>
          <p:cNvSpPr/>
          <p:nvPr/>
        </p:nvSpPr>
        <p:spPr>
          <a:xfrm>
            <a:off x="2643120" y="285120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ткуда стул пришёл?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1" name="TextBox 9"/>
          <p:cNvSpPr/>
          <p:nvPr/>
        </p:nvSpPr>
        <p:spPr>
          <a:xfrm>
            <a:off x="4500720" y="1246320"/>
            <a:ext cx="1501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е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2" name="TextBox 10"/>
          <p:cNvSpPr/>
          <p:nvPr/>
        </p:nvSpPr>
        <p:spPr>
          <a:xfrm>
            <a:off x="2917800" y="2038320"/>
            <a:ext cx="20937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надцать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TextBox 11"/>
          <p:cNvSpPr/>
          <p:nvPr/>
        </p:nvSpPr>
        <p:spPr>
          <a:xfrm>
            <a:off x="4096800" y="2854440"/>
            <a:ext cx="889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4" name="TextBox 12"/>
          <p:cNvSpPr/>
          <p:nvPr/>
        </p:nvSpPr>
        <p:spPr>
          <a:xfrm flipH="1">
            <a:off x="4207680" y="3683160"/>
            <a:ext cx="238932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сти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708360" y="4548240"/>
            <a:ext cx="352764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м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рое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6" name="TextBox 14"/>
          <p:cNvSpPr/>
          <p:nvPr/>
        </p:nvSpPr>
        <p:spPr>
          <a:xfrm>
            <a:off x="3564000" y="5415120"/>
            <a:ext cx="15843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ин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87" name="Рисунок 1" descr=""/>
          <p:cNvPicPr/>
          <p:nvPr/>
        </p:nvPicPr>
        <p:blipFill>
          <a:blip r:embed="rId6"/>
          <a:stretch/>
        </p:blipFill>
        <p:spPr>
          <a:xfrm>
            <a:off x="8101080" y="3110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1"/>
          <a:stretch/>
        </p:blipFill>
        <p:spPr>
          <a:xfrm>
            <a:off x="244440" y="4797360"/>
            <a:ext cx="8601120" cy="1725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80520" y="333000"/>
            <a:ext cx="8458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562" name="img_14" descr="16626303"/>
          <p:cNvPicPr/>
          <p:nvPr/>
        </p:nvPicPr>
        <p:blipFill>
          <a:blip r:embed="rId2"/>
          <a:stretch/>
        </p:blipFill>
        <p:spPr>
          <a:xfrm>
            <a:off x="1116000" y="0"/>
            <a:ext cx="6732720" cy="4797360"/>
          </a:xfrm>
          <a:prstGeom prst="rect">
            <a:avLst/>
          </a:prstGeom>
          <a:ln w="28440">
            <a:solidFill>
              <a:srgbClr val="9158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Заголовок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sp>
        <p:nvSpPr>
          <p:cNvPr id="689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F619-6FB0-4D52-AF50-C6362B6072D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831C-5C1D-4EDE-AA34-93B3689387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2"/>
          <a:stretch/>
        </p:blipFill>
        <p:spPr>
          <a:xfrm>
            <a:off x="1033560" y="1351080"/>
            <a:ext cx="6764400" cy="413388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5"/>
          <p:cNvSpPr/>
          <p:nvPr/>
        </p:nvSpPr>
        <p:spPr>
          <a:xfrm>
            <a:off x="1763640" y="184788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ткрыла дверцу Лена -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кочил огонь с ______  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3" name="Прямоугольник 6"/>
          <p:cNvSpPr/>
          <p:nvPr/>
        </p:nvSpPr>
        <p:spPr>
          <a:xfrm>
            <a:off x="4721400" y="227664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н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4" name="Прямоугольник 7"/>
          <p:cNvSpPr/>
          <p:nvPr/>
        </p:nvSpPr>
        <p:spPr>
          <a:xfrm>
            <a:off x="1793880" y="27147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д печкой выжег пол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ез по скатерти на ____ 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5" name="Прямоугольник 8"/>
          <p:cNvSpPr/>
          <p:nvPr/>
        </p:nvSpPr>
        <p:spPr>
          <a:xfrm>
            <a:off x="1820880" y="358776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жал по стульям с треском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рх пополз по ___________ 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6" name="Прямоугольник 9"/>
          <p:cNvSpPr/>
          <p:nvPr/>
        </p:nvSpPr>
        <p:spPr>
          <a:xfrm>
            <a:off x="1824120" y="45036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ены дымом заволок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жет пол и ________ 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7" name="Прямоугольник 10"/>
          <p:cNvSpPr/>
          <p:nvPr/>
        </p:nvSpPr>
        <p:spPr>
          <a:xfrm>
            <a:off x="5138280" y="31449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8" name="Прямоугольник 11"/>
          <p:cNvSpPr/>
          <p:nvPr/>
        </p:nvSpPr>
        <p:spPr>
          <a:xfrm>
            <a:off x="4726800" y="400680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авескам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9" name="Прямоугольник 12"/>
          <p:cNvSpPr/>
          <p:nvPr/>
        </p:nvSpPr>
        <p:spPr>
          <a:xfrm>
            <a:off x="4044600" y="493380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л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0" name="TextBox 13"/>
          <p:cNvSpPr/>
          <p:nvPr/>
        </p:nvSpPr>
        <p:spPr>
          <a:xfrm>
            <a:off x="5799960" y="58770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жар»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01" name="Рисунок 1" descr=""/>
          <p:cNvPicPr/>
          <p:nvPr/>
        </p:nvPicPr>
        <p:blipFill>
          <a:blip r:embed="rId3"/>
          <a:stretch/>
        </p:blipFill>
        <p:spPr>
          <a:xfrm>
            <a:off x="8007480" y="39852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Заголовок 1" descr=""/>
          <p:cNvPicPr/>
          <p:nvPr/>
        </p:nvPicPr>
        <p:blipFill>
          <a:blip r:embed="rId1"/>
          <a:stretch/>
        </p:blipFill>
        <p:spPr>
          <a:xfrm>
            <a:off x="231840" y="378000"/>
            <a:ext cx="8467560" cy="1371600"/>
          </a:xfrm>
          <a:prstGeom prst="rect">
            <a:avLst/>
          </a:prstGeom>
          <a:ln w="0">
            <a:noFill/>
          </a:ln>
        </p:spPr>
      </p:pic>
      <p:sp>
        <p:nvSpPr>
          <p:cNvPr id="703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4264-7DD8-4017-B3C0-28C152016FB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4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7CE3-8FAD-4692-BBEE-D24ACA4373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05" name="Рисунок 4" descr=""/>
          <p:cNvPicPr/>
          <p:nvPr/>
        </p:nvPicPr>
        <p:blipFill>
          <a:blip r:embed="rId2"/>
          <a:stretch/>
        </p:blipFill>
        <p:spPr>
          <a:xfrm>
            <a:off x="7932600" y="465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06" name="Рисунок 5" descr=""/>
          <p:cNvPicPr/>
          <p:nvPr/>
        </p:nvPicPr>
        <p:blipFill>
          <a:blip r:embed="rId3"/>
          <a:stretch/>
        </p:blipFill>
        <p:spPr>
          <a:xfrm>
            <a:off x="6041880" y="2836800"/>
            <a:ext cx="1305000" cy="1238400"/>
          </a:xfrm>
          <a:prstGeom prst="rect">
            <a:avLst/>
          </a:prstGeom>
          <a:ln w="0">
            <a:noFill/>
          </a:ln>
        </p:spPr>
      </p:pic>
      <p:pic>
        <p:nvPicPr>
          <p:cNvPr id="707" name="detskie_-_pesenka_mamontenka Minusovki.MpTri.Net.mp3" descr=""/>
          <p:cNvPicPr/>
          <p:nvPr/>
        </p:nvPicPr>
        <p:blipFill>
          <a:blip r:embed="rId4"/>
          <a:stretch/>
        </p:blipFill>
        <p:spPr>
          <a:xfrm>
            <a:off x="7323120" y="524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0" name="AutoShape 15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11" name="Рисунок 6" descr=""/>
          <p:cNvPicPr/>
          <p:nvPr/>
        </p:nvPicPr>
        <p:blipFill>
          <a:blip r:embed="rId5"/>
          <a:stretch/>
        </p:blipFill>
        <p:spPr>
          <a:xfrm>
            <a:off x="971640" y="1663560"/>
            <a:ext cx="35827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Горизонтальный свиток 5"/>
          <p:cNvSpPr/>
          <p:nvPr/>
        </p:nvSpPr>
        <p:spPr>
          <a:xfrm>
            <a:off x="4114800" y="1844640"/>
            <a:ext cx="5003640" cy="312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13" name="Заголовок 1" descr=""/>
          <p:cNvPicPr/>
          <p:nvPr/>
        </p:nvPicPr>
        <p:blipFill>
          <a:blip r:embed="rId1"/>
          <a:stretch/>
        </p:blipFill>
        <p:spPr>
          <a:xfrm>
            <a:off x="3913200" y="2255760"/>
            <a:ext cx="8632800" cy="2249640"/>
          </a:xfrm>
          <a:prstGeom prst="rect">
            <a:avLst/>
          </a:prstGeom>
          <a:ln w="0">
            <a:noFill/>
          </a:ln>
        </p:spPr>
      </p:pic>
      <p:sp>
        <p:nvSpPr>
          <p:cNvPr id="714" name="Дата 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970D-28BA-47E3-9AAF-1F2288757FB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5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54A2-CC95-42F1-B196-039B7209ED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716" name="Рисунок 5" descr=""/>
          <p:cNvPicPr/>
          <p:nvPr/>
        </p:nvPicPr>
        <p:blipFill>
          <a:blip r:embed="rId2"/>
          <a:stretch/>
        </p:blipFill>
        <p:spPr>
          <a:xfrm>
            <a:off x="7451640" y="466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2" descr="http://s-marshak.ru/autographs/nadpis/nadpis15_1.jpg"/>
          <p:cNvPicPr/>
          <p:nvPr/>
        </p:nvPicPr>
        <p:blipFill>
          <a:blip r:embed="rId3"/>
          <a:stretch/>
        </p:blipFill>
        <p:spPr>
          <a:xfrm>
            <a:off x="108000" y="119700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2" descr=""/>
          <p:cNvPicPr/>
          <p:nvPr/>
        </p:nvPicPr>
        <p:blipFill>
          <a:blip r:embed="rId1"/>
          <a:stretch/>
        </p:blipFill>
        <p:spPr>
          <a:xfrm>
            <a:off x="85680" y="542880"/>
            <a:ext cx="8620200" cy="2024280"/>
          </a:xfrm>
          <a:prstGeom prst="rect">
            <a:avLst/>
          </a:prstGeom>
          <a:ln w="0">
            <a:noFill/>
          </a:ln>
        </p:spPr>
      </p:pic>
      <p:pic>
        <p:nvPicPr>
          <p:cNvPr id="719" name="Рисунок 2" descr=""/>
          <p:cNvPicPr/>
          <p:nvPr/>
        </p:nvPicPr>
        <p:blipFill>
          <a:blip r:embed="rId2"/>
          <a:stretch/>
        </p:blipFill>
        <p:spPr>
          <a:xfrm>
            <a:off x="3995640" y="2824200"/>
            <a:ext cx="1838520" cy="2857320"/>
          </a:xfrm>
          <a:prstGeom prst="rect">
            <a:avLst/>
          </a:prstGeom>
          <a:ln w="0">
            <a:noFill/>
          </a:ln>
        </p:spPr>
      </p:pic>
      <p:pic>
        <p:nvPicPr>
          <p:cNvPr id="720" name="Рисунок 3" descr=""/>
          <p:cNvPicPr/>
          <p:nvPr/>
        </p:nvPicPr>
        <p:blipFill>
          <a:blip r:embed="rId3"/>
          <a:stretch/>
        </p:blipFill>
        <p:spPr>
          <a:xfrm rot="571200">
            <a:off x="5563800" y="2676600"/>
            <a:ext cx="3533760" cy="857160"/>
          </a:xfrm>
          <a:prstGeom prst="rect">
            <a:avLst/>
          </a:prstGeom>
          <a:ln w="0">
            <a:noFill/>
          </a:ln>
        </p:spPr>
      </p:pic>
      <p:pic>
        <p:nvPicPr>
          <p:cNvPr id="721" name="Рисунок 4" descr=""/>
          <p:cNvPicPr/>
          <p:nvPr/>
        </p:nvPicPr>
        <p:blipFill>
          <a:blip r:embed="rId4"/>
          <a:stretch/>
        </p:blipFill>
        <p:spPr>
          <a:xfrm rot="20790600">
            <a:off x="519120" y="2676600"/>
            <a:ext cx="353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44751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5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508720" y="692280"/>
            <a:ext cx="3076560" cy="4762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35640" y="2707920"/>
            <a:ext cx="347976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3354120" cy="26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80800" y="4436640"/>
            <a:ext cx="4290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В 12 ле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Самуил Яковлевич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писал целые поэмы</a:t>
            </a:r>
            <a:r>
              <a:rPr b="0" lang="ru-RU" sz="2400" spc="-1" strike="noStrike">
                <a:solidFill>
                  <a:srgbClr val="6633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647960" y="333000"/>
            <a:ext cx="4289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Franklin Gothic Book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1" name="Picture 12" descr="detstvo01"/>
          <p:cNvPicPr/>
          <p:nvPr/>
        </p:nvPicPr>
        <p:blipFill>
          <a:blip r:embed="rId1"/>
          <a:srcRect l="0" t="0" r="0" b="11104"/>
          <a:stretch/>
        </p:blipFill>
        <p:spPr>
          <a:xfrm>
            <a:off x="539640" y="333360"/>
            <a:ext cx="309744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2" name="Picture 8" descr="detstvo02"/>
          <p:cNvPicPr/>
          <p:nvPr/>
        </p:nvPicPr>
        <p:blipFill>
          <a:blip r:embed="rId2"/>
          <a:stretch/>
        </p:blipFill>
        <p:spPr>
          <a:xfrm>
            <a:off x="5580000" y="270828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Franklin Gothic Book"/>
              </a:rPr>
              <a:t>Самуил Яковлевич Маршак всю жизнь был добрым другом детей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Franklin Gothic Book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6" name="Picture 6" descr="95642654_orig"/>
          <p:cNvPicPr/>
          <p:nvPr/>
        </p:nvPicPr>
        <p:blipFill>
          <a:blip r:embed="rId1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7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8" descr="С. Маршак Детки в клетке"/>
          <p:cNvPicPr/>
          <p:nvPr/>
        </p:nvPicPr>
        <p:blipFill>
          <a:blip r:embed="rId1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a5644e"/>
            </a:solidFill>
            <a:miter/>
          </a:ln>
        </p:spPr>
      </p:pic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1" name="Picture 8" descr="95980761_orig"/>
          <p:cNvPicPr/>
          <p:nvPr/>
        </p:nvPicPr>
        <p:blipFill>
          <a:blip r:embed="rId1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a5644e"/>
            </a:solidFill>
            <a:miter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160" y="188640"/>
            <a:ext cx="27064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b0761f"/>
                </a:solidFill>
                <a:latin typeface="Franklin Gothic Medium"/>
              </a:rPr>
              <a:t>ИЗ ВОСПОМИНАНИЙ САМУИЛА ЯКОВЛЕВИЧА  МАРШАК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2987640" y="259920"/>
            <a:ext cx="5950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35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ПУШКИН НЕ ОБИДИТСЯ!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80800" y="1125360"/>
            <a:ext cx="42908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альчик, видимо, понял шутку, еще немного подумал и сказал: «Тогда обидишься ты»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5594400" y="1316160"/>
            <a:ext cx="293832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8" name="Rectangle 2" descr=""/>
          <p:cNvPicPr/>
          <p:nvPr/>
        </p:nvPicPr>
        <p:blipFill>
          <a:blip r:embed="rId2"/>
          <a:stretch/>
        </p:blipFill>
        <p:spPr>
          <a:xfrm>
            <a:off x="285840" y="-19080"/>
            <a:ext cx="8407440" cy="1000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doski02-2"/>
          <p:cNvPicPr/>
          <p:nvPr/>
        </p:nvPicPr>
        <p:blipFill>
          <a:blip r:embed="rId3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Franklin Gothic Book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0:20:39Z</dcterms:created>
  <dc:creator>иванова</dc:creator>
  <dc:description/>
  <dc:language>en-US</dc:language>
  <cp:lastModifiedBy>Администратор</cp:lastModifiedBy>
  <dcterms:modified xsi:type="dcterms:W3CDTF">2012-11-13T17:19:13Z</dcterms:modified>
  <cp:revision>61</cp:revision>
  <dc:subject/>
  <dc:title> САМУИЛ  ЯКОВЛЕВИЧ  МАРШАК          1887 – 1964 Г.Г.</dc:title>
</cp:coreProperties>
</file>