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E40A-CA0A-4208-A0D4-8331A6D531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1520-C756-4DCE-A726-918A26386F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B7A-D245-4ED9-A957-E85C7DD7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1E0-2335-4A2E-9DA5-8EDC6D51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24EAA9-8DBC-4E4B-8446-4C2A8D6E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958D55-872C-42DC-83F8-B8382645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6ABDAE-C4D2-41C0-BCEF-8128F05D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2D67E1-0DFF-4DA5-9CCE-84B8BCE4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5A7B7E-4893-4EC1-97AB-5DE5021D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519F95-49E3-4C49-B9BC-BC41CC8C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C1AC67-0B58-4FE9-A7C0-8F7B24BE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91D561-3A65-4345-81BF-DB66AB4A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30BB49-2905-4E7A-A9A4-D402BA2B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29B163-6EFD-4E2D-822C-B5117A79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5A6-12E9-4926-B093-C94AB411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6A0E63-4078-4D96-ADB6-9913DADF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6EEDA9-9CAB-4B48-A62A-985A79FA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AA3AA9-1873-4E84-9F91-FA8ED555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8A9D48-F120-403F-A997-B5F59336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E1BB18-EAE2-4FA0-85DF-79EAF196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A419DF-52B8-4434-98D8-E73FB1A6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E5EE0A-2914-4BE5-A7EA-AD5F3E5E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F1A3E9-142B-4558-A0A9-E0C28244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56FAC9-B6CA-422D-95AD-E326D242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3FD98E-AA30-4DE5-A57C-BA8B3C2B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F18-AC68-407F-A465-C0754D89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C0D234-6759-4B97-9592-8D8EDBAB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53380-F5F3-4594-918D-6ADD4A25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D5306-3C40-4A2D-B9F0-00E7EFAF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27C9C-7E34-4B6B-89CE-AF2BFBC1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10970-5F7C-4108-A131-407C9E30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4445E-61E0-4212-9D4D-DE66C25F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16536-0536-4B65-9E3F-508BF222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C6599-2BF6-4337-9FA9-863F96A5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48C74-FD1B-4E48-87A1-092BC96F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5D77C-7CA3-47D2-A490-3C310F4B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7D6F0-5F80-4C15-BE7F-D35EB2CD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912B0-0535-46A8-A692-4EFC4371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AF148-6D7F-41BA-A406-B2CF1FAC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B859C-4757-4313-826D-7F321372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2FF78-0817-4BB6-8FBD-BDB5775F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62ADE-C14B-4410-8406-F1008361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C90EF-F458-4610-A56E-68E41543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4C08D-93D4-4DD6-965C-FD595627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3B81F-C7A1-4666-BC61-BAFFA1D5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CFF83-EB76-41FF-8C90-6CF630E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6ED-68F3-4A96-AA10-400DB8EE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807E5-ED2E-458B-B731-833344A4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A9049-11D6-46E9-8C41-CD4A795D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6A6A9-2963-4C34-97E5-A9934441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A61EB-34C2-4BBB-A0FF-5A8A9A67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D04BC-9659-4A16-82CD-29EBB143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16AEE-91D1-4136-B4BB-78162B18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9076D-C5D2-4582-A67E-D86577B3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1C408-695E-430F-98E9-96172D49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66122-45CA-4782-87F8-3620CC77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77A06-A4BA-4978-A192-AB933125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C53-A15F-4FF8-B926-E19FA92F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E0F55-8EAE-4DF8-8816-E474FA19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C7EF-9867-49D0-9F6B-61CE2477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1222F-4C7C-46AC-883B-4DDCC428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45DE6-75A4-4D80-BE07-CF4BC99F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12F5-D23F-45A0-AD57-AD8EE91F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6A1D8-51C9-4655-9723-29B73FBB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73464-38B6-4647-9E58-09B69720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D54D-57AE-43AD-B047-C141C3C0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39F36-494C-4221-86A8-1552ABB4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6738E-8652-4F0A-908A-731CB5FD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097-975B-4164-8F01-16EA487D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72E71-1861-43A9-9500-FC728221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FEB05-FBF2-480E-9034-8E414E47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5E1F5-CFF5-4F78-A365-9B9FA817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D9DB3-7097-410B-9870-B0F216CF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13DD-2A0A-49FC-A5C1-FDEE2E47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E3C54-F8C6-42A8-99EA-B114BD16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2C168-8F92-4402-88DA-EEFF694B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F016D-509B-49FA-A096-B56689F1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6B9A8-A425-46D1-93A6-E5E0AC92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21E90-2AC1-47DE-8395-50F55898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C1F-658F-4FB0-BAE6-C2293B1B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5A516-65FE-458C-9DD9-606110F9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DFABA-28D8-4F98-851E-6A0FD4E4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1D780-49F5-4D65-84E8-2A051979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1420B-02E3-43DF-B005-9468B622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6312F-D7A9-4D5D-BFCA-88C81B0B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A22E3-2D9B-418A-B25E-61BAB55A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D0A5A-84F1-4766-9FC1-3E3D278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8399F-925F-44E4-AEB8-F5218136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3EA76-409E-4653-A6E4-91DCF979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C09DD-676D-416D-903F-804A4801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9FC-5A9B-423B-B1D5-867E561A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115CB-A2E1-407E-9EB1-C1D58B60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8E674-5C60-42A5-9BAD-C76835D8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C8335-647D-4BAA-B4CD-16A2F769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D1A4C-CDB6-425F-8BA9-75892C07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4770A-8EF1-463C-B1DD-66E700B8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D96A3-B565-4248-8AD0-1477593E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314E0-C9C8-4179-9B16-0D1F8DEC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DFA71-A92D-4F09-9877-837BE3A5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A37BE-881E-4BF1-BD23-3B0806B1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D6FAF-64A4-444D-BCDC-CFFB90F8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EF6-0EA5-42A0-9514-567E5653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F3FD9-C40C-496B-AD9E-48C1C05A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DB43D-4D79-4322-B2BB-AF06DB43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BF92C-7406-4F49-A703-3EBAA94A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74AEC9-107D-4CC0-8147-E63C22C3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20A5F-C8C3-4800-A9C3-1FF425BE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499CD-B39E-4162-98F2-0D5F2F02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2F888-F910-4C98-8DAD-3EBB42A8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42BB1A-CB24-4152-B990-68C97A9C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4A0BA-565C-4C92-B0D4-1A4D0694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B9F9E-135B-49CD-9428-384DCF13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3F8-ECCD-4606-A0A8-8222007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A4F3A3-BB2E-4D11-B838-737C6EDB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A9B20B-22AF-4615-B498-7DF41D8B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FAF897-923E-4376-B54F-B4652A74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7F0E6-6055-480C-9500-A9829016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99F8C-8963-4ED5-96B8-D9B4B289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31DBB0-6DF3-40D3-A241-0D42E6FC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2BF122-4BA9-493D-A843-4787D288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C8A4AA-B740-42C0-A545-92F0B6DE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A2EDCF-AAC2-4075-9D6B-B5AB0D76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9B6144-2AC2-4BAA-84EF-4ECA5DB6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B52-55E5-418D-AEC7-7368182A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34ECE5-9412-47A2-BBC6-EAC1A7A4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793945-B9F3-4325-8110-DA0D8175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0F48B6-6B8F-46F8-AD16-A137A1E3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6F5FD4-1FDC-4730-889D-73DE4FBB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3E395C-B2B4-405D-BE2B-78054453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FDBC29-E8A5-4908-A4F4-3DDF6FE3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2C235C-7F15-40AF-B41C-67203F6F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F59F9C-87B9-45BF-BCE4-7AA7228C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B57D6C-43B1-4924-BE69-911B775D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B113D3-3BC6-44AD-A44B-9FCBA2A0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5D50-62D6-4060-8B9A-EFE02D686DD0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E087-A5F7-40AF-8B98-9455B5B333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7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DBBE-6317-4821-B27C-E66479C71F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CA56-B0F9-45E9-A967-C207A4EF9B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6E4B-1949-4323-9D0D-8784173DE1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4994-E1D4-4CAA-9F3F-E9AF7517C888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F83C-AE7A-4F90-A56D-633E518E63FA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6AE3-1756-4619-B41B-A373A1965572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A479-297C-4227-9563-7FAE884BFF42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935D-EF18-40C2-97A3-A71B1FD7E798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2F7F-21BE-4F8D-9AE2-E34560BC5BEE}" type="slidenum">
              <a:rPr b="0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55640" y="549000"/>
            <a:ext cx="5871960" cy="647640"/>
          </a:xfrm>
          <a:prstGeom prst="rect">
            <a:avLst/>
          </a:prstGeom>
          <a:solidFill>
            <a:srgbClr val="f5cd2d"/>
          </a:solidFill>
          <a:ln w="25560">
            <a:solidFill>
              <a:srgbClr val="b4961e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 Black"/>
              </a:rPr>
              <a:t>ТЕМ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543" name="Подзаголовок 2"/>
          <p:cNvGrpSpPr/>
          <p:nvPr/>
        </p:nvGrpSpPr>
        <p:grpSpPr>
          <a:xfrm>
            <a:off x="2268360" y="1341360"/>
            <a:ext cx="6553440" cy="5175360"/>
            <a:chOff x="2268360" y="1341360"/>
            <a:chExt cx="6553440" cy="5175360"/>
          </a:xfrm>
        </p:grpSpPr>
        <p:pic>
          <p:nvPicPr>
            <p:cNvPr id="544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2268360" y="1341360"/>
              <a:ext cx="6553440" cy="51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 Box 4"/>
            <p:cNvSpPr/>
            <p:nvPr/>
          </p:nvSpPr>
          <p:spPr>
            <a:xfrm>
              <a:off x="2388960" y="1405080"/>
              <a:ext cx="6357960" cy="50004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70aba"/>
                  </a:solidFill>
                  <a:latin typeface="Arial"/>
                </a:rPr>
                <a:t>Активизация познавательной деятельности младших школьников  на уроках окружающего мир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900" spc="-1" strike="noStrike">
                  <a:solidFill>
                    <a:srgbClr val="731ba9"/>
                  </a:solidFill>
                  <a:latin typeface="Arial Black"/>
                </a:rPr>
                <a:t>     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575f6d"/>
                  </a:solidFill>
                  <a:latin typeface="Arial Black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66"/>
                  </a:solidFill>
                  <a:latin typeface="Arial"/>
                </a:rPr>
                <a:t>Работа учителя                                                                                начальных классов    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66"/>
                  </a:solidFill>
                  <a:latin typeface="Arial"/>
                </a:rPr>
                <a:t>                                   </a:t>
              </a:r>
              <a:r>
                <a:rPr b="1" i="1" lang="ru-RU" sz="1400" spc="-1" strike="noStrike">
                  <a:solidFill>
                    <a:srgbClr val="ff0066"/>
                  </a:solidFill>
                  <a:latin typeface="Arial"/>
                </a:rPr>
                <a:t>МБОУ УСОШ №1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66"/>
                  </a:solidFill>
                  <a:latin typeface="Arial"/>
                </a:rPr>
                <a:t>им. А. С. Попова                                   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0066"/>
                  </a:solidFill>
                  <a:latin typeface="Arial"/>
                </a:rPr>
                <a:t>                   </a:t>
              </a:r>
              <a:r>
                <a:rPr b="1" i="1" lang="ru-RU" sz="1400" spc="-1" strike="noStrike">
                  <a:solidFill>
                    <a:srgbClr val="ff0066"/>
                  </a:solidFill>
                  <a:latin typeface="Arial"/>
                </a:rPr>
                <a:t>Калининой Любови Николаевны</a:t>
              </a:r>
              <a:r>
                <a:rPr b="1" i="1" lang="ru-RU" sz="1400" spc="-1" strike="noStrike">
                  <a:solidFill>
                    <a:srgbClr val="ff0066"/>
                  </a:solidFill>
                  <a:latin typeface="Arial Black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4" descr="пеликан"/>
          <p:cNvPicPr/>
          <p:nvPr/>
        </p:nvPicPr>
        <p:blipFill>
          <a:blip r:embed="rId2"/>
          <a:stretch/>
        </p:blipFill>
        <p:spPr>
          <a:xfrm>
            <a:off x="0" y="333360"/>
            <a:ext cx="2340000" cy="17496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S5004626"/>
          <p:cNvPicPr/>
          <p:nvPr/>
        </p:nvPicPr>
        <p:blipFill>
          <a:blip r:embed="rId3"/>
          <a:stretch/>
        </p:blipFill>
        <p:spPr>
          <a:xfrm>
            <a:off x="3132000" y="3573360"/>
            <a:ext cx="1944720" cy="259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Заголовок 1"/>
          <p:cNvGrpSpPr/>
          <p:nvPr/>
        </p:nvGrpSpPr>
        <p:grpSpPr>
          <a:xfrm>
            <a:off x="1695600" y="500040"/>
            <a:ext cx="6838560" cy="500040"/>
            <a:chOff x="1695600" y="500040"/>
            <a:chExt cx="6838560" cy="500040"/>
          </a:xfrm>
        </p:grpSpPr>
        <p:pic>
          <p:nvPicPr>
            <p:cNvPr id="5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698480" y="500040"/>
              <a:ext cx="68356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1695600" y="500040"/>
              <a:ext cx="6837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ЫВОД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763280" y="1700280"/>
            <a:ext cx="6769080" cy="480384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12b2"/>
                </a:solidFill>
                <a:latin typeface="Times New Roman"/>
                <a:ea typeface="Times New Roman"/>
              </a:rPr>
              <a:t>Использование методов и приёмов для повышения познавательной активности младших школьников на уроках окружающего мир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12b2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9712b2"/>
                </a:solidFill>
                <a:latin typeface="Times New Roman"/>
                <a:ea typeface="Times New Roman"/>
              </a:rPr>
              <a:t> эффективн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712b2"/>
                </a:solidFill>
                <a:latin typeface="Times New Roman"/>
                <a:ea typeface="Times New Roman"/>
              </a:rPr>
              <a:t>-результативн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712b2"/>
                </a:solidFill>
                <a:latin typeface="Times New Roman"/>
                <a:ea typeface="Times New Roman"/>
              </a:rPr>
              <a:t>-содействует воспитанию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712b2"/>
                </a:solidFill>
                <a:latin typeface="Times New Roman"/>
                <a:ea typeface="Times New Roman"/>
              </a:rPr>
              <a:t>- способствует прочному усвоению  учебного материа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907640" y="549360"/>
            <a:ext cx="6643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GRevueCyr"/>
              </a:rPr>
              <a:t>ЦЕЛИ :      </a:t>
            </a: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12b2"/>
                </a:solidFill>
                <a:latin typeface="Century Schoolbook"/>
              </a:rPr>
              <a:t>найти и использовать в системе такие формы и приемы активации познавательной деятельности, которые способствовали бы решению основных задач курса окружающего мир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12b2"/>
                </a:solidFill>
                <a:latin typeface="Century Schoolbook"/>
              </a:rPr>
              <a:t>сформировать у обучающихся представление об окружающем мире как едином целом; о роли и месте в нем человека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12b2"/>
                </a:solidFill>
                <a:latin typeface="Century Schoolbook"/>
              </a:rPr>
              <a:t>сформировать у детей убеждения в необходимости охраны природы как одном из главных условий здоровья людей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12b2"/>
                </a:solidFill>
                <a:latin typeface="Century Schoolbook"/>
              </a:rPr>
              <a:t>воспитывать гуманную, творческую, социально активную личность, относящуюся к богатствам природы бережно и ответственно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12b2"/>
                </a:solidFill>
                <a:latin typeface="Century Schoolbook"/>
              </a:rPr>
              <a:t>развивать познавательные навыки обучающихся в процессе работы на уроках окружающего мир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15640" y="642600"/>
            <a:ext cx="752796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4360" y="499680"/>
            <a:ext cx="788832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Vladimir Script"/>
              </a:rPr>
              <a:t>Формы и приемы активизаци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Vladimir Script"/>
              </a:rPr>
              <a:t>познавательной деятельност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        </a:t>
            </a: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работа в группах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        </a:t>
            </a: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проблемные ситуации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        </a:t>
            </a: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нетрадиционные уроки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        </a:t>
            </a:r>
            <a:r>
              <a:rPr b="1" lang="ru-RU" sz="3200" spc="-1" strike="noStrike">
                <a:solidFill>
                  <a:srgbClr val="11b35a"/>
                </a:solidFill>
                <a:latin typeface="a_Albionic"/>
              </a:rPr>
              <a:t>внеклассная работа</a:t>
            </a:r>
            <a:r>
              <a:rPr b="1" lang="ru-RU" sz="2800" spc="-1" strike="noStrike">
                <a:solidFill>
                  <a:srgbClr val="11b35a"/>
                </a:solidFill>
                <a:latin typeface="a_Albion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785600" y="357120"/>
            <a:ext cx="66438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CheapPizza"/>
                <a:ea typeface="Times New Roman"/>
              </a:rPr>
              <a:t>РАБОТА В ГРУППАХ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999800" y="1071360"/>
            <a:ext cx="6572520" cy="542916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b35a"/>
                </a:solidFill>
                <a:latin typeface="Century Schoolbook"/>
              </a:rPr>
              <a:t>способствует реализации воспитательных целей, приучая к ответственности, взаимопомощ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b35a"/>
                </a:solidFill>
                <a:latin typeface="Century Schoolbook"/>
              </a:rPr>
              <a:t>повышает производительность труда обучающихся, развивает познавательную активность, самостоятельнос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b35a"/>
                </a:solidFill>
                <a:latin typeface="Century Schoolbook"/>
              </a:rPr>
              <a:t>расширяет межличностные отношения де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2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20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139160" cy="654120"/>
          </a:xfrm>
          <a:prstGeom prst="rect">
            <a:avLst/>
          </a:prstGeom>
          <a:solidFill>
            <a:srgbClr val="7598d9"/>
          </a:solidFill>
          <a:ln w="25560">
            <a:solidFill>
              <a:srgbClr val="546e9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39d"/>
                </a:solidFill>
                <a:uFillTx/>
                <a:latin typeface="Brokgauz &amp; Efron"/>
              </a:rPr>
              <a:t>Правила работы в групп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Прямоугольник 2"/>
          <p:cNvSpPr/>
          <p:nvPr/>
        </p:nvSpPr>
        <p:spPr>
          <a:xfrm>
            <a:off x="395280" y="1052640"/>
            <a:ext cx="3745080" cy="17287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0aba"/>
                </a:solidFill>
                <a:latin typeface="Arial"/>
              </a:rPr>
              <a:t>Перед работой выберит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0aba"/>
                </a:solidFill>
                <a:latin typeface="Arial"/>
              </a:rPr>
              <a:t>старшего, прочитайт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0aba"/>
                </a:solidFill>
                <a:latin typeface="Arial"/>
              </a:rPr>
              <a:t>план работы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0aba"/>
                </a:solidFill>
                <a:latin typeface="Arial"/>
              </a:rPr>
              <a:t>договоритесь, кто чт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0aba"/>
                </a:solidFill>
                <a:latin typeface="Arial"/>
              </a:rPr>
              <a:t>будет дела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3"/>
          <p:cNvSpPr/>
          <p:nvPr/>
        </p:nvSpPr>
        <p:spPr>
          <a:xfrm>
            <a:off x="4716360" y="1052640"/>
            <a:ext cx="3888000" cy="17287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0aba"/>
                </a:solidFill>
                <a:latin typeface="Arial"/>
              </a:rPr>
              <a:t>Работать дружно: бы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0aba"/>
                </a:solidFill>
                <a:latin typeface="Arial"/>
              </a:rPr>
              <a:t>внимательными друг к другу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0aba"/>
                </a:solidFill>
                <a:latin typeface="Arial"/>
              </a:rPr>
              <a:t>вежливыми, не отвлекаться 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0aba"/>
                </a:solidFill>
                <a:latin typeface="Arial"/>
              </a:rPr>
              <a:t>посторонние дела, не мешать дру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0aba"/>
                </a:solidFill>
                <a:latin typeface="Arial"/>
              </a:rPr>
              <a:t>другу, вовремя оказывать помощь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0aba"/>
                </a:solidFill>
                <a:latin typeface="Arial"/>
              </a:rPr>
              <a:t>выполнять указания старшег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4"/>
          <p:cNvSpPr/>
          <p:nvPr/>
        </p:nvSpPr>
        <p:spPr>
          <a:xfrm>
            <a:off x="900000" y="2952720"/>
            <a:ext cx="3022560" cy="16527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Работать п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плану</a:t>
            </a:r>
            <a:r>
              <a:rPr b="0" lang="ru-RU" sz="2400" spc="-1" strike="noStrike">
                <a:solidFill>
                  <a:srgbClr val="170aba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5"/>
          <p:cNvSpPr/>
          <p:nvPr/>
        </p:nvSpPr>
        <p:spPr>
          <a:xfrm>
            <a:off x="4968720" y="2952720"/>
            <a:ext cx="3383280" cy="16556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Зад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выполня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добросовестн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5"/>
          <p:cNvSpPr/>
          <p:nvPr/>
        </p:nvSpPr>
        <p:spPr>
          <a:xfrm>
            <a:off x="2411280" y="4797360"/>
            <a:ext cx="4105440" cy="1656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Каждый из групп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должен уме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защищать общее дел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32920" y="549000"/>
            <a:ext cx="882036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66"/>
                </a:solidFill>
                <a:uFillTx/>
                <a:latin typeface="Century Schoolbook"/>
              </a:rPr>
              <a:t>Проблемные ситуации.</a:t>
            </a:r>
            <a:br>
              <a:rPr sz="2700"/>
            </a:br>
            <a:br>
              <a:rPr sz="2700"/>
            </a:b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Century Schoolbook"/>
              </a:rPr>
              <a:t>Требования: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Rectangle 393"/>
          <p:cNvSpPr/>
          <p:nvPr/>
        </p:nvSpPr>
        <p:spPr>
          <a:xfrm>
            <a:off x="1763640" y="1740600"/>
            <a:ext cx="693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170a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Сочетание элементов увлекательности 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познавательной ценности, котор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170aba"/>
                </a:solidFill>
                <a:latin typeface="Arial"/>
              </a:rPr>
              <a:t>заключается в их природоведческом содержан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94"/>
          <p:cNvSpPr/>
          <p:nvPr/>
        </p:nvSpPr>
        <p:spPr>
          <a:xfrm>
            <a:off x="0" y="34311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0aba"/>
                </a:solidFill>
                <a:latin typeface="Arial"/>
                <a:ea typeface="Arial"/>
              </a:rPr>
              <a:t>2.Соответствие возрастным возможностям  обучающихся класс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99"/>
          <p:cNvSpPr/>
          <p:nvPr/>
        </p:nvSpPr>
        <p:spPr>
          <a:xfrm>
            <a:off x="611280" y="53895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b35a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9" descr=""/>
          <p:cNvPicPr/>
          <p:nvPr/>
        </p:nvPicPr>
        <p:blipFill>
          <a:blip r:embed="rId1"/>
          <a:stretch/>
        </p:blipFill>
        <p:spPr>
          <a:xfrm>
            <a:off x="3333600" y="4437000"/>
            <a:ext cx="2882880" cy="215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1722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Arial"/>
                <a:ea typeface="Arial"/>
              </a:rPr>
              <a:t>ПРИМЕРЫ ПРОБЛЕМНЫХ СИТУАЦИЙ ПО ТЕМЕ «ЧТО ТАКОЕ ПРИРОДА».</a:t>
            </a:r>
            <a:br>
              <a:rPr sz="3000"/>
            </a:br>
            <a:br>
              <a:rPr sz="3000"/>
            </a:br>
            <a:r>
              <a:rPr b="1" lang="ru-RU" sz="2400" spc="-1" strike="noStrike">
                <a:solidFill>
                  <a:srgbClr val="170aba"/>
                </a:solidFill>
                <a:latin typeface="Arial"/>
                <a:ea typeface="Arial"/>
              </a:rPr>
              <a:t>- СМОГУТ ЛИ СУЩЕСТВОВАТЬ НА ЗЕМЛЕ КРОТЫ, ЕСЛИ ИСЧЕЗНЕТ СОЛНЦЕ?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70aba"/>
                </a:solidFill>
                <a:latin typeface="Arial"/>
                <a:ea typeface="Arial"/>
              </a:rPr>
              <a:t>- ИЗВЕСТНО: ПОЧВА, СОЛНЦЕ, ОСАДКИ – ОБЪЕКТЫ    НЕЖИВОЙ ПРИРОДЫ.  ЦВЕТОК, ПЧЕЛА И ЧЕЛОВЕК ОБЪЕКТЫ ЖИВОЙ ПРИРОДЫ.  </a:t>
            </a:r>
            <a:br>
              <a:rPr sz="2400"/>
            </a:br>
            <a:r>
              <a:rPr b="1" lang="ru-RU" sz="2400" spc="-1" strike="noStrike">
                <a:solidFill>
                  <a:srgbClr val="170aba"/>
                </a:solidFill>
                <a:latin typeface="Arial"/>
                <a:ea typeface="Arial"/>
              </a:rPr>
              <a:t>КАКИЕ ИЗ  УКАЗАННЫХ ОБЪЕКТОВ ЗАВИСЯТ ДРУГ ОТ ДРУГА? КАК?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Заголовок 1"/>
          <p:cNvGrpSpPr/>
          <p:nvPr/>
        </p:nvGrpSpPr>
        <p:grpSpPr>
          <a:xfrm>
            <a:off x="1852560" y="158760"/>
            <a:ext cx="6316560" cy="811080"/>
            <a:chOff x="1852560" y="158760"/>
            <a:chExt cx="6316560" cy="811080"/>
          </a:xfrm>
        </p:grpSpPr>
        <p:pic>
          <p:nvPicPr>
            <p:cNvPr id="56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852560" y="158760"/>
              <a:ext cx="631656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 Box 3"/>
            <p:cNvSpPr/>
            <p:nvPr/>
          </p:nvSpPr>
          <p:spPr>
            <a:xfrm>
              <a:off x="1928880" y="214200"/>
              <a:ext cx="6172200" cy="642960"/>
            </a:xfrm>
            <a:prstGeom prst="rect">
              <a:avLst/>
            </a:prstGeom>
            <a:solidFill>
              <a:srgbClr val="fff3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18"/>
          <p:cNvSpPr/>
          <p:nvPr/>
        </p:nvSpPr>
        <p:spPr>
          <a:xfrm>
            <a:off x="861840" y="-360"/>
            <a:ext cx="82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5050"/>
                </a:solidFill>
                <a:uFillTx/>
                <a:latin typeface="Arial"/>
              </a:rPr>
              <a:t>Нетрадиционные формы  проведения урок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1"/>
          <p:cNvSpPr/>
          <p:nvPr/>
        </p:nvSpPr>
        <p:spPr>
          <a:xfrm>
            <a:off x="250920" y="1342440"/>
            <a:ext cx="88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урок – взаимообучение;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урок – соревнование;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урок – игра («КВН», «Брейн  - ринг» и т.д.);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урок – путешествие;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урок – конкурс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7" descr=""/>
          <p:cNvPicPr/>
          <p:nvPr/>
        </p:nvPicPr>
        <p:blipFill>
          <a:blip r:embed="rId2"/>
          <a:stretch/>
        </p:blipFill>
        <p:spPr>
          <a:xfrm>
            <a:off x="5724360" y="4227480"/>
            <a:ext cx="2805120" cy="210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245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0000"/>
                </a:solidFill>
                <a:uFillTx/>
                <a:latin typeface="Brokgauz &amp; Efron"/>
              </a:rPr>
              <a:t>Внеклассная работа.</a:t>
            </a:r>
            <a:br>
              <a:rPr sz="2900"/>
            </a:br>
            <a:br>
              <a:rPr sz="29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Brokgauz &amp; Efron"/>
              </a:rPr>
              <a:t>Цели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803304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entury Schoolbook"/>
              </a:rPr>
              <a:t>способствовать более прочному и сознательному усвоению изученного на уроке материал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entury Schoolbook"/>
              </a:rPr>
              <a:t>воспитывать интерес к предмету, бережное отношение к природе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entury Schoolbook"/>
              </a:rPr>
              <a:t>содействовать развитию речи, мышления, внимания, памяти</a:t>
            </a:r>
            <a:r>
              <a:rPr b="1" lang="ru-RU" sz="2800" spc="-1" strike="noStrike">
                <a:solidFill>
                  <a:srgbClr val="7598d9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5:57:24Z</dcterms:created>
  <dc:creator>Лена</dc:creator>
  <dc:description/>
  <dc:language>en-US</dc:language>
  <cp:lastModifiedBy>219</cp:lastModifiedBy>
  <dcterms:modified xsi:type="dcterms:W3CDTF">2012-11-27T10:22:38Z</dcterms:modified>
  <cp:revision>99</cp:revision>
  <dc:subject/>
  <dc:title>Проект   Тема:</dc:title>
</cp:coreProperties>
</file>