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5A8-547B-40D0-B1C6-8B6A3EF51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3DA-FB77-48EF-B4C3-42AB2D5C5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E7A-8AAD-4226-A661-3BAD28D3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AB3-8232-44CC-B280-4FAF846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357592-59DC-4BB3-80E9-F31BEFEF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1F30A-3FAE-46A1-B545-B8CCDADE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DBC5F-2B3F-425A-828E-978F892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09E9B-248E-424D-AF91-FC1B006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3E725-CA8A-48D3-A9BA-BA6D63B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098115-BA6A-4421-8DB2-37958DE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5B3E0-45E9-472F-9CA6-7844652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EAFD6-D9B3-4817-AEE3-EFC0C818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4E2D7-21AE-43E9-975F-F5DE0F88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DE705C-F084-425E-BECB-E8CF0291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691-B40F-468C-9325-AB85CC18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FA6463-7932-47EB-B192-27592EF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C0AEBC-7D42-4D33-915E-A8AF7FE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6955DD-452C-48CC-AEF9-EEDCEE64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698A6-0ECB-417D-B32D-5503E43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F727A-3496-42DF-B5EA-A4B90DEB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65956-3D05-4936-88C4-9283E83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2B8DDB-F581-415F-A2E2-3B4F623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C1F26F-B2E2-43B8-A071-54B1151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11CED-F216-47B9-8F10-886B0430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A633C-8B1D-4FA9-B9E9-A49B4CFE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835-CB81-43C9-866E-06A8BE0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485EB1-66B1-46C4-97A9-047F2F3E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35B3-5F08-4BF3-976E-4D0694E1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34C5-910B-451F-9545-A76BA081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8658-E68F-451B-8ECD-624045C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6337-E93E-47A9-A746-8B048D56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83B91-3549-4B60-B32B-F1D8D9E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15681-99DF-41C3-BA50-17011FAB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EE80-A066-4B2A-ABAC-BB00D8C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D61B-2D54-43A3-A2F7-072EDE7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61DA-1FD1-4E00-A5D5-DD725B0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CE4E-9BAB-4C32-9BFF-A63DB085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A46A2-C24D-4917-AA3A-BE28B6D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AEDA-B908-4874-91FB-B3439F6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4F0AC-2F1D-4677-8138-A113A3F0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9B206-9DCC-44BB-8AAD-E34CC45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AD511-8370-4177-AA9E-F270D98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89B61-8410-40C1-86EB-05FC76E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D68A6-E8FC-4B96-8170-2329C7C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6CB6D-4284-45A6-B601-E3B728B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75594-5DB3-4A14-BD25-795F8BD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920-ACAA-4DEB-9C6D-0FE9CCB9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577C-0EE9-4288-AC16-DDDACBC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13BC-31C8-4347-8437-AE718CA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6CBA4-F940-4023-B169-D12CEE6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6AED8-99B8-4156-82AE-B209B1E1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97171-6A38-4E59-937B-CB34998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B4BA-E489-4BF4-989A-A86B926C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11AF-0F60-4F70-8CD5-D1A0A93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DBBE-F646-4031-BF9F-F31F908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7008-3692-42BF-AFA2-544DF9C9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12C8-3975-4B83-8431-DEA64ED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22D-A59F-440B-A71A-0982815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4E39-372D-455B-8BED-B1FBC48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D5D8-5EFB-4DCD-9778-72E49B0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3BAE-6635-4ECD-A1B7-89E7621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1C07-C90A-44E7-B2FD-F78C004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BE0B-B2B5-4B1C-930C-FB5FF4A1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F3DF-3850-4944-9F90-81762BCA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1F30-CB9E-4C41-A73D-947E9DAD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747E-2F68-47BA-82AE-07C78D8A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45B0-2AEA-4533-8E78-8845670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90C8-551C-4F88-9F49-B77136B7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D71-08F3-4405-91F5-C9D318F7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F8C3-3C05-438E-9421-7A03AF3E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4392-295A-41EA-A1B9-A2A294E6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6D69-A438-4810-9343-1A2A47E5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8DC4-1BE9-4D6F-91C7-B936DFF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AAD0-1427-4103-ADA5-43127D2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8140-2FD4-4517-88B1-5CB5F54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54C8-E6C7-44DE-859F-A4231E03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76B8-F791-4255-83E4-65BEAB9F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3B51-8E43-460A-BFB0-80E3D54A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82C79-D35D-4E33-8D97-FB0DDF27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B9C-6472-481B-A16E-AA47BA6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B6306-2D2C-4D15-996F-DEC7F5B1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B3F34-C6CB-4099-A64D-E97CB3A6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38627-238C-448D-9435-A9BA9D0E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BB3DE-8639-489A-9F5D-CF07A83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3794C-7875-48DD-B8ED-9B4D44D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6AC61-99CA-4BC4-8194-C74B57E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BB95F-5267-4450-971B-DF04C4D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88042-A68E-4647-8DA0-BE85B10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6902A-A863-4987-BDBA-41E670D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1C191-9403-4435-980B-3D481978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59D-1829-4A9B-BA30-165E3848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B33E3-0A35-4C4D-9152-FE2E239D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C98E-A68F-4CC1-87FE-0AE9584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B912-AD66-46FF-9DAE-665741B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93A0-C5A8-4D1E-9E29-86D6AD27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ED6A-15B7-49FC-8B9B-6219290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009FF-F102-4107-A17E-9135CAC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6C31-68E3-457B-B66B-3625369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B045-8C3C-4BE8-9958-58FBF3E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D1D9-1810-45A0-8248-97282D9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AD35-A004-4E0F-A6C2-D81BCBF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06A-F4FF-458A-B1EC-4E73B07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9759-4A26-4C48-8689-D75BA31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B782-ABDB-4E53-BD6F-B1C274D1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6814-D04A-475B-BCA1-51518F7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79A7C-321E-462C-B68B-653D2BEC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C16A7-542F-4882-BA87-F3EF132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812EF-846A-4993-9C49-A688C49D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54F1A-CAD0-4C34-B00C-B8720D33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EA9C5-928D-44D0-AA6F-F513196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813B7-C512-4D66-8A1F-4135A3BD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7A11C-3FD2-406B-ADCC-3FE73A0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51B-0B68-45FE-9116-12FF88D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E30FD-6DD4-4C44-B91E-796F0D9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EDF3A-5FCF-4777-8A2C-6085E67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981A6-23CB-4F0A-91DA-DAA36F6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EF302-B570-4F92-9805-13FD4524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787AD-E55B-4B85-9C27-6911F313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86CD6-7A9E-4985-8447-A63DA943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85B847-F5C1-49E3-86AC-D1DD603D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9C214-AAFA-4C75-B138-C7AB54A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C2558-97DD-43B8-8E74-028E9F9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BE2F1-5D19-48C6-9991-88D7E49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8D0-D726-4D18-9927-549FB61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BD6FB-4A8A-443D-ACB4-6EB8C5B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323C6-AEF4-4D91-8212-1A319810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BDB84-E5D9-417B-B035-D3CDF82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B865C-5733-4131-9F19-7512F83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1A00E-E421-4697-A0C7-D20D4BC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A815E-B8F8-477C-AB43-26939BA8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EAB83-2D50-458C-AFC0-16884810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F94E1-24C9-4154-8990-30D8A119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84CC2-2A9A-4D58-8680-B27D706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15973-E781-487B-9B80-2E29DEE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2D1-A40D-4F7B-B150-2F967FDAF6A5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EEB-2562-4B12-907E-41205534B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56E-CE5E-43AD-AE04-D7C1618EAA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BFB-63C7-4465-B79A-C2626A695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0D8D-0662-48B2-8ABF-861461E22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3832-A77B-4534-A834-1129F896ADE1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B3C-DCCB-41F5-A3BF-8EFE19AB6DEC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2AB-76A8-4858-8E2B-D4BC224A0A0B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1B22-B052-40A3-8EA8-2504274C1F57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ABA-F57A-4FFE-B35F-B039BE2ECB72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13D-617C-4BBE-AE57-F5C837B8B359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55640" y="549000"/>
            <a:ext cx="5871960" cy="647640"/>
          </a:xfrm>
          <a:prstGeom prst="rect">
            <a:avLst/>
          </a:prstGeom>
          <a:solidFill>
            <a:srgbClr val="f5cd2d"/>
          </a:solidFill>
          <a:ln w="25560">
            <a:solidFill>
              <a:srgbClr val="b4961e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 Black"/>
              </a:rPr>
              <a:t>ТЕМ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543" name="Подзаголовок 2"/>
          <p:cNvGrpSpPr/>
          <p:nvPr/>
        </p:nvGrpSpPr>
        <p:grpSpPr>
          <a:xfrm>
            <a:off x="2268360" y="1341360"/>
            <a:ext cx="6553440" cy="5175360"/>
            <a:chOff x="2268360" y="1341360"/>
            <a:chExt cx="6553440" cy="5175360"/>
          </a:xfrm>
        </p:grpSpPr>
        <p:pic>
          <p:nvPicPr>
            <p:cNvPr id="544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2268360" y="1341360"/>
              <a:ext cx="655344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4"/>
            <p:cNvSpPr/>
            <p:nvPr/>
          </p:nvSpPr>
          <p:spPr>
            <a:xfrm>
              <a:off x="2388960" y="1405080"/>
              <a:ext cx="6357960" cy="50004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0aba"/>
                  </a:solidFill>
                  <a:latin typeface="Arial"/>
                </a:rPr>
                <a:t>Активизация познавательной деятельности младших школьников  на уроках окружающего мир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731ba9"/>
                  </a:solidFill>
                  <a:latin typeface="Arial Black"/>
                </a:rPr>
                <a:t>     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575f6d"/>
                  </a:solidFill>
                  <a:latin typeface="Arial Black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Работа учителя                                                                                начальных классов    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                                   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МБОУ УСОШ №1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им. А. С. Попова                                   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                   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Калининой Любови Николаевны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 Black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4" descr="пеликан"/>
          <p:cNvPicPr/>
          <p:nvPr/>
        </p:nvPicPr>
        <p:blipFill>
          <a:blip r:embed="rId2"/>
          <a:stretch/>
        </p:blipFill>
        <p:spPr>
          <a:xfrm>
            <a:off x="0" y="333360"/>
            <a:ext cx="2340000" cy="1749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S5004626"/>
          <p:cNvPicPr/>
          <p:nvPr/>
        </p:nvPicPr>
        <p:blipFill>
          <a:blip r:embed="rId3"/>
          <a:stretch/>
        </p:blipFill>
        <p:spPr>
          <a:xfrm>
            <a:off x="3132000" y="357336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Заголовок 1"/>
          <p:cNvGrpSpPr/>
          <p:nvPr/>
        </p:nvGrpSpPr>
        <p:grpSpPr>
          <a:xfrm>
            <a:off x="1695600" y="500040"/>
            <a:ext cx="6838560" cy="500040"/>
            <a:chOff x="1695600" y="500040"/>
            <a:chExt cx="6838560" cy="500040"/>
          </a:xfrm>
        </p:grpSpPr>
        <p:pic>
          <p:nvPicPr>
            <p:cNvPr id="5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698480" y="500040"/>
              <a:ext cx="6835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1695600" y="500040"/>
              <a:ext cx="6837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ЫВО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63280" y="1700280"/>
            <a:ext cx="6769080" cy="480384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Использование методов и приёмов для повышения познавательной активности младших школьников на уроках окружающего ми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 эффектив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результатив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содействует воспитан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 способствует прочному усвоению  учебного материа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907640" y="549360"/>
            <a:ext cx="664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GRevueCyr"/>
              </a:rPr>
              <a:t>ЦЕЛИ :      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найти и использовать в системе такие формы и приемы активации познавательной деятельности, которые способствовали бы решению основных задач курса окружающего мир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сформировать у обучающихся представление об окружающем мире как едином целом; о роли и месте в нем человек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сформировать у детей убеждения в необходимости охраны природы как одном из главных условий здоровья люд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воспитывать гуманную, творческую, социально активную личность, относящуюся к богатствам природы бережно и ответственно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развивать познавательные навыки обучающихся в процессе работы на уроках окружающего ми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5640" y="642600"/>
            <a:ext cx="752796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4360" y="499680"/>
            <a:ext cx="78883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ladimir Script"/>
              </a:rPr>
              <a:t>Формы и приемы активизаци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ladimir Script"/>
              </a:rPr>
              <a:t>познавательной деятельнос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работа в группах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проблемные ситуац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нетрадиционные урок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внеклассная работа</a:t>
            </a:r>
            <a:r>
              <a:rPr b="1" lang="ru-RU" sz="2800" spc="-1" strike="noStrike">
                <a:solidFill>
                  <a:srgbClr val="11b35a"/>
                </a:solidFill>
                <a:latin typeface="a_Albion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66438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CheapPizza"/>
                <a:ea typeface="Times New Roman"/>
              </a:rPr>
              <a:t>РАБОТА В ГРУППА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99800" y="1071360"/>
            <a:ext cx="6572520" cy="542916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способствует реализации воспитательных целей, приучая к ответственности, взаимопомощ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повышает производительность труда обучающихся, развивает познавательную активность, самостоятель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расширяет межличностные отношения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139160" cy="654120"/>
          </a:xfrm>
          <a:prstGeom prst="rect">
            <a:avLst/>
          </a:prstGeom>
          <a:solidFill>
            <a:srgbClr val="7598d9"/>
          </a:solidFill>
          <a:ln w="25560">
            <a:solidFill>
              <a:srgbClr val="546e9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39d"/>
                </a:solidFill>
                <a:uFillTx/>
                <a:latin typeface="Brokgauz &amp; Efron"/>
              </a:rPr>
              <a:t>Правила работы в групп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Прямоугольник 2"/>
          <p:cNvSpPr/>
          <p:nvPr/>
        </p:nvSpPr>
        <p:spPr>
          <a:xfrm>
            <a:off x="395280" y="1052640"/>
            <a:ext cx="3745080" cy="17287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Перед работой выбери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старшего, прочитай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план работ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договоритесь, кто ч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будет дел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3"/>
          <p:cNvSpPr/>
          <p:nvPr/>
        </p:nvSpPr>
        <p:spPr>
          <a:xfrm>
            <a:off x="4716360" y="1052640"/>
            <a:ext cx="3888000" cy="17287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Работать дружно: бы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нимательными друг к другу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ежливыми, не отвлекаться 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посторонние дела, не мешать дру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другу, вовремя оказывать помощь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ыполнять указания старшег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4"/>
          <p:cNvSpPr/>
          <p:nvPr/>
        </p:nvSpPr>
        <p:spPr>
          <a:xfrm>
            <a:off x="900000" y="2952720"/>
            <a:ext cx="3022560" cy="16527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Работать п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плану</a:t>
            </a:r>
            <a:r>
              <a:rPr b="0" lang="ru-RU" sz="2400" spc="-1" strike="noStrike">
                <a:solidFill>
                  <a:srgbClr val="170ab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4968720" y="2952720"/>
            <a:ext cx="3383280" cy="1655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д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выполня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добросовестн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2411280" y="4797360"/>
            <a:ext cx="4105440" cy="165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Каждый из груп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должен ум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щищать общее дел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32920" y="549000"/>
            <a:ext cx="882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66"/>
                </a:solidFill>
                <a:uFillTx/>
                <a:latin typeface="Century Schoolbook"/>
              </a:rPr>
              <a:t>Проблемные ситуации.</a:t>
            </a:r>
            <a:br>
              <a:rPr sz="2700"/>
            </a:br>
            <a:br>
              <a:rPr sz="27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Century Schoolbook"/>
              </a:rPr>
              <a:t>Требования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Rectangle 393"/>
          <p:cNvSpPr/>
          <p:nvPr/>
        </p:nvSpPr>
        <p:spPr>
          <a:xfrm>
            <a:off x="1763640" y="174060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170a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Сочетание элементов увлекательности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познавательной ценности, котор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ключается в их природоведческом содержа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94"/>
          <p:cNvSpPr/>
          <p:nvPr/>
        </p:nvSpPr>
        <p:spPr>
          <a:xfrm>
            <a:off x="0" y="34311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2.Соответствие возрастным возможностям  обучающихся клас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99"/>
          <p:cNvSpPr/>
          <p:nvPr/>
        </p:nvSpPr>
        <p:spPr>
          <a:xfrm>
            <a:off x="611280" y="53895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b35a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"/>
          <p:cNvPicPr/>
          <p:nvPr/>
        </p:nvPicPr>
        <p:blipFill>
          <a:blip r:embed="rId1"/>
          <a:stretch/>
        </p:blipFill>
        <p:spPr>
          <a:xfrm>
            <a:off x="3333600" y="4437000"/>
            <a:ext cx="288288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1722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ПРИМЕРЫ ПРОБЛЕМНЫХ СИТУАЦИЙ ПО ТЕМЕ «ЧТО ТАКОЕ ПРИРОДА».</a:t>
            </a:r>
            <a:br>
              <a:rPr sz="3000"/>
            </a:br>
            <a:br>
              <a:rPr sz="30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- СМОГУТ ЛИ СУЩЕСТВОВАТЬ НА ЗЕМЛЕ КРОТЫ, ЕСЛИ ИСЧЕЗНЕТ СОЛНЦЕ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- ИЗВЕСТНО: ПОЧВА, СОЛНЦЕ, ОСАДКИ – ОБЪЕКТЫ    НЕЖИВОЙ ПРИРОДЫ.  ЦВЕТОК, ПЧЕЛА И ЧЕЛОВЕК ОБЪЕКТЫ ЖИВОЙ ПРИРОДЫ.  </a:t>
            </a:r>
            <a:br>
              <a:rPr sz="24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КАКИЕ ИЗ  УКАЗАННЫХ ОБЪЕКТОВ ЗАВИСЯТ ДРУГ ОТ ДРУГА? КАК?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Заголовок 1"/>
          <p:cNvGrpSpPr/>
          <p:nvPr/>
        </p:nvGrpSpPr>
        <p:grpSpPr>
          <a:xfrm>
            <a:off x="1852560" y="158760"/>
            <a:ext cx="6316560" cy="811080"/>
            <a:chOff x="1852560" y="158760"/>
            <a:chExt cx="6316560" cy="811080"/>
          </a:xfrm>
        </p:grpSpPr>
        <p:pic>
          <p:nvPicPr>
            <p:cNvPr id="5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852560" y="158760"/>
              <a:ext cx="63165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 Box 3"/>
            <p:cNvSpPr/>
            <p:nvPr/>
          </p:nvSpPr>
          <p:spPr>
            <a:xfrm>
              <a:off x="1928880" y="214200"/>
              <a:ext cx="6172200" cy="642960"/>
            </a:xfrm>
            <a:prstGeom prst="rect">
              <a:avLst/>
            </a:prstGeom>
            <a:solidFill>
              <a:srgbClr val="fff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18"/>
          <p:cNvSpPr/>
          <p:nvPr/>
        </p:nvSpPr>
        <p:spPr>
          <a:xfrm>
            <a:off x="861840" y="-3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Нетрадиционные формы  проведения уро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1"/>
          <p:cNvSpPr/>
          <p:nvPr/>
        </p:nvSpPr>
        <p:spPr>
          <a:xfrm>
            <a:off x="250920" y="1342440"/>
            <a:ext cx="88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взаимообучен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соревнован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игра («КВН», «Брейн  - ринг» и т.д.)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путешеств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конкурс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2"/>
          <a:stretch/>
        </p:blipFill>
        <p:spPr>
          <a:xfrm>
            <a:off x="5724360" y="4227480"/>
            <a:ext cx="2805120" cy="21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24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Brokgauz &amp; Efron"/>
              </a:rPr>
              <a:t>Внеклассная работа.</a:t>
            </a:r>
            <a:br>
              <a:rPr sz="2900"/>
            </a:br>
            <a:br>
              <a:rPr sz="29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Brokgauz &amp; Efron"/>
              </a:rPr>
              <a:t>Цел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0330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способствовать более прочному и сознательному усвоению изученного на уроке материал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воспитывать интерес к предмету, бережное отношение к прир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содействовать развитию речи, мышления, внимания, памяти</a:t>
            </a:r>
            <a:r>
              <a:rPr b="1" lang="ru-RU" sz="2800" spc="-1" strike="noStrike">
                <a:solidFill>
                  <a:srgbClr val="7598d9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57:24Z</dcterms:created>
  <dc:creator>Лена</dc:creator>
  <dc:description/>
  <dc:language>en-US</dc:language>
  <cp:lastModifiedBy>219</cp:lastModifiedBy>
  <dcterms:modified xsi:type="dcterms:W3CDTF">2012-11-27T10:22:38Z</dcterms:modified>
  <cp:revision>99</cp:revision>
  <dc:subject/>
  <dc:title>Проект   Тема:</dc:title>
</cp:coreProperties>
</file>