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D45-D7AD-42DB-B0D9-BD43FB99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8E5-1555-46A3-949B-34737529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02E-0A4A-4ED2-AFC3-5E7C10FA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7ED-A33D-495E-A120-34424F03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9E92-F500-42B7-871E-74DB19EB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7AC6-41BA-44B6-86A5-01B8B55E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A86E-6F10-4E94-AF95-1AE5D4E0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1879-EC8E-437E-B264-43FC1918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5813-D307-469C-AE0E-48D1091F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C0BF-69F3-400C-AE22-77C860D0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23CC-E0F1-4534-BAE6-DDB31677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9E3-47BF-44D6-ADF0-28430526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141A-2341-4B11-ADCE-E32410FD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6D73-2DCA-4264-A860-4EAEDFE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34D2-3EA5-4A02-9156-952CBCC3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5E0F-7750-457A-9CD3-954EF44B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5908-5B5A-47F3-8697-0CF49401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8A3-6EA2-44B2-8E92-A9BB2923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FBD-1AD9-45C4-92D8-FF119B72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ED5-DF03-4469-A4A7-0DD898EA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F96-EEEB-44CA-95BE-10964C54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215-2AF9-4AB3-B4CC-DA92072F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AFB-9F5D-4001-B19F-A0F039F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423-A110-41BF-BF6A-EDE0D8C1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0A94-B547-4188-85F4-BE1C8D5A464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EE48-93E3-4006-A628-F6EF63AFAA5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1042920" y="-217440"/>
            <a:ext cx="7561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РАКТИКО - ОРИЕНТИРОВАННЫЙ ПРОЕКТ ПО ТЕМЕ: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« РАЗВИТИЕ УСТНОЙ РЕЧИ В УРОЧНОЙ ДЕЯТЕЛЬНОСТИ»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ЗОВАТЕЛЬНАЯ ПРОГРАММА СПЕЦИАЛЬНЫХ (КОРРЕКЦИОННЫХ) ОБРАЗОВАТЕЛЬНЫХ УЧРЕЖДЕНИЙ VIII ВИД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К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ЯНА Л. 3 класс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А:     УЧИТЕЛЬ МБОУ УСОШ №1 им. А.С.ПОПОВ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УСЕВА ВЕРА АЛЕКСАНДРОВН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домля 2010 г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395280" y="18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95280" y="189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189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 ЭТАП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ить уровень развития устной речи на начальном этапе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95280" y="18900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 ЭТАП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ить уровень развития устной речи на начальном этапе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I ЭТАП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системы работ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95280" y="18900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 ЭТАП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ить уровень развития устной речи на начальном этапе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I ЭТАП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системы работ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V ЭТАП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лиз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395280" y="189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 ЭТАП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ить уровень развития устной речи на начальном этапе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I ЭТАП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системы работ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V ЭТАП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лиз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вести промежуточную диагностику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95280" y="18900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 ЭТАП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ить уровень развития устной речи на начальном этапе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I ЭТАП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системы работ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V ЭТАП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лиз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вести промежуточную диагностику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I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ализ внедрения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95280" y="18900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 ЭТАП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ить уровень развития устной речи на начальном этапе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I ЭТАП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системы работ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V ЭТАП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лиз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вести промежуточную диагностику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I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ализ внедрения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II ЭТАП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 с родителям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5f71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накомить родителей с итогами работы по развитию устной речи. (Индивидуальные консультации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324000" y="15876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 ЭТАП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ить уровень развитие устной речи на начальном этапе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I ЭТАП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системы работ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V ЭТАП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лиз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вести промежуточную диагностику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I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ализ внедрения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II ЭТАП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 с родителям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5f71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накомить родителей с итогами работы по развитию устной речи. (Индивидуальные консультации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III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.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общение опыта работ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5f71"/>
                </a:solidFill>
                <a:latin typeface="Times New Roman"/>
              </a:rPr>
              <a:t>ЗАДАЧА ЭТАПА</a:t>
            </a: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ступить с опытом работы на методической планёрк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24000" y="158760"/>
            <a:ext cx="82803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 ЭТАП.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метод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 ЭТАП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ить уровень развитие устной речи на начальном этапе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II ЭТАП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системы работ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ланир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V ЭТАП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лизовать систему работы по развитию устной реч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8ea9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вести промежуточную диагностику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I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ализ внедрения про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II ЭТАП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 с родителям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5f71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накомить родителей с итогами работы по развитию устной речи. (Индивидуальные консультации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VIII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.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общение опыта работ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5f71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ступить с опытом работы на методической планёрк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IX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75bb0"/>
                </a:solidFill>
                <a:latin typeface="Times New Roman"/>
              </a:rPr>
              <a:t>ЭТАП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стическая деятельность на заключительном этапе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5f71"/>
                </a:solidFill>
                <a:latin typeface="Times New Roman"/>
              </a:rPr>
              <a:t>ЗАДАЧА ЭТАП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вести диагностику речевой деятельности учащихс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68360" y="1197000"/>
            <a:ext cx="8136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ЦЕЛЬ ПРОЕКТ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: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ганизовать учебный процесс так, чтобы в процессе получения знаний по чтению, русскому языку, ознакомлению с окружающим миром, природоведению у детей развивалась связная реч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611280" y="60156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СЛОВИЯ РЕАЛИЗАЦИИ ПРОЕКТА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611280" y="601560"/>
            <a:ext cx="7705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СЛОВИЯ РЕАЛИЗАЦИИ ПРОЕКТА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ект будет реализован, когда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дет накоплена материально-техническая база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611280" y="601560"/>
            <a:ext cx="770580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СЛОВИЯ РЕАЛИЗАЦИИ ПРОЕКТА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ект будет реализован, когда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дет накоплена материально-техническая база;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ован учебный процесс с учётом основных принципов образования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601560"/>
            <a:ext cx="7705800" cy="61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СЛОВИЯ РЕАЛИЗАЦИИ ПРОЕКТА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ект будет реализован, когда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дет накоплена материально-техническая база;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ован учебный процесс с учётом основных принципов образования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деятельности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целостного представления о мире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непрерывности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психологической комфортности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вариативности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творчества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611280" y="601560"/>
            <a:ext cx="77058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611280" y="601560"/>
            <a:ext cx="7705800" cy="66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СЛОВИЯ РЕАЛИЗАЦИИ ПРОЕКТА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ект будет реализован, когда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дет накоплена материально-техническая база;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ован учебный процесс с учётом основных принципов образования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деятельности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целостного представления о мире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непрерывности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психологической комфортности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вариативности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принцип творчества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интересованность родителей в развитии своего ребёнка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24000" y="8366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ОГНОЗ ПРОБЛЕМ ПРИ ВНЕДРЕНИИ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24000" y="83664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ОГНОЗ ПРОБЛЕМ ПРИ ВНЕДРЕНИИ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я образовательного процесса представленного в данном проекте, предполагает ряд проблем при его реализации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324000" y="83664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ОГНОЗ ПРОБЛЕМ ПРИ ВНЕДРЕНИИ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я образовательного процесса представленного в данном проекте, предполагает ряд проблем при его реализации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едостаточное материально-техническое оснащение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32400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324000" y="836640"/>
            <a:ext cx="842472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ОГНОЗ ПРОБЛЕМ ПРИ ВНЕДРЕНИИ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я образовательного процесса представленного в данном проекте, предполагает ряд проблем при его реализации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едостаточное материально-техническое оснащение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специфичность процесса обучения и воспитания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24000" y="836640"/>
            <a:ext cx="8424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ОГНОЗ ПРОБЛЕМ ПРИ ВНЕДРЕНИИ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я образовательного процесса представленного в данном проекте, предполагает ряд проблем при его реализации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едостаточное материально-техническое оснащение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специфичность процесса обучения и воспитания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едостаточный уровень профессиональной подготовки учителя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39640" y="333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ить хорошую языковую среду для учащихся: восприятие речи взрослых, чтение книг, слушание радио и т. д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324000" y="836640"/>
            <a:ext cx="842472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ОГНОЗ ПРОБЛЕМ ПРИ ВНЕДРЕНИИ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я образовательного процесса представленного в данном проекте, предполагает ряд проблем при его реализации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едостаточное материально-техническое оснащение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специфичность процесса обучения и воспитания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едостаточный уровень профессиональной подготовки учителя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езаинтересованность родителей в обучении и воспитани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учащихс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042920" y="404640"/>
            <a:ext cx="73454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Литературное чтение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класс (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III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да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ем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: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 Берестов  «Гололедица»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 Орлов «Никто не обижается»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Учитель: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сева Вера Александровн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БОУ УСОШ №1 им. А.С.ПОПОВ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домля   2010 г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826920" y="836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826920" y="836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ЕМА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Берестов. « Гололедица »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Орлов.     « Никто не обижается »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826920" y="836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ЕМА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Берестов. « Гололедица »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Орлов.     « Никто не обижается »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учить анализировать стихи, чувствовать юмор стихотворения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сравнивать стихи по интонации и темпу чтения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826920" y="836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ЕМА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Берестов. « Гололедица »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Орлов.     « Никто не обижается »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учить анализировать стихи, чувствовать юмор стихотворения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сравнивать стихи по интонации и темпу чтения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отрабатывать навык выразительного чтения стих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826920" y="836640"/>
            <a:ext cx="756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ЕМА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Берестов. « Гололедица »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Орлов.     « Никто не обижается »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учить анализировать стихи, чувствовать юмор стихотворения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сравнивать стихи по интонации и темпу чтения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отрабатывать навык выразительного чтения стих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работать над чёткостью произношения сл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826920" y="83664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ЕМА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Берестов. « Гололедица »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Орлов.     « Никто не обижается »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учить анализировать стихи, чувствовать юмор стихотворения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сравнивать стихи по интонации и темпу чтения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отрабатывать навык выразительного чтения стих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работать над чёткостью произношения сл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вести активное речевое развитие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826920" y="836640"/>
            <a:ext cx="756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ЕМА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Берестов. « Гололедица »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Орлов.     « Никто не обижается »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учить анализировать стихи, чувствовать юмор стихотворения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сравнивать стихи по интонации и темпу чтения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отрабатывать навык выразительного чтения стих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работать над чёткостью произношения сл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вести активное речевое развитие;\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воспитывать чувство сострадания к людям, попавшим в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трудную ситуацию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826920" y="836640"/>
            <a:ext cx="756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ЕМА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Берестов. « Гололедица »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Орлов.     « Никто не обижается »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учить анализировать стихи, чувствовать юмор стихотворения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сравнивать стихи по интонации и темпу чтения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отрабатывать навык выразительного чтения стих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работать над чёткостью произношения сл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вести активное речевое развитие;\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воспитывать чувство сострадания к людям, попавшим в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трудную ситуацию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воспитывать чувство любви к прекрасному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826920" y="836640"/>
            <a:ext cx="756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ЕМА.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Берестов. « Гололедица »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Орлов.     « Никто не обижается »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учить анализировать стихи, чувствовать юмор стихотворения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сравнивать стихи по интонации и темпу чтения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отрабатывать навык выразительного чтения стих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работать над чёткостью произношения слов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вести активное речевое развитие;\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воспитывать чувство сострадания к людям, попавшим в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трудную ситуацию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воспитывать чувство любви к прекрасному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создавать благоприятную обстановку, для сохране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психического и физического здоровья ребён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39640" y="33336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ить хорошую языковую среду для учащихся: восприятие речи взрослых, чтение книг, слушание радио и т. д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ить создание речевых ситуаций, определяющих мотивацию собственной речи учащихся, развивать их интересы, потребности и возможности самостоятельной реч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468360" y="1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468360" y="18900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4"/>
          <p:cNvSpPr/>
          <p:nvPr/>
        </p:nvSpPr>
        <p:spPr>
          <a:xfrm>
            <a:off x="468360" y="189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Организационный момент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042920" y="83664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189000"/>
            <a:ext cx="8280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Организационный момент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дготовительный этап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Говорить на уроке надо чётко и внятно, для этого проведём     артикуляционную гимнастику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2"/>
          <p:cNvSpPr/>
          <p:nvPr/>
        </p:nvSpPr>
        <p:spPr>
          <a:xfrm>
            <a:off x="468360" y="189000"/>
            <a:ext cx="8280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Организационный момент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дготовительный этап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Говорить на уроке надо чётко и внятно, для этого проведём     артикуляционную гимнастику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для губ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468360" y="189000"/>
            <a:ext cx="8280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Организационный момент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дготовительный этап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Говорить на уроке надо чётко и внятно, для этого проведём     артикуляционную гимнастику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для губ;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упражнения: «Часики», Качели», «Грибок»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«Лопатка», «Лошадка»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1" name="Рисунок 2" descr=""/>
          <p:cNvPicPr/>
          <p:nvPr/>
        </p:nvPicPr>
        <p:blipFill>
          <a:blip r:embed="rId1"/>
          <a:stretch/>
        </p:blipFill>
        <p:spPr>
          <a:xfrm>
            <a:off x="2994120" y="3235320"/>
            <a:ext cx="3228840" cy="242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468360" y="189000"/>
            <a:ext cx="82803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2.    Подготовительный этап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Чистоговорки - шутк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о - ол - ор –у. Ромы топор. Ло - ло - ро -у меня перо. Ри - ри - ли - улицу мел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468360" y="189000"/>
            <a:ext cx="8280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2.    Подготовительный этап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Чистоговорки - шутк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о - ол - ор –у. Ромы топор. Ло - ло - ро -у меня перо. Ри - ри - ли - улицу мел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г) Дыхательная гимнасти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629080" y="2708280"/>
            <a:ext cx="3958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468360" y="189000"/>
            <a:ext cx="828036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2.     Подготовительный этап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Загадк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ойка, тройка прилетела,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акуны в той тройке бел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 в санях сидит царица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окоса, белолица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к махнула рукавом-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ё покрылось серебром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 Зима.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Book Antiqua"/>
              </a:rPr>
              <a:t>Какие слова помогли тебе отгадать загадку?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468360" y="189000"/>
            <a:ext cx="828036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2.     Подготовительный этап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Загадк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ойка, тройка прилетела,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акуны в той тройке бел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 в санях сидит царица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окоса, белолица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к махнула рукавом-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ё покрылось серебром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 Зима.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Book Antiqua"/>
              </a:rPr>
              <a:t>Какие слова помогли тебе отгадать загадку?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468360" y="189000"/>
            <a:ext cx="828036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2.     Подготовительный этап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Загадк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ойка, тройка прилетела,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акуны в той тройке белы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 в санях сидит царица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окоса, белолица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к махнула рукавом-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ё покрылось серебром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 Зима.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Book Antiqua"/>
              </a:rPr>
              <a:t>Какие слова помогли тебе отгадать загадку?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е)  Сегодня мы прочитаем стихи о зиме. Может быть, ты узнаешь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что-нибудь новое, интересное и полезное для себя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539640" y="33336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ить хорошую языковую среду для учащихся: восприятие речи взрослых, чтение книг, слушание радио и т. д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ить создание речевых ситуаций, определяющих мотивацию собственной речи учащихся, развивать их интересы, потребности и возможности самостоятельной реч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ить правильное усвоение учащимися достаточного лексического запаса, грамматических форм, синтаксических конструкций, логических связей, активизировать употребление слов, образование форм, построение конструкций, обеспечить формирование конкретных умений в области развития реч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468360" y="189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468360" y="189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3. Проверка домашнего задания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прошлом уроке мы читали рассказ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П.Чехова «Первый снег»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гда ты увидела первый снег, какие чувства ты испытала?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Рассказ ученицы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468360" y="189000"/>
            <a:ext cx="8280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3. Проверка домашнего задания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прошлом уроке мы читали рассказ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П.Чехова «Первый снег»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гда ты увидела первый снег, какие чувства ты испытала?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Рассказ ученицы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Рисунок 2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201600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468360" y="18900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ка к чтению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рассмотри иллюстрацию к стихотворению. Что здесь изображен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468360" y="189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468360" y="189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ка к чтению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рассмотри иллюстрацию к стихотворению. Что здесь изображен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ты думаешь, чём это стихотворение? Оно весёлое или грустное? Почему ты так думаешь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468360" y="189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468360" y="189000"/>
            <a:ext cx="828036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ка к чтению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рассмотри иллюстрацию к стихотворению. Что здесь изображен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ты думаешь, чём это стихотворение? Оно весёлое или грустное? Почему ты так думаешь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. Прочитать слова, записанные на доске сначала плавно по слогам, затем целым словом - орфоэпическ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-ЛО- ЛЕ- ДИЦ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-ДЁТ-С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-ДЕТ-С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- ДА-ЕТ-С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-ДУ- ЕТ-С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468360" y="189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68360" y="18900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Чтение стихотворения учителем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468360" y="189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Чтение стихотворения учителем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Изменилось ли твоё мнение о настроении, которое передаёт это стихотворение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Что такое гололедица? (Толковый словарь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ты считаешь, гололедица - это хорошо или плох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468360" y="18900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Чтение стихотворения учителем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Изменилось ли твоё мнение о настроении, которое передаёт это стихотворение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Что такое гололедица? (Толковый словарь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ты считаешь, гололедица - это хорошо или плох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Прочитай стихотворение от лица мальчишки , который катается по льду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2"/>
          <p:cNvSpPr/>
          <p:nvPr/>
        </p:nvSpPr>
        <p:spPr>
          <a:xfrm>
            <a:off x="468360" y="189000"/>
            <a:ext cx="828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Чтение стихотворения учителем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Изменилось ли твоё мнение о настроении, которое передаёт это стихотворение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Что такое гололедица? (Толковый словарь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ты считаешь, гололедица - это хорошо или плох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Прочитай стихотворение от лица мальчишки , который катается по льду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лица старенькой бабушки, которая идёт по дороге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468360" y="189000"/>
            <a:ext cx="828036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Чтение стихотворения учителем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Изменилось ли твоё мнение о настроении, которое передаёт это стихотворение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Что такое гололедица? (Толковый словарь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ты считаешь, гололедица - это хорошо или плох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Прочитай стихотворение от лица мальчишки , который катается по льду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лица старенькой бабушки, которая идёт по дороге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чувствует себя человек упавший на дороге? Как бы поступила ты, если бы оказалась рядом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39640" y="33336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ить хорошую языковую среду для учащихся: восприятие речи взрослых, чтение книг, слушание радио и т. д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ить создание речевых ситуаций, определяющих мотивацию собственной речи учащихся, развивать их интересы, потребности и возможности самостоятельной реч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ить правильное усвоение учащимися достаточного лексического запаса, грамматических форм, синтаксических конструкций, логических связей, активизировать употребление слов, образование форм, построение конструкций, обеспечить формирование конкретных умений в области развития реч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сти постоянную специальную работу по развитию речи .связывая её с уроками чтения, русского языка, ознакомления с окружающим миром, природоведения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468360" y="189000"/>
            <a:ext cx="8280360" cy="86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4. Работа над стихотворением В. Берестова « Гололедица»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Чтение стихотворения учителем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Изменилось ли твоё мнение о настроении, которое передаёт это стихотворение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Что такое гололедица? (Толковый словарь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ты считаешь, гололедица - это хорошо или плох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Прочитай стихотворение от лица мальчишки , который катается по льду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лица старенькой бабушки, которая идёт по дороге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чувствует себя человек упавший на дороге? Как бы поступила ты, если бы оказалась рядом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ему во время гололедицы особенно опасно перебегать дорогу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755640" y="189000"/>
            <a:ext cx="770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ФИЗКУЛЬТМИНУТКА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Проводится на массажном коврике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лнце землю греет слабо,(руки вверх и вниз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ночам трещит мороз, (обхват туловища руками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 дворе у снежной Бабы (руки на пояс, поворот вокруг себя) Побелел морковный нос. (наклоны головы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чке стала вдруг вода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вижна и тверда,( прыжки на месте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ьюга злится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ег кружится , (кружится на месте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тает всё кругом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оснежным серебром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имитирует движение руками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4284720" y="3889440"/>
            <a:ext cx="2046240" cy="27306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" descr=""/>
          <p:cNvPicPr/>
          <p:nvPr/>
        </p:nvPicPr>
        <p:blipFill>
          <a:blip r:embed="rId2"/>
          <a:stretch/>
        </p:blipFill>
        <p:spPr>
          <a:xfrm>
            <a:off x="6751800" y="3889440"/>
            <a:ext cx="20476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468360" y="189000"/>
            <a:ext cx="828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. Работа над стихотворением В. Орлова « Никто не обижается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2" name="Рисунок 2" descr="orlov"/>
          <p:cNvPicPr/>
          <p:nvPr/>
        </p:nvPicPr>
        <p:blipFill>
          <a:blip r:embed="rId1"/>
          <a:stretch/>
        </p:blipFill>
        <p:spPr>
          <a:xfrm>
            <a:off x="3203640" y="1628640"/>
            <a:ext cx="2592360" cy="381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468360" y="189000"/>
            <a:ext cx="8280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468360" y="189000"/>
            <a:ext cx="828036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. Работа над стихотворением В. Орлова « Никто не обижается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предварительная работа над словами: орфографическое чтение по слогам и орфоэпическое- целым словом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-НЫ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В-ЧОН-КАМ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-ДОХ-НУ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-ВЕСТ-НЫХ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- ПУШ - К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УТ-БО-ЛИС-ТОВ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О-ЛЕТ-НЮ-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-СЛ У-ЖЕ Н-НЫ 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-ТИС-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-МИ-ЛИ-ЦИ-Ю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-ЖА-ЕТ-С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-БИ-ЖА-ЕТ-С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324000" y="189000"/>
            <a:ext cx="8424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468360" y="189000"/>
            <a:ext cx="828036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. Работа над стихотворением В. Орлова « Никто не обижается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предварительная работа над словами: орфографическое чтение по слогам и орфоэпическое- целым словом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-НЫ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В-ЧОН-КАМ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-ДОХ-НУ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-ВЕСТ-НЫХ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- ПУШ - К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УТ-БО-ЛИС-ТОВ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О-ЛЕТ-НЮ-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-СЛ У-ЖЕ Н-НЫ 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-ТИС-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-МИ-ЛИ-ЦИ-Ю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-ЖА-ЕТ-С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-БИ-ЖА-ЕТ-С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объяснение смыслового значения непонятных сл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468360" y="189000"/>
            <a:ext cx="8280360" cy="69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Можно ли по этим словам узнать о чём это стихотворение? (Нет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468360" y="189000"/>
            <a:ext cx="828036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. Работа над стихотворением В. Орлова « Никто не обижается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предварительная работа над словами: орфографическое чтение по слогам и орфоэпическое- целым словом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-НЫ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В-ЧОН-КАМ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-ДОХ-НУ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-ВЕСТ-НЫХ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- ПУШ - К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УТ-БО-ЛИС-ТОВ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О-ЛЕТ-НЮ-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-СЛ У-ЖЕ Н-НЫ 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-ТИС-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-МИ-ЛИ-ЦИ-Ю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-ЖА-ЕТ-С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-БИ-ЖА-ЕТ-С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объяснение смыслового значения непонятных сл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468360" y="189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. Работа над стихотворением В. Орлова « Никто не обижается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468360" y="18900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Тогда послушай его. Представляй то, что слышиш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итает учитель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468360" y="189000"/>
            <a:ext cx="8280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. Работа над стихотворением В. Орлова « Никто не обижается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Тогда послушай его. Представляй то, что слышиш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итает учитель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) Ответы на вопросы к тексту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е снежинки по форме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мотри и потрогай вырезанные снежинки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лько у них лучей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общение сведений о снежинках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468360" y="189000"/>
            <a:ext cx="8280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. Работа над стихотворением В. Орлова « Никто не обижается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ка к выразительному чтению стихотворения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спомни , когда при чтении делаем паузы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Когда делаем длинную паузу, когда короткую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468360" y="189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. Работа над стихотворением В. Орлова « Никто не обижается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ка к выразительному чтению стихотворения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спомни , когда при чтении делаем паузы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Когда делаем длинную паузу, когда короткую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) Чтение стихотворения ученицей про себя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) Повторное  чтение вслух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301680" y="627120"/>
            <a:ext cx="849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БОСНОВАНИЕ ВЫБОРА ТЕМ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им из показателей уровня культуры человека, его мышления является речь. Считается, что речь- это канал развития интелл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я с детьми, испытывающими трудности в обучении, я заметила, что у большинства моих учеников недостаточно сформированы компоненты речевой деятельности, касающиеся звуковой и лексико-грамматической стороны речи. При работе с такими детьми необходимо проводить специальную коррекционную, индивидуальную работу. И чем раньше мы начнём такую работу, тем быстрее получим желаемый результат, т. к. дети младшего школьного возраста ещё обладают особыми способностями к восприятию речи и уже готовы к овладению различными разновидностями связной реч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468360" y="189000"/>
            <a:ext cx="828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5. Работа над стихотворением В. Орлова « Никто не обижается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ка к выразительному чтению стихотворения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спомни , когда при чтении делаем паузы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Когда делаем длинную паузу, когда короткую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) Чтение стихотворения ученицей про себя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) Повторное  чтение вслух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Прочитай последнюю строчку стихотворения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чему никто не обижается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А тебе нравится зима? Почему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468360" y="18900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тог урок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е стихотворение тебе показалось наиболее интересным? Кому ты прочитаешь ег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468360" y="189000"/>
            <a:ext cx="8280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Д УРОКА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тог урок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е стихотворение тебе показалось наиболее интересным? Кому ты прочитаешь его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7.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Домашнее задание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читать стихотворение так, чтобы слушающему было интересно, чтобы он понял твои чувств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301680" y="62712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БОСНОВАНИЕ ВЫБОРА ТЕМ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им из показателей уровня культуры человека, его мышления является речь. Считается, что речь- это канал развития интелл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я с детьми, испытывающими трудности в обучении, я заметила, что у большинства моих учеников недостаточно сформированы компоненты речевой деятельности, касающиеся звуковой и лексико-грамматической стороны речи. При работе с такими детьми необходимо проводить специальную коррекционную, индивидуальную работу. И чем раньше мы начнём такую работу, тем быстрее получим желаемый результат, т. к. дети младшего школьного возраста ещё обладают особыми способностями к восприятию речи и уже готовы к овладению различными разновидностями связной реч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ВЫВОД: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ходя из вышеизложенного, следует, что работу по развитию устной речи необходимо целенаправленно и систематически проводить </a:t>
            </a:r>
            <a:r>
              <a:rPr b="1" i="1" lang="ru-RU" sz="1800" spc="-1" strike="noStrike">
                <a:solidFill>
                  <a:srgbClr val="00b0f0"/>
                </a:solidFill>
                <a:latin typeface="Times New Roman"/>
              </a:rPr>
              <a:t>именно</a:t>
            </a:r>
            <a:r>
              <a:rPr b="1" i="1" lang="ru-RU" sz="1800" spc="-1" strike="noStrike">
                <a:solidFill>
                  <a:srgbClr val="b2a6d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ачальных классах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301680" y="627120"/>
            <a:ext cx="849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БОСНОВАНИЕ ВЫБОРА ТЕМ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им из показателей уровня культуры человека, его мышления является речь. Считается, что речь- это канал развития интеллекта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ая с детьми, испытывающими трудности в обучении, я заметила, что у большинства моих учеников недостаточно сформированы компоненты речевой деятельности, касающиеся звуковой и лексико-грамматической стороны речи. При работе с такими детьми необходимо проводить специальную коррекционную, индивидуальную работу. И чем раньше мы начнём такую работу, тем быстрее получим желаемый результат, т. к. дети младшего школьного возраста ещё обладают особыми способностями к восприятию речи и уже готовы к овладению различными разновидностями связной речи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ВЫВОД: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ходя из вышеизложенного, следует, что работу по развитию устной речи необходимо целенаправленно и систематически проводить </a:t>
            </a:r>
            <a:r>
              <a:rPr b="1" i="1" lang="ru-RU" sz="1800" spc="-1" strike="noStrike">
                <a:solidFill>
                  <a:srgbClr val="00b0f0"/>
                </a:solidFill>
                <a:latin typeface="Times New Roman"/>
              </a:rPr>
              <a:t>именно</a:t>
            </a:r>
            <a:r>
              <a:rPr b="1" i="1" lang="ru-RU" sz="1800" spc="-1" strike="noStrike">
                <a:solidFill>
                  <a:srgbClr val="b2a6d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ачальных классах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икает </a:t>
            </a:r>
            <a:r>
              <a:rPr b="0" lang="ru-RU" sz="1800" spc="-1" strike="noStrike">
                <a:solidFill>
                  <a:srgbClr val="382971"/>
                </a:solidFill>
                <a:latin typeface="Times New Roman"/>
              </a:rPr>
              <a:t>ПРОБЛЕМА</a:t>
            </a:r>
            <a:r>
              <a:rPr b="0" lang="ru-RU" sz="1800" spc="-1" strike="noStrike">
                <a:solidFill>
                  <a:srgbClr val="b2a6df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как развить устную речь ребёнка? Для этого учителю необходимо разработать систему упражнений и целенаправленно применять её на практике, с учётом уровня развития речи детей и их индивидуальных особенностей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9:27:51Z</dcterms:created>
  <dc:creator>ВЕРА</dc:creator>
  <dc:description/>
  <dc:language>en-US</dc:language>
  <cp:lastModifiedBy>Administrator</cp:lastModifiedBy>
  <dcterms:modified xsi:type="dcterms:W3CDTF">2011-12-03T09:09:27Z</dcterms:modified>
  <cp:revision>33</cp:revision>
  <dc:subject/>
  <dc:title>Презентация PowerPoint</dc:title>
</cp:coreProperties>
</file>